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A97BB-2251-4BEE-A43F-D7D221393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916-7D26-4494-8718-101FF811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C7D-7588-4E86-BD6A-72AC8226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D3C-1E39-4F03-AFAB-66F2D1B2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EE2-0F37-4372-A158-6704F3E0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801-8124-44BF-9BC7-23C9579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4D1-85AB-401A-AC4F-49FBAD9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C8-CACE-4C8B-8A90-B8AC3C9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F98-3F5D-4F79-A871-231A55C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193-36DF-4B61-B790-4E101D1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78C-8579-4F85-8337-D053839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FD0-F0D2-4B67-B6E8-77B4E58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A4A-8A8D-41D2-8DE7-0C821E3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BB902-1B4C-462B-A7AC-A6AED13DDB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nkowski.de/eshop/Fest-und-Abendmode/Plastron-Einstecktuch/Wilvorst-Plastron-mit-Einstecktuch-Creme-mit-floralem-Muster-38169.html?color_filter=0&amp;logo_filter=0&amp;from=29270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3sat.de/3sat.php?http://www.3sat.de/nano/news/37282/index.html" TargetMode="External"/><Relationship Id="rId2" Type="http://schemas.openxmlformats.org/officeDocument/2006/relationships/hyperlink" Target="http://science.orf.at/science/news/65686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odiva.de/" TargetMode="External"/><Relationship Id="rId2" Type="http://schemas.openxmlformats.org/officeDocument/2006/relationships/hyperlink" Target="http://plone.schule-bw.de/unterricht/faecher/biologie/projekt/bach" TargetMode="External"/><Relationship Id="rId3" Type="http://schemas.openxmlformats.org/officeDocument/2006/relationships/hyperlink" Target="http://plone.schule-bw.de/unterricht/faecher/biologie/projekt/aquarium" TargetMode="External"/><Relationship Id="rId4" Type="http://schemas.openxmlformats.org/officeDocument/2006/relationships/hyperlink" Target="http://plone.schule-bw.de/unterricht/faecher/biologie/medik/exp/mobi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1440000"/>
            <a:ext cx="8712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m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n aquatischen Inse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556000"/>
            <a:ext cx="252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racheen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5184720"/>
            <a:ext cx="1620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utzu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11640" y="6191280"/>
            <a:ext cx="4429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 in Wasser gelösten Saue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91280"/>
            <a:ext cx="2700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 Luftsaue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702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31640" y="3095640"/>
            <a:ext cx="4319640" cy="988920"/>
            <a:chOff x="431640" y="3095640"/>
            <a:chExt cx="4319640" cy="988920"/>
          </a:xfrm>
        </p:grpSpPr>
        <p:sp>
          <p:nvSpPr>
            <p:cNvPr id="56" name=""/>
            <p:cNvSpPr/>
            <p:nvPr/>
          </p:nvSpPr>
          <p:spPr>
            <a:xfrm>
              <a:off x="431640" y="3708360"/>
              <a:ext cx="4319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it Öffnungen nach auß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336760" y="3095640"/>
              <a:ext cx="1806480" cy="5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27640" y="3095640"/>
            <a:ext cx="3492360" cy="1060560"/>
            <a:chOff x="5327640" y="3095640"/>
            <a:chExt cx="3492360" cy="1060560"/>
          </a:xfrm>
        </p:grpSpPr>
        <p:sp>
          <p:nvSpPr>
            <p:cNvPr id="59" name=""/>
            <p:cNvSpPr/>
            <p:nvPr/>
          </p:nvSpPr>
          <p:spPr>
            <a:xfrm>
              <a:off x="5327640" y="3780000"/>
              <a:ext cx="34923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ch außen abgeschloss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0000" y="3095640"/>
              <a:ext cx="1260360" cy="5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236760" y="5580000"/>
            <a:ext cx="14464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00720" y="5580000"/>
            <a:ext cx="90000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1640" y="496800"/>
            <a:ext cx="2838600" cy="295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4280" y="503280"/>
            <a:ext cx="28479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153684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400880" y="1560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000000">
            <a:off x="3237480" y="3808800"/>
            <a:ext cx="181080" cy="1620720"/>
          </a:xfrm>
          <a:prstGeom prst="downArrow">
            <a:avLst>
              <a:gd name="adj1" fmla="val 50000"/>
              <a:gd name="adj2" fmla="val 2237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324000"/>
            <a:ext cx="8712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nes Tracheensystem - Luftsauerst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289160"/>
            <a:ext cx="3405240" cy="252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05160" y="4237200"/>
            <a:ext cx="5983200" cy="1595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360" y="2519280"/>
            <a:ext cx="396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serskorpion – Nepa cine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003640"/>
            <a:ext cx="1800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tbiene - Eris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6588000"/>
            <a:ext cx="612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endenziell gefährlich: Verdrift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0360" y="2016000"/>
            <a:ext cx="36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wachsenes Ins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284720"/>
            <a:ext cx="18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324000"/>
            <a:ext cx="8712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nes Tracheensystem - Luftsauerst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052720"/>
            <a:ext cx="450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wachsene Ins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0" y="2771640"/>
            <a:ext cx="4319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hwimmkä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Gefleckter Schnellschwi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4880" y="1030320"/>
            <a:ext cx="3556080" cy="276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8400" y="4132440"/>
            <a:ext cx="3556080" cy="271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5832360"/>
            <a:ext cx="1728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pfkä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075280"/>
            <a:ext cx="126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nes Tracheensystem – gelöster Sauer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0720" y="11160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35640" y="2160720"/>
            <a:ext cx="48607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hilfkäf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wei lange Dornen am letzt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Hinterleibs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ft aus Luftgefäßen v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Wasser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1476360"/>
            <a:ext cx="3024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nes Tracheensystem – gelöster Sauer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971640"/>
            <a:ext cx="4319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s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lastron bei Bankowski.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- zum Cut oder zum Reit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4720" y="2303640"/>
            <a:ext cx="39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s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Inkompressible Gask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4248000"/>
            <a:ext cx="3960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ziell gestaltet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Lamellenmuster be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Zweiflüglerpuppen: Lidmücke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Schnaken, Kriebelm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4720" y="4211640"/>
            <a:ext cx="39607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t feinen, wasserabweisenden Haar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uch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kenkä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384720"/>
            <a:ext cx="396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erfläche des Kör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38920" y="4894200"/>
            <a:ext cx="2306520" cy="194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19640" y="3240000"/>
            <a:ext cx="539640" cy="1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96760" y="3780000"/>
            <a:ext cx="144612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3780000"/>
            <a:ext cx="9000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schlossenes Tracheen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96000" y="1152360"/>
            <a:ext cx="355572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3600" y="116676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4176720"/>
            <a:ext cx="306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cheenki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6720" y="4859280"/>
            <a:ext cx="302436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tingebilde an der Körperoberfläche mit großer Oberflä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3640" y="6048360"/>
            <a:ext cx="5040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 Hinterlei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ven von Eintagsfliegen und von Köcherf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284720"/>
            <a:ext cx="4319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 Brustsegmenten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che) Larven von Steinf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5435640"/>
            <a:ext cx="4319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r an den letzten Hinterleibssegment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ven des Hakenkä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dominale Schläuche bei Zuckmückenla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5680" y="5759280"/>
            <a:ext cx="3668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0720" y="4676400"/>
            <a:ext cx="720720" cy="546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9640" y="5580000"/>
            <a:ext cx="900000" cy="17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uere Fors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995640"/>
            <a:ext cx="234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ä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4535640"/>
            <a:ext cx="306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uckmückenla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184720"/>
            <a:ext cx="576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wachsene Fruchtfliegen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niversität Mai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16000"/>
            <a:ext cx="27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embewe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1908000"/>
            <a:ext cx="810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äfer, Grillen, Ameisen, Schmetterling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cienc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05200" y="2476440"/>
            <a:ext cx="4686480" cy="127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76840" y="4821120"/>
            <a:ext cx="274320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720" y="539640"/>
            <a:ext cx="864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hang 1: Mobil messen: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720" y="1619280"/>
            <a:ext cx="8640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ektenlarven mit Tracheenki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hängigkeit der Atembewegung vom Sauerstoffgehalt des Was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3816360"/>
            <a:ext cx="4319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sung des Sauerstoffgeh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500720"/>
            <a:ext cx="4140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ace Vernier Lab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5075280"/>
            <a:ext cx="378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fischer Taschenrech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6400" y="271764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0720" y="539640"/>
            <a:ext cx="864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hang 2: Internetadr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1440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d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biodiv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2376360"/>
            <a:ext cx="8640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Ökosystem B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lone.schule-bw.de/unterricht/faecher/biologie/projekt/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3456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twasseraqu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lone.schule-bw.de/unterricht/faecher/biologie/projekt/aqu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4572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 messen –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plone.schule-bw.de/unterricht/faecher/biologie/medik/exp/mobi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