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6AA-B13E-4B48-ADF5-85A0DA14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01A-6AE4-43FF-97FC-5421A13B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B5A-2EFD-48EC-87C0-AE760288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157-3B79-4117-A2D0-E8073CF2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9F9-5F13-4B12-BB70-D6F44E1F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706-5FBC-42AD-AD8F-F1BF6FE4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9D5-7117-4603-99D4-893B74DD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B11-65F4-45B5-A44C-696E8D15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BEC-173F-45A0-96BA-D7A6E162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ED6-343A-4F36-ABAE-E86D96A0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E54-4AAA-4A4D-A08D-33E225E6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1EE-616F-4597-8F12-2A0F1F47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9FC38-3CEA-4364-B796-5EC113C8EA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hule-bw.de/unterricht/faecher/biologie/projekte/natura2000/gdi/index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39640"/>
            <a:ext cx="882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nzugsgebiet eines Fließgewäs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187280"/>
            <a:ext cx="88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au: 817 000 km2, Rhein: 252 000 km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ckar: 14 000 km², Goldersbach: 72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68280" y="2160720"/>
            <a:ext cx="719136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08480" y="23400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539640"/>
            <a:ext cx="864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ografisches Informationssystem - 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1079640"/>
            <a:ext cx="882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V Spatial Commander: http://www.gdv-software.com/faq/index.ph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2160720"/>
            <a:ext cx="8820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4967280"/>
            <a:ext cx="19796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rtenaus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hnit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6308640"/>
            <a:ext cx="8640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ographische Karte 1 : 25 000 laden: 350_5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a sichtbar machen, Zoomen auf Kartenausschn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5040" y="1560600"/>
            <a:ext cx="6886800" cy="46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0720" y="824040"/>
            <a:ext cx="9001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Thema hinzufügen: Einzugsbereich der Tellerkl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gon durch Setzen von Punkten entlang der Wasserscheide setzen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bschließen durch Doppelk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Eigenschaften/Symbolik/Einstellungen/Transparenz ein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Attributtabelle: Fläche ab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360360"/>
            <a:ext cx="4278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nzugsgebiet vermesse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5040360"/>
            <a:ext cx="576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2880" y="2647800"/>
            <a:ext cx="6172200" cy="45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474840"/>
            <a:ext cx="900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nzugsgebiet vermessen 2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Einzugsgebiet des Kleinen Goldersb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622840"/>
            <a:ext cx="8820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Grenzpunkte der Wasserscheide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Höhenlinien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6480000"/>
            <a:ext cx="88200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Polygon anhand der Grenzpunkte zei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37040" y="1425600"/>
            <a:ext cx="5503680" cy="39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0720" y="539640"/>
            <a:ext cx="8820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nzpunkte der Wasserscheide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Höhenlinien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436760"/>
            <a:ext cx="792000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en hinzufügen: CD-ROM/Höhen/Höhenlinien.s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a sichtbar machen: in Themenliste an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rbeiten/Editiermodus ein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iel: Grenzpunk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us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nzpunkt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igenschaften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ymbolik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unkte: rot und gro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94040" y="2579760"/>
            <a:ext cx="557208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720" y="720720"/>
            <a:ext cx="864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ygo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Grenzpunkte zei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1619280"/>
            <a:ext cx="86407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Thema hinzufügen: Einzugs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Polygon anhand vorgegebener Geometrien nach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rbeiten: Punktfang/Einstellungen: Punkte von Grenzpunkte und Einzugsbereich an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gon durch Setzen von Punkten zeichnen, abschließen durch Doppelk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Eigenschaften/Symbolik/Einstellungen/Transparenz ein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Attributtabelle: Fläche ab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81600" y="4367160"/>
            <a:ext cx="3506760" cy="26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20720" y="539640"/>
            <a:ext cx="864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rtieren mit de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f dem Landesbildungs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6659640"/>
            <a:ext cx="8640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chule-bw.de/unterricht/faecher/biologie/projekte/natura2000/gdi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7800" y="1547640"/>
            <a:ext cx="79722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