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C26-A94F-4A8F-A534-55784E11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3F9-5E99-4791-A917-18034CAC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D73-DE03-4468-A4D1-6AE0AF99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5C5-FD7C-4997-944A-A52277E1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463-D432-4E85-B898-2C8807D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D87-C2BB-4B26-8D54-0E20F82E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0A2-7F13-42E1-8769-CE5D39C2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CAD-3566-4174-820F-27F773B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67B-E0B1-4E58-A29D-335951F0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25D-1BDB-4214-BEDF-248F39D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514-AD47-4CBD-990E-9380E32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DAC-FF44-4791-8B23-057A9BB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7FCB3-1AEF-4755-B810-6AA063ED2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ule-bw.de/unterricht/faecher/biologie/projekte/natura2000/gdi/index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39640"/>
            <a:ext cx="882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nzugsgebiet eines Fließgewäs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18728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au: 817 000 km2, Rhein: 252 000 km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ckar: 14 000 km², Goldersbach: 72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68280" y="2160720"/>
            <a:ext cx="719136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08480" y="234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539640"/>
            <a:ext cx="864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fisches Informationssystem - 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1079640"/>
            <a:ext cx="882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V Spatial Commander: http://www.gdv-software.com/faq/index.ph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2160720"/>
            <a:ext cx="8820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4967280"/>
            <a:ext cx="1979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enaus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nit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6308640"/>
            <a:ext cx="8640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ographische Karte 1 : 25 000 laden: 350_5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, Zoomen auf Kartenausschn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1560600"/>
            <a:ext cx="6886800" cy="46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0720" y="824040"/>
            <a:ext cx="9001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 der Tellerk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entlang der Wasserscheide setzen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60360"/>
            <a:ext cx="427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040360"/>
            <a:ext cx="576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2880" y="2647800"/>
            <a:ext cx="617220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474840"/>
            <a:ext cx="90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2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Einzugsgebiet des Kleinen Golders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6228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6480000"/>
            <a:ext cx="8820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Polygon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7040" y="1425600"/>
            <a:ext cx="550368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720" y="5396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436760"/>
            <a:ext cx="792000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en hinzufügen: CD-ROM/Höhen/Höhenlinien.s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: in Themenliste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/Editiermodus ein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iel: Grenzpunk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nzpunkt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igenschaften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ymbolik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unkte: rot und gro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94040" y="2579760"/>
            <a:ext cx="557208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72072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g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1619280"/>
            <a:ext cx="8640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Polygon anhand vorgegebener Geometrien nach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: Punktfang/Einstellungen: Punkte von Grenzpunkte und Einzugsbereich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zeichnen,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81600" y="4367160"/>
            <a:ext cx="3506760" cy="26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20720" y="53964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ieren mit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f dem Landesbildungs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659640"/>
            <a:ext cx="864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chule-bw.de/unterricht/faecher/biologie/projekte/natura2000/gdi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7800" y="1547640"/>
            <a:ext cx="79722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