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350-9649-4C7E-88A1-45AFD17B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22B-90BC-41EF-A2D9-7B13A93B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69C-4F9A-46C5-8970-1EEB425C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CF8-2E58-469F-9EC0-E577F238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CCC-B49F-4953-AFC6-C38F5718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AF7-102B-4BCE-989F-9C906D35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804-6E37-4F22-BC1D-C000AB9A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2C3-0E10-4798-9CC8-4051BD88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ADE-ED70-4ACE-B255-4DB2670D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8B3-8D99-4C27-9B7B-1F452EF0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02B-402B-45E0-88DE-581AED3A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A04-F130-42BC-B0CB-2C0CD22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FFDF-5535-4470-850A-41263DA06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-Modelle%20von%20Lithium%20-%20Atom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3-Lithiumatom%20animie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Black"/>
              </a:rPr>
              <a:t>Lithium -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-Metallbindu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-Metallbindung%20animie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52Z</dcterms:created>
  <dc:creator>Peter Maisenbacher</dc:creator>
  <dc:description/>
  <dc:language>en-US</dc:language>
  <cp:lastModifiedBy>Peter Maisenbacher</cp:lastModifiedBy>
  <dcterms:modified xsi:type="dcterms:W3CDTF">2005-10-26T19:51:33Z</dcterms:modified>
  <cp:revision>2</cp:revision>
  <dc:subject/>
  <dc:title>PowerPoint-Präsentation</dc:title>
</cp:coreProperties>
</file>