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6364-BBBC-4943-8773-BF559E45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531F-2DE0-4216-A49C-FFB715BF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145A-A667-4166-BC71-6BFEFA3F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D687-5717-45BF-8C18-E040BED0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C38-2E66-42D9-865C-04485251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3217-7154-4417-9EDB-FD231730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0571-2B22-4E2F-82BB-0DD7E90F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3FBC-5AF6-4872-A09C-571F11CC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3BB7-2ED9-4AC0-B91C-0AC0765B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74DD-29E5-47B9-9618-053F4D18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B3CD-1814-49FE-AC38-E112A2C1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8683-5B27-4AE9-8FFA-64100669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4DFA-4314-4CCF-9C0A-E1A167778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e der Spielergebnisse durch den Spiellei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feld 4"/>
          <p:cNvSpPr/>
          <p:nvPr/>
        </p:nvSpPr>
        <p:spPr>
          <a:xfrm>
            <a:off x="0" y="6429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Markt, Marketing-Mix, Nachfrage, Absatz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it den Teilnehmerberich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- 11: Marktforschungsberic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- Executive Summary       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feld 5"/>
          <p:cNvSpPr/>
          <p:nvPr/>
        </p:nvSpPr>
        <p:spPr>
          <a:xfrm>
            <a:off x="0" y="42148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Deckungsbeitrag und Ebi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it dem Seminarleiterbericht Deckungsbeiträge und d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eilnehmerbericht 8: Deckungsbeitragsrechn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feld 6"/>
          <p:cNvSpPr/>
          <p:nvPr/>
        </p:nvSpPr>
        <p:spPr>
          <a:xfrm>
            <a:off x="0" y="53578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ilanzanalyse insbesondere auch Entwicklung des Fremdkapit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t dem Seminarleiterberichten V: Geschäftsberichte der Branch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 Seminarleiterbericht 7: Kennzahl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 dem Teilnehmerbericht 9: Finanzbericht und Bilan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7"/>
          <p:cNvSpPr/>
          <p:nvPr/>
        </p:nvSpPr>
        <p:spPr>
          <a:xfrm>
            <a:off x="0" y="17859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.     Auslastung der Produktionsfaktoren (Maschinen, Arbeiter, Materia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t dem Teilnehmerbericht 4 Flächenverwendung, Abschreibungen, Kapazitäte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 Seminarleiterbericht III: Interne Abläu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feld 8"/>
          <p:cNvSpPr/>
          <p:nvPr/>
        </p:nvSpPr>
        <p:spPr>
          <a:xfrm>
            <a:off x="0" y="30718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ostensitu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besondere Entwicklung der Herstellkosten mit den Teilnehmerbericht 7: Kostenträgerrechnung und d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minarleiterbericht 7: Kennzahle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7:06:17Z</dcterms:created>
  <dc:creator>aka</dc:creator>
  <dc:description/>
  <dc:language>en-US</dc:language>
  <cp:lastModifiedBy>EGS</cp:lastModifiedBy>
  <dcterms:modified xsi:type="dcterms:W3CDTF">2009-06-08T21:13:44Z</dcterms:modified>
  <cp:revision>11</cp:revision>
  <dc:subject/>
  <dc:title>Folie 1</dc:title>
</cp:coreProperties>
</file>