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860A-5081-43A6-828D-52F48034F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0D82-1121-41C6-98BE-CDC70BCC3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3BC5-A291-419A-85EE-BC7FC05CC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3C51-02EE-4E7F-9396-C202A6166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12F9-D41D-4F4C-9965-FBC9E785A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F717-2400-4D4A-A271-8A690221B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DEFB-EBE1-47A4-985D-528A82DE5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7086-FCA1-4B0B-B06C-D294E8BAA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C1D8-CD91-42DC-BB08-7974D36A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119E-94F8-4EBC-A108-E267F386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543B-1DDB-4C6D-B4D5-1A01B14F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6F0F-0E4A-4886-8818-5A8FA8FF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4705C-CAC8-4E1C-B676-FCD6FB6656F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hyperlink" Target="file://upload.wikimedia.org/wikipedia/commons/a/a9/Aufbau_eines_Lipoproteins.png" TargetMode="External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ettmolekül"/>
          <p:cNvPicPr/>
          <p:nvPr/>
        </p:nvPicPr>
        <p:blipFill>
          <a:blip r:embed="rId1"/>
          <a:stretch/>
        </p:blipFill>
        <p:spPr>
          <a:xfrm>
            <a:off x="324000" y="219240"/>
            <a:ext cx="1441440" cy="11397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fettsaeuren"/>
          <p:cNvPicPr/>
          <p:nvPr/>
        </p:nvPicPr>
        <p:blipFill>
          <a:blip r:embed="rId2"/>
          <a:stretch/>
        </p:blipFill>
        <p:spPr>
          <a:xfrm>
            <a:off x="1908000" y="198360"/>
            <a:ext cx="2808360" cy="1808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Fett"/>
          <p:cNvPicPr/>
          <p:nvPr/>
        </p:nvPicPr>
        <p:blipFill>
          <a:blip r:embed="rId3"/>
          <a:stretch/>
        </p:blipFill>
        <p:spPr>
          <a:xfrm>
            <a:off x="179280" y="2133720"/>
            <a:ext cx="3095640" cy="1733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Carotin"/>
          <p:cNvPicPr/>
          <p:nvPr/>
        </p:nvPicPr>
        <p:blipFill>
          <a:blip r:embed="rId4"/>
          <a:stretch/>
        </p:blipFill>
        <p:spPr>
          <a:xfrm>
            <a:off x="5867280" y="765000"/>
            <a:ext cx="3276720" cy="11113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7"/>
          <p:cNvSpPr/>
          <p:nvPr/>
        </p:nvSpPr>
        <p:spPr>
          <a:xfrm>
            <a:off x="6804000" y="404640"/>
            <a:ext cx="14400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rotino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250920" y="1433520"/>
            <a:ext cx="1577880" cy="671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ettmolekü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iglc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phospholipid"/>
          <p:cNvPicPr/>
          <p:nvPr/>
        </p:nvPicPr>
        <p:blipFill>
          <a:blip r:embed="rId5"/>
          <a:stretch/>
        </p:blipFill>
        <p:spPr>
          <a:xfrm>
            <a:off x="0" y="4076640"/>
            <a:ext cx="2136600" cy="2494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Cholesterin"/>
          <p:cNvPicPr/>
          <p:nvPr/>
        </p:nvPicPr>
        <p:blipFill>
          <a:blip r:embed="rId6"/>
          <a:stretch/>
        </p:blipFill>
        <p:spPr>
          <a:xfrm>
            <a:off x="2556000" y="5229360"/>
            <a:ext cx="1082520" cy="13413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1"/>
          <p:cNvSpPr/>
          <p:nvPr/>
        </p:nvSpPr>
        <p:spPr>
          <a:xfrm>
            <a:off x="1547640" y="3789360"/>
            <a:ext cx="1800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hospholip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2"/>
          <p:cNvSpPr/>
          <p:nvPr/>
        </p:nvSpPr>
        <p:spPr>
          <a:xfrm>
            <a:off x="3638520" y="5867280"/>
            <a:ext cx="1079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ero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3" descr="1membran2"/>
          <p:cNvPicPr/>
          <p:nvPr/>
        </p:nvPicPr>
        <p:blipFill>
          <a:blip r:embed="rId7"/>
          <a:stretch/>
        </p:blipFill>
        <p:spPr>
          <a:xfrm>
            <a:off x="2268360" y="4149720"/>
            <a:ext cx="1492560" cy="9698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4"/>
          <p:cNvSpPr/>
          <p:nvPr/>
        </p:nvSpPr>
        <p:spPr>
          <a:xfrm>
            <a:off x="3419640" y="3068640"/>
            <a:ext cx="115236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IP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9"/>
          <p:cNvSpPr/>
          <p:nvPr/>
        </p:nvSpPr>
        <p:spPr>
          <a:xfrm>
            <a:off x="4859280" y="3710160"/>
            <a:ext cx="15336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poprote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feld 1"/>
          <p:cNvSpPr/>
          <p:nvPr/>
        </p:nvSpPr>
        <p:spPr>
          <a:xfrm>
            <a:off x="8516880" y="646740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5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2" descr="File:Aufbau eines Lipoproteins.pn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464000" y="4118040"/>
            <a:ext cx="4572000" cy="1687320"/>
          </a:xfrm>
          <a:prstGeom prst="rect">
            <a:avLst/>
          </a:prstGeom>
          <a:ln w="0">
            <a:noFill/>
          </a:ln>
        </p:spPr>
      </p:pic>
      <p:sp>
        <p:nvSpPr>
          <p:cNvPr id="56" name="Rechteck 1"/>
          <p:cNvSpPr/>
          <p:nvPr/>
        </p:nvSpPr>
        <p:spPr>
          <a:xfrm>
            <a:off x="6700680" y="5805360"/>
            <a:ext cx="228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ww.commons.wikimedia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uppieren 5"/>
          <p:cNvGrpSpPr/>
          <p:nvPr/>
        </p:nvGrpSpPr>
        <p:grpSpPr>
          <a:xfrm>
            <a:off x="5366160" y="2230560"/>
            <a:ext cx="3150720" cy="1261440"/>
            <a:chOff x="5366160" y="2230560"/>
            <a:chExt cx="3150720" cy="1261440"/>
          </a:xfrm>
        </p:grpSpPr>
        <p:sp>
          <p:nvSpPr>
            <p:cNvPr id="58" name="Text Box 18"/>
            <p:cNvSpPr/>
            <p:nvPr/>
          </p:nvSpPr>
          <p:spPr>
            <a:xfrm>
              <a:off x="5366160" y="2863080"/>
              <a:ext cx="183132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Fettstoffwechs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feld 2"/>
            <p:cNvSpPr/>
            <p:nvPr/>
          </p:nvSpPr>
          <p:spPr>
            <a:xfrm>
              <a:off x="7183080" y="2230560"/>
              <a:ext cx="1333800" cy="641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Gallensäur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VLDL im Blu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ß-Oxid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hteck 4"/>
            <p:cNvSpPr/>
            <p:nvPr/>
          </p:nvSpPr>
          <p:spPr>
            <a:xfrm>
              <a:off x="7203240" y="3215520"/>
              <a:ext cx="981000" cy="27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Fettgeweb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31T17:42:39Z</dcterms:created>
  <dc:creator>Ackermann</dc:creator>
  <dc:description/>
  <dc:language>en-US</dc:language>
  <cp:lastModifiedBy>Ertelt, Ulrike (LS)</cp:lastModifiedBy>
  <dcterms:modified xsi:type="dcterms:W3CDTF">2014-05-26T09:24:22Z</dcterms:modified>
  <cp:revision>5</cp:revision>
  <dc:subject/>
  <dc:title>Folie 1</dc:title>
</cp:coreProperties>
</file>