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49D-C921-4C9C-9A5C-C964FCEC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E84-D242-4C37-B02F-7BA4D56E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042-640F-4162-8C0D-8C902506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862-0E78-4762-8479-F2AC0C89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BD8-B735-4D3F-BD86-C11F9A65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322-3793-418A-B392-AD84B6CF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D68-C811-4ABD-BFF6-94FF0069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BF9-2696-4B7B-A0EF-A7569C55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3CB-5EEC-4BF6-8A38-8906C858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65E0-FE00-41AB-9F5D-EF62B965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B859-4442-4364-8413-D71A1AB5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915F-73E1-4441-995C-9B4967FE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EF22-C34A-49E6-AF2F-22B5490455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hyperlink" Target="file://upload.wikimedia.org/wikipedia/commons/a/a9/Aufbau_eines_Lipoproteins.png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ettmolekül"/>
          <p:cNvPicPr/>
          <p:nvPr/>
        </p:nvPicPr>
        <p:blipFill>
          <a:blip r:embed="rId1"/>
          <a:stretch/>
        </p:blipFill>
        <p:spPr>
          <a:xfrm>
            <a:off x="324000" y="219240"/>
            <a:ext cx="1441440" cy="113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fettsaeuren"/>
          <p:cNvPicPr/>
          <p:nvPr/>
        </p:nvPicPr>
        <p:blipFill>
          <a:blip r:embed="rId2"/>
          <a:stretch/>
        </p:blipFill>
        <p:spPr>
          <a:xfrm>
            <a:off x="1908000" y="198360"/>
            <a:ext cx="2808360" cy="1808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ett"/>
          <p:cNvPicPr/>
          <p:nvPr/>
        </p:nvPicPr>
        <p:blipFill>
          <a:blip r:embed="rId3"/>
          <a:stretch/>
        </p:blipFill>
        <p:spPr>
          <a:xfrm>
            <a:off x="179280" y="2133720"/>
            <a:ext cx="3095640" cy="1733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arotin"/>
          <p:cNvPicPr/>
          <p:nvPr/>
        </p:nvPicPr>
        <p:blipFill>
          <a:blip r:embed="rId4"/>
          <a:stretch/>
        </p:blipFill>
        <p:spPr>
          <a:xfrm>
            <a:off x="5867280" y="765000"/>
            <a:ext cx="3276720" cy="1111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6804000" y="404640"/>
            <a:ext cx="1440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roti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250920" y="1433520"/>
            <a:ext cx="1577880" cy="671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ttmolekü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iglc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hospholipid"/>
          <p:cNvPicPr/>
          <p:nvPr/>
        </p:nvPicPr>
        <p:blipFill>
          <a:blip r:embed="rId5"/>
          <a:stretch/>
        </p:blipFill>
        <p:spPr>
          <a:xfrm>
            <a:off x="0" y="4076640"/>
            <a:ext cx="2136600" cy="2494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holesterin"/>
          <p:cNvPicPr/>
          <p:nvPr/>
        </p:nvPicPr>
        <p:blipFill>
          <a:blip r:embed="rId6"/>
          <a:stretch/>
        </p:blipFill>
        <p:spPr>
          <a:xfrm>
            <a:off x="2556000" y="5229360"/>
            <a:ext cx="1082520" cy="1341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547640" y="3789360"/>
            <a:ext cx="1800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hospholip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638520" y="5867280"/>
            <a:ext cx="1079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r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1membran2"/>
          <p:cNvPicPr/>
          <p:nvPr/>
        </p:nvPicPr>
        <p:blipFill>
          <a:blip r:embed="rId7"/>
          <a:stretch/>
        </p:blipFill>
        <p:spPr>
          <a:xfrm>
            <a:off x="2268360" y="4149720"/>
            <a:ext cx="1492560" cy="9698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3419640" y="3068640"/>
            <a:ext cx="11523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859280" y="3710160"/>
            <a:ext cx="1533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poprot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feld 1"/>
          <p:cNvSpPr/>
          <p:nvPr/>
        </p:nvSpPr>
        <p:spPr>
          <a:xfrm>
            <a:off x="8516880" y="64674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5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2" descr="File:Aufbau eines Lipoproteins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464000" y="4118040"/>
            <a:ext cx="4572000" cy="1687320"/>
          </a:xfrm>
          <a:prstGeom prst="rect">
            <a:avLst/>
          </a:prstGeom>
          <a:ln w="0">
            <a:noFill/>
          </a:ln>
        </p:spPr>
      </p:pic>
      <p:sp>
        <p:nvSpPr>
          <p:cNvPr id="56" name="Rechteck 1"/>
          <p:cNvSpPr/>
          <p:nvPr/>
        </p:nvSpPr>
        <p:spPr>
          <a:xfrm>
            <a:off x="6700680" y="580536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ww.commons.wikimedia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uppieren 5"/>
          <p:cNvGrpSpPr/>
          <p:nvPr/>
        </p:nvGrpSpPr>
        <p:grpSpPr>
          <a:xfrm>
            <a:off x="5366160" y="2230560"/>
            <a:ext cx="3150720" cy="1261440"/>
            <a:chOff x="5366160" y="2230560"/>
            <a:chExt cx="3150720" cy="1261440"/>
          </a:xfrm>
        </p:grpSpPr>
        <p:sp>
          <p:nvSpPr>
            <p:cNvPr id="58" name="Text Box 18"/>
            <p:cNvSpPr/>
            <p:nvPr/>
          </p:nvSpPr>
          <p:spPr>
            <a:xfrm>
              <a:off x="5366160" y="2863080"/>
              <a:ext cx="183132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ettstoffwechs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feld 2"/>
            <p:cNvSpPr/>
            <p:nvPr/>
          </p:nvSpPr>
          <p:spPr>
            <a:xfrm>
              <a:off x="7183080" y="2230560"/>
              <a:ext cx="1333800" cy="64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allensäur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LDL im Bl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ß-Oxi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hteck 4"/>
            <p:cNvSpPr/>
            <p:nvPr/>
          </p:nvSpPr>
          <p:spPr>
            <a:xfrm>
              <a:off x="7203240" y="3215520"/>
              <a:ext cx="9810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Fettgewe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7:42:39Z</dcterms:created>
  <dc:creator>Ackermann</dc:creator>
  <dc:description/>
  <dc:language>en-US</dc:language>
  <cp:lastModifiedBy>Ertelt, Ulrike (LS)</cp:lastModifiedBy>
  <dcterms:modified xsi:type="dcterms:W3CDTF">2014-05-26T09:24:22Z</dcterms:modified>
  <cp:revision>5</cp:revision>
  <dc:subject/>
  <dc:title>Folie 1</dc:title>
</cp:coreProperties>
</file>