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1.png" ContentType="image/png"/>
  <Override PartName="/ppt/media/image29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media/image6.jpeg" ContentType="image/jpeg"/>
  <Override PartName="/ppt/media/image28.wmf" ContentType="image/x-wmf"/>
  <Override PartName="/ppt/media/image10.jpeg" ContentType="image/jpeg"/>
  <Override PartName="/ppt/media/image9.wmf" ContentType="image/x-wmf"/>
  <Override PartName="/ppt/media/image5.jpeg" ContentType="image/jpeg"/>
  <Override PartName="/ppt/media/image18.wmf" ContentType="image/x-wmf"/>
  <Override PartName="/ppt/media/image13.jpeg" ContentType="image/jpeg"/>
  <Override PartName="/ppt/media/image4.png" ContentType="image/png"/>
  <Override PartName="/ppt/media/image3.png" ContentType="image/png"/>
  <Override PartName="/ppt/media/image27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0.png" ContentType="image/png"/>
  <Override PartName="/ppt/media/image19.png" ContentType="image/png"/>
  <Override PartName="/ppt/media/image1.png" ContentType="image/png"/>
  <Override PartName="/ppt/media/image17.wmf" ContentType="image/x-wmf"/>
  <Override PartName="/ppt/media/image2.jpeg" ContentType="image/jpeg"/>
  <Override PartName="/ppt/media/image2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6643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663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77352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864720" y="740880"/>
            <a:ext cx="49323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move the slid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887400" y="4687560"/>
            <a:ext cx="4888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773520" y="9370800"/>
            <a:ext cx="2889360" cy="495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2F5916F-8297-4A98-81A1-7B9BFC8C7701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866880" y="739800"/>
            <a:ext cx="4933800" cy="370044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888480" y="4687560"/>
            <a:ext cx="4884840" cy="4438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... Die nicht immer gegeben ist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5576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19920" y="198396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29160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5576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19920" y="4470120"/>
            <a:ext cx="27273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91960" y="1028880"/>
            <a:ext cx="725184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2480" y="447012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2480" y="1983960"/>
            <a:ext cx="41338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91600" y="4470120"/>
            <a:ext cx="847116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-3240"/>
          <a:ext cx="9144000" cy="686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3240"/>
                    <a:ext cx="9144000" cy="68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270080" indent="-22860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89120" indent="-228600">
              <a:spcBef>
                <a:spcPts val="601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108160" indent="-228600">
              <a:spcBef>
                <a:spcPts val="601"/>
              </a:spcBef>
              <a:buClr>
                <a:srgbClr val="ff99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5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6" marL="2108160" indent="-228600">
              <a:spcBef>
                <a:spcPts val="601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"/>
          <p:cNvSpPr/>
          <p:nvPr/>
        </p:nvSpPr>
        <p:spPr>
          <a:xfrm>
            <a:off x="216000" y="1305000"/>
            <a:ext cx="0" cy="60948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39680" y="1841400"/>
            <a:ext cx="8623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058760" y="0"/>
            <a:ext cx="73310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7702560" y="947880"/>
            <a:ext cx="954000" cy="795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Verdana"/>
              </a:rPr>
              <a:t>Click to edit the title text form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555480" y="3035160"/>
            <a:ext cx="0" cy="60984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9520" y="3571920"/>
            <a:ext cx="7975440" cy="0"/>
          </a:xfrm>
          <a:prstGeom prst="line">
            <a:avLst/>
          </a:prstGeom>
          <a:ln w="1908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914400" indent="127080" algn="ctr"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88920" algn="ctr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50760" algn="ctr">
              <a:spcBef>
                <a:spcPts val="499"/>
              </a:spcBef>
              <a:buClr>
                <a:srgbClr val="ff9900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5076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32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Stunde der Buchhalt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73200" y="3885840"/>
            <a:ext cx="7772400" cy="28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Herzlich Willkommen zur Unternehmenssimulation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OPSIM - DEL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6149880" y="5546880"/>
            <a:ext cx="1949400" cy="5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ment in harten Zei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332000" y="1914480"/>
            <a:ext cx="6330600" cy="4878000"/>
            <a:chOff x="1332000" y="1914480"/>
            <a:chExt cx="6330600" cy="4878000"/>
          </a:xfrm>
        </p:grpSpPr>
        <p:graphicFrame>
          <p:nvGraphicFramePr>
            <p:cNvPr id="189" name=""/>
            <p:cNvGraphicFramePr/>
            <p:nvPr/>
          </p:nvGraphicFramePr>
          <p:xfrm>
            <a:off x="1332000" y="1914480"/>
            <a:ext cx="6330600" cy="487800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1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32000" y="1914480"/>
                      <a:ext cx="6330600" cy="487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1" name=""/>
            <p:cNvSpPr/>
            <p:nvPr/>
          </p:nvSpPr>
          <p:spPr>
            <a:xfrm>
              <a:off x="2901600" y="2605680"/>
              <a:ext cx="4492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124160" y="2241360"/>
              <a:ext cx="44748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47560" y="3480120"/>
              <a:ext cx="6156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68640" y="3164040"/>
              <a:ext cx="6692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10880" y="2689920"/>
              <a:ext cx="4996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678400" y="3620880"/>
              <a:ext cx="902160" cy="198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74840" y="4227840"/>
              <a:ext cx="50436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6200" y="2746440"/>
              <a:ext cx="47844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463080" y="4791600"/>
              <a:ext cx="54648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510880" y="5360040"/>
              <a:ext cx="951840" cy="140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66040" y="5515200"/>
              <a:ext cx="95220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54000" y="391212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06520" y="4733280"/>
              <a:ext cx="594720" cy="19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82640" y="2310840"/>
              <a:ext cx="488160" cy="179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981080" y="3125880"/>
            <a:ext cx="6562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Struktur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 Reaktion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klares Zeitverhal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38800" y="2325600"/>
            <a:ext cx="675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Merkmale komplexer dynamischer Syste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as Unternehmen – ein komplexes dynamisches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737320" y="4124160"/>
            <a:ext cx="2646360" cy="198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430200" y="3395520"/>
            <a:ext cx="62578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Teil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obachter de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14080" y="2104920"/>
            <a:ext cx="165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Doppelrol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1" name=""/>
          <p:cNvGraphicFramePr/>
          <p:nvPr/>
        </p:nvGraphicFramePr>
        <p:xfrm>
          <a:off x="6116760" y="2700360"/>
          <a:ext cx="1780920" cy="282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6760" y="2700360"/>
                    <a:ext cx="1780920" cy="282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nager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rfolgreiches Management im System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625320" y="1984320"/>
            <a:ext cx="7804440" cy="47595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739800" y="2070000"/>
            <a:ext cx="1360440" cy="153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alance der Entscheidungsinstrumen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5572080" y="1712880"/>
          <a:ext cx="3286080" cy="20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080" y="1712880"/>
                    <a:ext cx="3286080" cy="20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  <a:close/>
              </a:path>
            </a:pathLst>
          </a:custGeom>
          <a:solidFill>
            <a:srgbClr val="ff8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8520" y="1951200"/>
            <a:ext cx="1247760" cy="836280"/>
          </a:xfrm>
          <a:custGeom>
            <a:avLst/>
            <a:gdLst/>
            <a:ahLst/>
            <a:rect l="l" t="t" r="r" b="b"/>
            <a:pathLst>
              <a:path w="786" h="527">
                <a:moveTo>
                  <a:pt x="176" y="0"/>
                </a:moveTo>
                <a:lnTo>
                  <a:pt x="610" y="0"/>
                </a:lnTo>
                <a:lnTo>
                  <a:pt x="786" y="176"/>
                </a:lnTo>
                <a:lnTo>
                  <a:pt x="786" y="351"/>
                </a:lnTo>
                <a:lnTo>
                  <a:pt x="610" y="527"/>
                </a:lnTo>
                <a:lnTo>
                  <a:pt x="176" y="527"/>
                </a:lnTo>
                <a:lnTo>
                  <a:pt x="0" y="351"/>
                </a:lnTo>
                <a:lnTo>
                  <a:pt x="0" y="176"/>
                </a:lnTo>
                <a:lnTo>
                  <a:pt x="17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54120" y="21178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72040" y="2238480"/>
            <a:ext cx="34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00" y="236052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urren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87920" y="5989680"/>
            <a:ext cx="1136520" cy="744480"/>
          </a:xfrm>
          <a:prstGeom prst="ellipse">
            <a:avLst/>
          </a:prstGeom>
          <a:solidFill>
            <a:srgbClr val="80ff8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788280" y="5989680"/>
            <a:ext cx="773094112920" cy="1488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57720" y="6138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83840" y="6288120"/>
            <a:ext cx="54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ahres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944520" y="6437160"/>
            <a:ext cx="85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übersch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65680" y="4910040"/>
            <a:ext cx="1006560" cy="669960"/>
          </a:xfrm>
          <a:custGeom>
            <a:avLst/>
            <a:gdLst/>
            <a:ahLst/>
            <a:rect l="l" t="t" r="r" b="b"/>
            <a:pathLst>
              <a:path w="634" h="422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2"/>
                </a:lnTo>
                <a:lnTo>
                  <a:pt x="36" y="422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07040" y="50497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07960" y="5216400"/>
            <a:ext cx="517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s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60440" y="5132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5" y="0"/>
                </a:moveTo>
                <a:lnTo>
                  <a:pt x="599" y="0"/>
                </a:lnTo>
                <a:lnTo>
                  <a:pt x="634" y="36"/>
                </a:lnTo>
                <a:lnTo>
                  <a:pt x="634" y="388"/>
                </a:lnTo>
                <a:lnTo>
                  <a:pt x="599" y="423"/>
                </a:lnTo>
                <a:lnTo>
                  <a:pt x="35" y="423"/>
                </a:lnTo>
                <a:lnTo>
                  <a:pt x="0" y="388"/>
                </a:lnTo>
                <a:lnTo>
                  <a:pt x="0" y="36"/>
                </a:lnTo>
                <a:lnTo>
                  <a:pt x="3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702520" y="5272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496960" y="544032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Um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  <a:close/>
              </a:path>
            </a:pathLst>
          </a:custGeom>
          <a:solidFill>
            <a:srgbClr val="ffff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14640" y="4043520"/>
            <a:ext cx="1006560" cy="671400"/>
          </a:xfrm>
          <a:custGeom>
            <a:avLst/>
            <a:gdLst/>
            <a:ahLst/>
            <a:rect l="l" t="t" r="r" b="b"/>
            <a:pathLst>
              <a:path w="634" h="423">
                <a:moveTo>
                  <a:pt x="36" y="0"/>
                </a:moveTo>
                <a:lnTo>
                  <a:pt x="599" y="0"/>
                </a:lnTo>
                <a:lnTo>
                  <a:pt x="634" y="35"/>
                </a:lnTo>
                <a:lnTo>
                  <a:pt x="634" y="387"/>
                </a:lnTo>
                <a:lnTo>
                  <a:pt x="599" y="423"/>
                </a:lnTo>
                <a:lnTo>
                  <a:pt x="36" y="423"/>
                </a:lnTo>
                <a:lnTo>
                  <a:pt x="0" y="387"/>
                </a:lnTo>
                <a:lnTo>
                  <a:pt x="0" y="35"/>
                </a:lnTo>
                <a:lnTo>
                  <a:pt x="3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456720" y="4183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275640" y="43513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Absat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907240" y="275436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385680" y="28796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968440" y="3062160"/>
            <a:ext cx="924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schaff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0560" y="2125800"/>
            <a:ext cx="100620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2640" y="22654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2960" y="243360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Vertri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59200" y="21067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01280" y="22464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08600" y="2414520"/>
            <a:ext cx="753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ommuni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239640" y="2581200"/>
            <a:ext cx="450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k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320840" y="2768760"/>
            <a:ext cx="1004760" cy="669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761480" y="290844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15960" y="3075120"/>
            <a:ext cx="62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odukt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557360" y="324324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qualitä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47880" y="4164120"/>
            <a:ext cx="1006200" cy="67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389960" y="43038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53880" y="4471920"/>
            <a:ext cx="375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Pre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54080" y="4286160"/>
            <a:ext cx="939960" cy="101520"/>
          </a:xfrm>
          <a:custGeom>
            <a:avLst/>
            <a:gdLst/>
            <a:ahLst/>
            <a:rect l="l" t="t" r="r" b="b"/>
            <a:pathLst>
              <a:path w="592" h="64">
                <a:moveTo>
                  <a:pt x="0" y="64"/>
                </a:moveTo>
                <a:lnTo>
                  <a:pt x="5" y="64"/>
                </a:lnTo>
                <a:lnTo>
                  <a:pt x="5" y="64"/>
                </a:lnTo>
                <a:lnTo>
                  <a:pt x="11" y="64"/>
                </a:lnTo>
                <a:lnTo>
                  <a:pt x="11" y="58"/>
                </a:lnTo>
                <a:lnTo>
                  <a:pt x="17" y="58"/>
                </a:lnTo>
                <a:lnTo>
                  <a:pt x="17" y="58"/>
                </a:lnTo>
                <a:lnTo>
                  <a:pt x="23" y="58"/>
                </a:lnTo>
                <a:lnTo>
                  <a:pt x="29" y="58"/>
                </a:lnTo>
                <a:lnTo>
                  <a:pt x="29" y="58"/>
                </a:lnTo>
                <a:lnTo>
                  <a:pt x="35" y="58"/>
                </a:lnTo>
                <a:lnTo>
                  <a:pt x="35" y="58"/>
                </a:lnTo>
                <a:lnTo>
                  <a:pt x="41" y="53"/>
                </a:lnTo>
                <a:lnTo>
                  <a:pt x="41" y="53"/>
                </a:lnTo>
                <a:lnTo>
                  <a:pt x="46" y="53"/>
                </a:lnTo>
                <a:lnTo>
                  <a:pt x="52" y="53"/>
                </a:lnTo>
                <a:lnTo>
                  <a:pt x="52" y="53"/>
                </a:lnTo>
                <a:lnTo>
                  <a:pt x="58" y="53"/>
                </a:lnTo>
                <a:lnTo>
                  <a:pt x="58" y="53"/>
                </a:lnTo>
                <a:lnTo>
                  <a:pt x="64" y="47"/>
                </a:lnTo>
                <a:lnTo>
                  <a:pt x="64" y="47"/>
                </a:lnTo>
                <a:lnTo>
                  <a:pt x="70" y="47"/>
                </a:lnTo>
                <a:lnTo>
                  <a:pt x="76" y="47"/>
                </a:lnTo>
                <a:lnTo>
                  <a:pt x="76" y="47"/>
                </a:lnTo>
                <a:lnTo>
                  <a:pt x="82" y="47"/>
                </a:lnTo>
                <a:lnTo>
                  <a:pt x="82" y="47"/>
                </a:lnTo>
                <a:lnTo>
                  <a:pt x="88" y="41"/>
                </a:lnTo>
                <a:lnTo>
                  <a:pt x="88" y="41"/>
                </a:lnTo>
                <a:lnTo>
                  <a:pt x="93" y="41"/>
                </a:lnTo>
                <a:lnTo>
                  <a:pt x="99" y="41"/>
                </a:lnTo>
                <a:lnTo>
                  <a:pt x="99" y="41"/>
                </a:lnTo>
                <a:lnTo>
                  <a:pt x="105" y="41"/>
                </a:lnTo>
                <a:lnTo>
                  <a:pt x="105" y="41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35"/>
                </a:lnTo>
                <a:lnTo>
                  <a:pt x="129" y="35"/>
                </a:lnTo>
                <a:lnTo>
                  <a:pt x="134" y="29"/>
                </a:lnTo>
                <a:lnTo>
                  <a:pt x="134" y="29"/>
                </a:lnTo>
                <a:lnTo>
                  <a:pt x="140" y="29"/>
                </a:lnTo>
                <a:lnTo>
                  <a:pt x="146" y="29"/>
                </a:lnTo>
                <a:lnTo>
                  <a:pt x="146" y="29"/>
                </a:lnTo>
                <a:lnTo>
                  <a:pt x="152" y="29"/>
                </a:lnTo>
                <a:lnTo>
                  <a:pt x="152" y="29"/>
                </a:lnTo>
                <a:lnTo>
                  <a:pt x="158" y="29"/>
                </a:lnTo>
                <a:lnTo>
                  <a:pt x="158" y="23"/>
                </a:lnTo>
                <a:lnTo>
                  <a:pt x="164" y="23"/>
                </a:lnTo>
                <a:lnTo>
                  <a:pt x="170" y="23"/>
                </a:lnTo>
                <a:lnTo>
                  <a:pt x="170" y="23"/>
                </a:lnTo>
                <a:lnTo>
                  <a:pt x="176" y="23"/>
                </a:lnTo>
                <a:lnTo>
                  <a:pt x="176" y="23"/>
                </a:lnTo>
                <a:lnTo>
                  <a:pt x="181" y="23"/>
                </a:lnTo>
                <a:lnTo>
                  <a:pt x="181" y="23"/>
                </a:lnTo>
                <a:lnTo>
                  <a:pt x="187" y="17"/>
                </a:lnTo>
                <a:lnTo>
                  <a:pt x="187" y="17"/>
                </a:lnTo>
                <a:lnTo>
                  <a:pt x="193" y="17"/>
                </a:lnTo>
                <a:lnTo>
                  <a:pt x="199" y="17"/>
                </a:lnTo>
                <a:lnTo>
                  <a:pt x="199" y="17"/>
                </a:lnTo>
                <a:lnTo>
                  <a:pt x="205" y="17"/>
                </a:lnTo>
                <a:lnTo>
                  <a:pt x="205" y="17"/>
                </a:lnTo>
                <a:lnTo>
                  <a:pt x="211" y="17"/>
                </a:lnTo>
                <a:lnTo>
                  <a:pt x="211" y="17"/>
                </a:lnTo>
                <a:lnTo>
                  <a:pt x="217" y="11"/>
                </a:lnTo>
                <a:lnTo>
                  <a:pt x="222" y="11"/>
                </a:lnTo>
                <a:lnTo>
                  <a:pt x="222" y="11"/>
                </a:lnTo>
                <a:lnTo>
                  <a:pt x="228" y="11"/>
                </a:lnTo>
                <a:lnTo>
                  <a:pt x="228" y="11"/>
                </a:lnTo>
                <a:lnTo>
                  <a:pt x="234" y="11"/>
                </a:lnTo>
                <a:lnTo>
                  <a:pt x="234" y="11"/>
                </a:lnTo>
                <a:lnTo>
                  <a:pt x="240" y="11"/>
                </a:lnTo>
                <a:lnTo>
                  <a:pt x="240" y="11"/>
                </a:lnTo>
                <a:lnTo>
                  <a:pt x="246" y="11"/>
                </a:lnTo>
                <a:lnTo>
                  <a:pt x="252" y="11"/>
                </a:lnTo>
                <a:lnTo>
                  <a:pt x="252" y="6"/>
                </a:lnTo>
                <a:lnTo>
                  <a:pt x="258" y="6"/>
                </a:lnTo>
                <a:lnTo>
                  <a:pt x="258" y="6"/>
                </a:lnTo>
                <a:lnTo>
                  <a:pt x="264" y="6"/>
                </a:lnTo>
                <a:lnTo>
                  <a:pt x="264" y="6"/>
                </a:lnTo>
                <a:lnTo>
                  <a:pt x="269" y="6"/>
                </a:lnTo>
                <a:lnTo>
                  <a:pt x="275" y="6"/>
                </a:lnTo>
                <a:lnTo>
                  <a:pt x="275" y="6"/>
                </a:lnTo>
                <a:lnTo>
                  <a:pt x="281" y="6"/>
                </a:lnTo>
                <a:lnTo>
                  <a:pt x="281" y="6"/>
                </a:lnTo>
                <a:lnTo>
                  <a:pt x="287" y="6"/>
                </a:lnTo>
                <a:lnTo>
                  <a:pt x="287" y="6"/>
                </a:lnTo>
                <a:lnTo>
                  <a:pt x="293" y="6"/>
                </a:lnTo>
                <a:lnTo>
                  <a:pt x="293" y="6"/>
                </a:lnTo>
                <a:lnTo>
                  <a:pt x="299" y="6"/>
                </a:lnTo>
                <a:lnTo>
                  <a:pt x="305" y="0"/>
                </a:lnTo>
                <a:lnTo>
                  <a:pt x="305" y="0"/>
                </a:lnTo>
                <a:lnTo>
                  <a:pt x="310" y="0"/>
                </a:lnTo>
                <a:lnTo>
                  <a:pt x="310" y="0"/>
                </a:lnTo>
                <a:lnTo>
                  <a:pt x="316" y="0"/>
                </a:lnTo>
                <a:lnTo>
                  <a:pt x="316" y="0"/>
                </a:lnTo>
                <a:lnTo>
                  <a:pt x="322" y="0"/>
                </a:lnTo>
                <a:lnTo>
                  <a:pt x="322" y="0"/>
                </a:lnTo>
                <a:lnTo>
                  <a:pt x="328" y="0"/>
                </a:lnTo>
                <a:lnTo>
                  <a:pt x="334" y="0"/>
                </a:lnTo>
                <a:lnTo>
                  <a:pt x="334" y="0"/>
                </a:lnTo>
                <a:lnTo>
                  <a:pt x="340" y="0"/>
                </a:lnTo>
                <a:lnTo>
                  <a:pt x="340" y="0"/>
                </a:lnTo>
                <a:lnTo>
                  <a:pt x="346" y="0"/>
                </a:lnTo>
                <a:lnTo>
                  <a:pt x="346" y="0"/>
                </a:lnTo>
                <a:lnTo>
                  <a:pt x="352" y="0"/>
                </a:lnTo>
                <a:lnTo>
                  <a:pt x="352" y="0"/>
                </a:lnTo>
                <a:lnTo>
                  <a:pt x="357" y="0"/>
                </a:lnTo>
                <a:lnTo>
                  <a:pt x="357" y="0"/>
                </a:lnTo>
                <a:lnTo>
                  <a:pt x="363" y="0"/>
                </a:lnTo>
                <a:lnTo>
                  <a:pt x="369" y="0"/>
                </a:lnTo>
                <a:lnTo>
                  <a:pt x="369" y="0"/>
                </a:lnTo>
                <a:lnTo>
                  <a:pt x="375" y="0"/>
                </a:lnTo>
                <a:lnTo>
                  <a:pt x="375" y="0"/>
                </a:lnTo>
                <a:lnTo>
                  <a:pt x="381" y="0"/>
                </a:lnTo>
                <a:lnTo>
                  <a:pt x="381" y="0"/>
                </a:lnTo>
                <a:lnTo>
                  <a:pt x="387" y="0"/>
                </a:lnTo>
                <a:lnTo>
                  <a:pt x="387" y="0"/>
                </a:lnTo>
                <a:lnTo>
                  <a:pt x="393" y="0"/>
                </a:lnTo>
                <a:lnTo>
                  <a:pt x="393" y="0"/>
                </a:lnTo>
                <a:lnTo>
                  <a:pt x="398" y="0"/>
                </a:lnTo>
                <a:lnTo>
                  <a:pt x="398" y="0"/>
                </a:lnTo>
                <a:lnTo>
                  <a:pt x="404" y="0"/>
                </a:lnTo>
                <a:lnTo>
                  <a:pt x="410" y="0"/>
                </a:lnTo>
                <a:lnTo>
                  <a:pt x="410" y="0"/>
                </a:lnTo>
                <a:lnTo>
                  <a:pt x="416" y="0"/>
                </a:lnTo>
                <a:lnTo>
                  <a:pt x="416" y="0"/>
                </a:lnTo>
                <a:lnTo>
                  <a:pt x="422" y="0"/>
                </a:lnTo>
                <a:lnTo>
                  <a:pt x="422" y="0"/>
                </a:lnTo>
                <a:lnTo>
                  <a:pt x="428" y="0"/>
                </a:lnTo>
                <a:lnTo>
                  <a:pt x="428" y="0"/>
                </a:lnTo>
                <a:lnTo>
                  <a:pt x="434" y="0"/>
                </a:lnTo>
                <a:lnTo>
                  <a:pt x="434" y="0"/>
                </a:lnTo>
                <a:lnTo>
                  <a:pt x="440" y="0"/>
                </a:lnTo>
                <a:lnTo>
                  <a:pt x="440" y="0"/>
                </a:lnTo>
                <a:lnTo>
                  <a:pt x="445" y="0"/>
                </a:lnTo>
                <a:lnTo>
                  <a:pt x="445" y="0"/>
                </a:lnTo>
                <a:lnTo>
                  <a:pt x="451" y="0"/>
                </a:lnTo>
                <a:lnTo>
                  <a:pt x="451" y="0"/>
                </a:lnTo>
                <a:lnTo>
                  <a:pt x="457" y="0"/>
                </a:lnTo>
                <a:lnTo>
                  <a:pt x="457" y="0"/>
                </a:lnTo>
                <a:lnTo>
                  <a:pt x="463" y="0"/>
                </a:lnTo>
                <a:lnTo>
                  <a:pt x="463" y="0"/>
                </a:lnTo>
                <a:lnTo>
                  <a:pt x="469" y="0"/>
                </a:lnTo>
                <a:lnTo>
                  <a:pt x="469" y="0"/>
                </a:lnTo>
                <a:lnTo>
                  <a:pt x="475" y="0"/>
                </a:lnTo>
                <a:lnTo>
                  <a:pt x="475" y="0"/>
                </a:lnTo>
                <a:lnTo>
                  <a:pt x="481" y="0"/>
                </a:lnTo>
                <a:lnTo>
                  <a:pt x="481" y="0"/>
                </a:lnTo>
                <a:lnTo>
                  <a:pt x="486" y="0"/>
                </a:lnTo>
                <a:lnTo>
                  <a:pt x="486" y="0"/>
                </a:lnTo>
                <a:lnTo>
                  <a:pt x="486" y="6"/>
                </a:lnTo>
                <a:lnTo>
                  <a:pt x="492" y="6"/>
                </a:lnTo>
                <a:lnTo>
                  <a:pt x="492" y="6"/>
                </a:lnTo>
                <a:lnTo>
                  <a:pt x="498" y="6"/>
                </a:lnTo>
                <a:lnTo>
                  <a:pt x="498" y="6"/>
                </a:lnTo>
                <a:lnTo>
                  <a:pt x="504" y="6"/>
                </a:lnTo>
                <a:lnTo>
                  <a:pt x="504" y="6"/>
                </a:lnTo>
                <a:lnTo>
                  <a:pt x="510" y="6"/>
                </a:lnTo>
                <a:lnTo>
                  <a:pt x="510" y="6"/>
                </a:lnTo>
                <a:lnTo>
                  <a:pt x="516" y="6"/>
                </a:lnTo>
                <a:lnTo>
                  <a:pt x="516" y="6"/>
                </a:lnTo>
                <a:lnTo>
                  <a:pt x="516" y="6"/>
                </a:lnTo>
                <a:lnTo>
                  <a:pt x="522" y="6"/>
                </a:lnTo>
                <a:lnTo>
                  <a:pt x="522" y="6"/>
                </a:lnTo>
                <a:lnTo>
                  <a:pt x="528" y="6"/>
                </a:lnTo>
                <a:lnTo>
                  <a:pt x="528" y="6"/>
                </a:lnTo>
                <a:lnTo>
                  <a:pt x="533" y="6"/>
                </a:lnTo>
                <a:lnTo>
                  <a:pt x="533" y="6"/>
                </a:lnTo>
                <a:lnTo>
                  <a:pt x="533" y="6"/>
                </a:lnTo>
                <a:lnTo>
                  <a:pt x="539" y="6"/>
                </a:lnTo>
                <a:lnTo>
                  <a:pt x="539" y="6"/>
                </a:lnTo>
                <a:lnTo>
                  <a:pt x="545" y="6"/>
                </a:lnTo>
                <a:lnTo>
                  <a:pt x="545" y="6"/>
                </a:lnTo>
                <a:lnTo>
                  <a:pt x="545" y="6"/>
                </a:lnTo>
                <a:lnTo>
                  <a:pt x="551" y="6"/>
                </a:lnTo>
                <a:lnTo>
                  <a:pt x="551" y="11"/>
                </a:lnTo>
                <a:lnTo>
                  <a:pt x="551" y="11"/>
                </a:lnTo>
                <a:lnTo>
                  <a:pt x="557" y="11"/>
                </a:lnTo>
                <a:lnTo>
                  <a:pt x="557" y="11"/>
                </a:lnTo>
                <a:lnTo>
                  <a:pt x="563" y="11"/>
                </a:lnTo>
                <a:lnTo>
                  <a:pt x="563" y="11"/>
                </a:lnTo>
                <a:lnTo>
                  <a:pt x="563" y="11"/>
                </a:lnTo>
                <a:lnTo>
                  <a:pt x="569" y="11"/>
                </a:lnTo>
                <a:lnTo>
                  <a:pt x="569" y="11"/>
                </a:lnTo>
                <a:lnTo>
                  <a:pt x="569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75" y="11"/>
                </a:lnTo>
                <a:lnTo>
                  <a:pt x="580" y="11"/>
                </a:lnTo>
                <a:lnTo>
                  <a:pt x="580" y="11"/>
                </a:lnTo>
                <a:lnTo>
                  <a:pt x="580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86" y="11"/>
                </a:lnTo>
                <a:lnTo>
                  <a:pt x="592" y="11"/>
                </a:lnTo>
                <a:lnTo>
                  <a:pt x="592" y="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38600" y="4211640"/>
            <a:ext cx="176040" cy="166680"/>
          </a:xfrm>
          <a:custGeom>
            <a:avLst/>
            <a:gdLst/>
            <a:ahLst/>
            <a:rect l="l" t="t" r="r" b="b"/>
            <a:pathLst>
              <a:path w="111" h="105">
                <a:moveTo>
                  <a:pt x="111" y="70"/>
                </a:moveTo>
                <a:lnTo>
                  <a:pt x="18" y="0"/>
                </a:lnTo>
                <a:lnTo>
                  <a:pt x="0" y="105"/>
                </a:lnTo>
                <a:lnTo>
                  <a:pt x="111" y="70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7960" y="4257720"/>
            <a:ext cx="1015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57680" y="430380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54080" y="4751280"/>
            <a:ext cx="409680" cy="289080"/>
          </a:xfrm>
          <a:custGeom>
            <a:avLst/>
            <a:gdLst/>
            <a:ahLst/>
            <a:rect l="l" t="t" r="r" b="b"/>
            <a:pathLst>
              <a:path w="258" h="182">
                <a:moveTo>
                  <a:pt x="0" y="0"/>
                </a:move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  <a:lnTo>
                  <a:pt x="5" y="0"/>
                </a:lnTo>
                <a:lnTo>
                  <a:pt x="5" y="6"/>
                </a:lnTo>
                <a:lnTo>
                  <a:pt x="11" y="6"/>
                </a:lnTo>
                <a:lnTo>
                  <a:pt x="11" y="6"/>
                </a:lnTo>
                <a:lnTo>
                  <a:pt x="11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12"/>
                </a:lnTo>
                <a:lnTo>
                  <a:pt x="23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8"/>
                </a:lnTo>
                <a:lnTo>
                  <a:pt x="41" y="18"/>
                </a:lnTo>
                <a:lnTo>
                  <a:pt x="41" y="18"/>
                </a:lnTo>
                <a:lnTo>
                  <a:pt x="46" y="18"/>
                </a:lnTo>
                <a:lnTo>
                  <a:pt x="46" y="18"/>
                </a:lnTo>
                <a:lnTo>
                  <a:pt x="46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2" y="18"/>
                </a:lnTo>
                <a:lnTo>
                  <a:pt x="58" y="23"/>
                </a:lnTo>
                <a:lnTo>
                  <a:pt x="58" y="23"/>
                </a:lnTo>
                <a:lnTo>
                  <a:pt x="58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0" y="23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76" y="29"/>
                </a:lnTo>
                <a:lnTo>
                  <a:pt x="82" y="29"/>
                </a:lnTo>
                <a:lnTo>
                  <a:pt x="82" y="29"/>
                </a:lnTo>
                <a:lnTo>
                  <a:pt x="82" y="29"/>
                </a:lnTo>
                <a:lnTo>
                  <a:pt x="88" y="29"/>
                </a:lnTo>
                <a:lnTo>
                  <a:pt x="88" y="29"/>
                </a:lnTo>
                <a:lnTo>
                  <a:pt x="88" y="29"/>
                </a:lnTo>
                <a:lnTo>
                  <a:pt x="88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3" y="35"/>
                </a:lnTo>
                <a:lnTo>
                  <a:pt x="99" y="35"/>
                </a:lnTo>
                <a:lnTo>
                  <a:pt x="99" y="35"/>
                </a:lnTo>
                <a:lnTo>
                  <a:pt x="99" y="35"/>
                </a:lnTo>
                <a:lnTo>
                  <a:pt x="105" y="35"/>
                </a:lnTo>
                <a:lnTo>
                  <a:pt x="105" y="35"/>
                </a:lnTo>
                <a:lnTo>
                  <a:pt x="105" y="41"/>
                </a:lnTo>
                <a:lnTo>
                  <a:pt x="105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1" y="41"/>
                </a:lnTo>
                <a:lnTo>
                  <a:pt x="117" y="41"/>
                </a:lnTo>
                <a:lnTo>
                  <a:pt x="117" y="41"/>
                </a:lnTo>
                <a:lnTo>
                  <a:pt x="117" y="47"/>
                </a:lnTo>
                <a:lnTo>
                  <a:pt x="117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3" y="47"/>
                </a:lnTo>
                <a:lnTo>
                  <a:pt x="129" y="47"/>
                </a:lnTo>
                <a:lnTo>
                  <a:pt x="129" y="47"/>
                </a:lnTo>
                <a:lnTo>
                  <a:pt x="129" y="53"/>
                </a:lnTo>
                <a:lnTo>
                  <a:pt x="129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34" y="53"/>
                </a:lnTo>
                <a:lnTo>
                  <a:pt x="140" y="53"/>
                </a:lnTo>
                <a:lnTo>
                  <a:pt x="140" y="59"/>
                </a:lnTo>
                <a:lnTo>
                  <a:pt x="140" y="59"/>
                </a:lnTo>
                <a:lnTo>
                  <a:pt x="140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46" y="59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2" y="65"/>
                </a:lnTo>
                <a:lnTo>
                  <a:pt x="158" y="65"/>
                </a:lnTo>
                <a:lnTo>
                  <a:pt x="158" y="65"/>
                </a:lnTo>
                <a:lnTo>
                  <a:pt x="158" y="70"/>
                </a:lnTo>
                <a:lnTo>
                  <a:pt x="158" y="70"/>
                </a:lnTo>
                <a:lnTo>
                  <a:pt x="158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0"/>
                </a:lnTo>
                <a:lnTo>
                  <a:pt x="164" y="76"/>
                </a:lnTo>
                <a:lnTo>
                  <a:pt x="164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0" y="76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2"/>
                </a:lnTo>
                <a:lnTo>
                  <a:pt x="181" y="82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1" y="88"/>
                </a:lnTo>
                <a:lnTo>
                  <a:pt x="187" y="88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87" y="94"/>
                </a:lnTo>
                <a:lnTo>
                  <a:pt x="193" y="94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3" y="100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199" y="106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1"/>
                </a:lnTo>
                <a:lnTo>
                  <a:pt x="205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17"/>
                </a:lnTo>
                <a:lnTo>
                  <a:pt x="211" y="123"/>
                </a:lnTo>
                <a:lnTo>
                  <a:pt x="211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3"/>
                </a:lnTo>
                <a:lnTo>
                  <a:pt x="217" y="129"/>
                </a:lnTo>
                <a:lnTo>
                  <a:pt x="217" y="129"/>
                </a:lnTo>
                <a:lnTo>
                  <a:pt x="217" y="129"/>
                </a:lnTo>
                <a:lnTo>
                  <a:pt x="222" y="129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35"/>
                </a:lnTo>
                <a:lnTo>
                  <a:pt x="222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1"/>
                </a:lnTo>
                <a:lnTo>
                  <a:pt x="228" y="147"/>
                </a:lnTo>
                <a:lnTo>
                  <a:pt x="228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47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34" y="152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58"/>
                </a:lnTo>
                <a:lnTo>
                  <a:pt x="240" y="164"/>
                </a:lnTo>
                <a:lnTo>
                  <a:pt x="240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64"/>
                </a:lnTo>
                <a:lnTo>
                  <a:pt x="246" y="170"/>
                </a:lnTo>
                <a:lnTo>
                  <a:pt x="246" y="170"/>
                </a:lnTo>
                <a:lnTo>
                  <a:pt x="246" y="170"/>
                </a:lnTo>
                <a:lnTo>
                  <a:pt x="252" y="170"/>
                </a:lnTo>
                <a:lnTo>
                  <a:pt x="252" y="170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2" y="176"/>
                </a:lnTo>
                <a:lnTo>
                  <a:pt x="258" y="176"/>
                </a:lnTo>
                <a:lnTo>
                  <a:pt x="258" y="182"/>
                </a:lnTo>
                <a:lnTo>
                  <a:pt x="258" y="182"/>
                </a:lnTo>
                <a:lnTo>
                  <a:pt x="258" y="182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79520" y="4956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111" y="111"/>
                </a:moveTo>
                <a:lnTo>
                  <a:pt x="76" y="0"/>
                </a:lnTo>
                <a:lnTo>
                  <a:pt x="0" y="76"/>
                </a:lnTo>
                <a:lnTo>
                  <a:pt x="111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316240" y="499284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2560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363760" y="500220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325600" y="3373560"/>
            <a:ext cx="782640" cy="577800"/>
          </a:xfrm>
          <a:custGeom>
            <a:avLst/>
            <a:gdLst/>
            <a:ahLst/>
            <a:rect l="l" t="t" r="r" b="b"/>
            <a:pathLst>
              <a:path w="493" h="364">
                <a:moveTo>
                  <a:pt x="0" y="0"/>
                </a:moveTo>
                <a:lnTo>
                  <a:pt x="0" y="0"/>
                </a:lnTo>
                <a:lnTo>
                  <a:pt x="6" y="6"/>
                </a:lnTo>
                <a:lnTo>
                  <a:pt x="6" y="6"/>
                </a:lnTo>
                <a:lnTo>
                  <a:pt x="12" y="6"/>
                </a:lnTo>
                <a:lnTo>
                  <a:pt x="12" y="6"/>
                </a:lnTo>
                <a:lnTo>
                  <a:pt x="18" y="6"/>
                </a:lnTo>
                <a:lnTo>
                  <a:pt x="18" y="12"/>
                </a:lnTo>
                <a:lnTo>
                  <a:pt x="24" y="12"/>
                </a:lnTo>
                <a:lnTo>
                  <a:pt x="24" y="12"/>
                </a:lnTo>
                <a:lnTo>
                  <a:pt x="30" y="12"/>
                </a:lnTo>
                <a:lnTo>
                  <a:pt x="30" y="18"/>
                </a:lnTo>
                <a:lnTo>
                  <a:pt x="35" y="18"/>
                </a:lnTo>
                <a:lnTo>
                  <a:pt x="35" y="18"/>
                </a:lnTo>
                <a:lnTo>
                  <a:pt x="41" y="18"/>
                </a:lnTo>
                <a:lnTo>
                  <a:pt x="41" y="23"/>
                </a:lnTo>
                <a:lnTo>
                  <a:pt x="47" y="23"/>
                </a:lnTo>
                <a:lnTo>
                  <a:pt x="47" y="23"/>
                </a:lnTo>
                <a:lnTo>
                  <a:pt x="53" y="23"/>
                </a:lnTo>
                <a:lnTo>
                  <a:pt x="53" y="29"/>
                </a:lnTo>
                <a:lnTo>
                  <a:pt x="59" y="29"/>
                </a:lnTo>
                <a:lnTo>
                  <a:pt x="59" y="29"/>
                </a:lnTo>
                <a:lnTo>
                  <a:pt x="65" y="29"/>
                </a:lnTo>
                <a:lnTo>
                  <a:pt x="65" y="35"/>
                </a:lnTo>
                <a:lnTo>
                  <a:pt x="71" y="35"/>
                </a:lnTo>
                <a:lnTo>
                  <a:pt x="71" y="35"/>
                </a:lnTo>
                <a:lnTo>
                  <a:pt x="76" y="35"/>
                </a:lnTo>
                <a:lnTo>
                  <a:pt x="76" y="41"/>
                </a:lnTo>
                <a:lnTo>
                  <a:pt x="82" y="41"/>
                </a:lnTo>
                <a:lnTo>
                  <a:pt x="82" y="41"/>
                </a:lnTo>
                <a:lnTo>
                  <a:pt x="88" y="41"/>
                </a:lnTo>
                <a:lnTo>
                  <a:pt x="88" y="47"/>
                </a:lnTo>
                <a:lnTo>
                  <a:pt x="94" y="47"/>
                </a:lnTo>
                <a:lnTo>
                  <a:pt x="94" y="47"/>
                </a:lnTo>
                <a:lnTo>
                  <a:pt x="100" y="47"/>
                </a:lnTo>
                <a:lnTo>
                  <a:pt x="100" y="53"/>
                </a:lnTo>
                <a:lnTo>
                  <a:pt x="106" y="53"/>
                </a:lnTo>
                <a:lnTo>
                  <a:pt x="106" y="53"/>
                </a:lnTo>
                <a:lnTo>
                  <a:pt x="106" y="53"/>
                </a:lnTo>
                <a:lnTo>
                  <a:pt x="112" y="59"/>
                </a:lnTo>
                <a:lnTo>
                  <a:pt x="112" y="59"/>
                </a:lnTo>
                <a:lnTo>
                  <a:pt x="118" y="59"/>
                </a:lnTo>
                <a:lnTo>
                  <a:pt x="118" y="59"/>
                </a:lnTo>
                <a:lnTo>
                  <a:pt x="123" y="59"/>
                </a:lnTo>
                <a:lnTo>
                  <a:pt x="123" y="64"/>
                </a:lnTo>
                <a:lnTo>
                  <a:pt x="129" y="64"/>
                </a:lnTo>
                <a:lnTo>
                  <a:pt x="129" y="64"/>
                </a:lnTo>
                <a:lnTo>
                  <a:pt x="135" y="70"/>
                </a:lnTo>
                <a:lnTo>
                  <a:pt x="135" y="70"/>
                </a:lnTo>
                <a:lnTo>
                  <a:pt x="141" y="70"/>
                </a:lnTo>
                <a:lnTo>
                  <a:pt x="141" y="70"/>
                </a:lnTo>
                <a:lnTo>
                  <a:pt x="147" y="76"/>
                </a:lnTo>
                <a:lnTo>
                  <a:pt x="147" y="76"/>
                </a:lnTo>
                <a:lnTo>
                  <a:pt x="153" y="76"/>
                </a:lnTo>
                <a:lnTo>
                  <a:pt x="153" y="76"/>
                </a:lnTo>
                <a:lnTo>
                  <a:pt x="159" y="82"/>
                </a:lnTo>
                <a:lnTo>
                  <a:pt x="159" y="82"/>
                </a:lnTo>
                <a:lnTo>
                  <a:pt x="164" y="82"/>
                </a:lnTo>
                <a:lnTo>
                  <a:pt x="164" y="82"/>
                </a:lnTo>
                <a:lnTo>
                  <a:pt x="170" y="88"/>
                </a:lnTo>
                <a:lnTo>
                  <a:pt x="170" y="88"/>
                </a:lnTo>
                <a:lnTo>
                  <a:pt x="176" y="88"/>
                </a:lnTo>
                <a:lnTo>
                  <a:pt x="176" y="88"/>
                </a:lnTo>
                <a:lnTo>
                  <a:pt x="182" y="94"/>
                </a:lnTo>
                <a:lnTo>
                  <a:pt x="182" y="94"/>
                </a:lnTo>
                <a:lnTo>
                  <a:pt x="182" y="94"/>
                </a:lnTo>
                <a:lnTo>
                  <a:pt x="188" y="100"/>
                </a:lnTo>
                <a:lnTo>
                  <a:pt x="188" y="100"/>
                </a:lnTo>
                <a:lnTo>
                  <a:pt x="194" y="100"/>
                </a:lnTo>
                <a:lnTo>
                  <a:pt x="194" y="100"/>
                </a:lnTo>
                <a:lnTo>
                  <a:pt x="200" y="106"/>
                </a:lnTo>
                <a:lnTo>
                  <a:pt x="200" y="106"/>
                </a:lnTo>
                <a:lnTo>
                  <a:pt x="206" y="106"/>
                </a:lnTo>
                <a:lnTo>
                  <a:pt x="206" y="106"/>
                </a:lnTo>
                <a:lnTo>
                  <a:pt x="211" y="111"/>
                </a:lnTo>
                <a:lnTo>
                  <a:pt x="211" y="111"/>
                </a:lnTo>
                <a:lnTo>
                  <a:pt x="217" y="111"/>
                </a:lnTo>
                <a:lnTo>
                  <a:pt x="217" y="117"/>
                </a:lnTo>
                <a:lnTo>
                  <a:pt x="217" y="117"/>
                </a:lnTo>
                <a:lnTo>
                  <a:pt x="223" y="117"/>
                </a:lnTo>
                <a:lnTo>
                  <a:pt x="223" y="117"/>
                </a:lnTo>
                <a:lnTo>
                  <a:pt x="229" y="123"/>
                </a:lnTo>
                <a:lnTo>
                  <a:pt x="229" y="123"/>
                </a:lnTo>
                <a:lnTo>
                  <a:pt x="235" y="123"/>
                </a:lnTo>
                <a:lnTo>
                  <a:pt x="235" y="129"/>
                </a:lnTo>
                <a:lnTo>
                  <a:pt x="241" y="129"/>
                </a:lnTo>
                <a:lnTo>
                  <a:pt x="241" y="129"/>
                </a:lnTo>
                <a:lnTo>
                  <a:pt x="247" y="135"/>
                </a:lnTo>
                <a:lnTo>
                  <a:pt x="247" y="135"/>
                </a:lnTo>
                <a:lnTo>
                  <a:pt x="247" y="135"/>
                </a:lnTo>
                <a:lnTo>
                  <a:pt x="252" y="135"/>
                </a:lnTo>
                <a:lnTo>
                  <a:pt x="252" y="141"/>
                </a:lnTo>
                <a:lnTo>
                  <a:pt x="258" y="141"/>
                </a:lnTo>
                <a:lnTo>
                  <a:pt x="258" y="141"/>
                </a:lnTo>
                <a:lnTo>
                  <a:pt x="264" y="147"/>
                </a:lnTo>
                <a:lnTo>
                  <a:pt x="264" y="147"/>
                </a:lnTo>
                <a:lnTo>
                  <a:pt x="264" y="147"/>
                </a:lnTo>
                <a:lnTo>
                  <a:pt x="270" y="152"/>
                </a:lnTo>
                <a:lnTo>
                  <a:pt x="270" y="152"/>
                </a:lnTo>
                <a:lnTo>
                  <a:pt x="276" y="152"/>
                </a:lnTo>
                <a:lnTo>
                  <a:pt x="276" y="158"/>
                </a:lnTo>
                <a:lnTo>
                  <a:pt x="282" y="158"/>
                </a:lnTo>
                <a:lnTo>
                  <a:pt x="282" y="158"/>
                </a:lnTo>
                <a:lnTo>
                  <a:pt x="282" y="164"/>
                </a:lnTo>
                <a:lnTo>
                  <a:pt x="288" y="164"/>
                </a:lnTo>
                <a:lnTo>
                  <a:pt x="288" y="164"/>
                </a:lnTo>
                <a:lnTo>
                  <a:pt x="294" y="170"/>
                </a:lnTo>
                <a:lnTo>
                  <a:pt x="294" y="170"/>
                </a:lnTo>
                <a:lnTo>
                  <a:pt x="299" y="170"/>
                </a:lnTo>
                <a:lnTo>
                  <a:pt x="299" y="176"/>
                </a:lnTo>
                <a:lnTo>
                  <a:pt x="299" y="176"/>
                </a:lnTo>
                <a:lnTo>
                  <a:pt x="305" y="176"/>
                </a:lnTo>
                <a:lnTo>
                  <a:pt x="305" y="182"/>
                </a:lnTo>
                <a:lnTo>
                  <a:pt x="311" y="182"/>
                </a:lnTo>
                <a:lnTo>
                  <a:pt x="311" y="182"/>
                </a:lnTo>
                <a:lnTo>
                  <a:pt x="317" y="188"/>
                </a:lnTo>
                <a:lnTo>
                  <a:pt x="317" y="188"/>
                </a:lnTo>
                <a:lnTo>
                  <a:pt x="317" y="188"/>
                </a:lnTo>
                <a:lnTo>
                  <a:pt x="323" y="194"/>
                </a:lnTo>
                <a:lnTo>
                  <a:pt x="323" y="194"/>
                </a:lnTo>
                <a:lnTo>
                  <a:pt x="329" y="194"/>
                </a:lnTo>
                <a:lnTo>
                  <a:pt x="329" y="199"/>
                </a:lnTo>
                <a:lnTo>
                  <a:pt x="329" y="199"/>
                </a:lnTo>
                <a:lnTo>
                  <a:pt x="335" y="199"/>
                </a:lnTo>
                <a:lnTo>
                  <a:pt x="335" y="205"/>
                </a:lnTo>
                <a:lnTo>
                  <a:pt x="341" y="205"/>
                </a:lnTo>
                <a:lnTo>
                  <a:pt x="341" y="205"/>
                </a:lnTo>
                <a:lnTo>
                  <a:pt x="341" y="211"/>
                </a:lnTo>
                <a:lnTo>
                  <a:pt x="346" y="211"/>
                </a:lnTo>
                <a:lnTo>
                  <a:pt x="346" y="217"/>
                </a:lnTo>
                <a:lnTo>
                  <a:pt x="352" y="217"/>
                </a:lnTo>
                <a:lnTo>
                  <a:pt x="352" y="217"/>
                </a:lnTo>
                <a:lnTo>
                  <a:pt x="352" y="223"/>
                </a:lnTo>
                <a:lnTo>
                  <a:pt x="358" y="223"/>
                </a:lnTo>
                <a:lnTo>
                  <a:pt x="358" y="223"/>
                </a:lnTo>
                <a:lnTo>
                  <a:pt x="358" y="229"/>
                </a:lnTo>
                <a:lnTo>
                  <a:pt x="364" y="229"/>
                </a:lnTo>
                <a:lnTo>
                  <a:pt x="364" y="229"/>
                </a:lnTo>
                <a:lnTo>
                  <a:pt x="370" y="235"/>
                </a:lnTo>
                <a:lnTo>
                  <a:pt x="370" y="235"/>
                </a:lnTo>
                <a:lnTo>
                  <a:pt x="370" y="240"/>
                </a:lnTo>
                <a:lnTo>
                  <a:pt x="376" y="240"/>
                </a:lnTo>
                <a:lnTo>
                  <a:pt x="376" y="240"/>
                </a:lnTo>
                <a:lnTo>
                  <a:pt x="382" y="246"/>
                </a:lnTo>
                <a:lnTo>
                  <a:pt x="382" y="246"/>
                </a:lnTo>
                <a:lnTo>
                  <a:pt x="382" y="246"/>
                </a:lnTo>
                <a:lnTo>
                  <a:pt x="387" y="252"/>
                </a:lnTo>
                <a:lnTo>
                  <a:pt x="387" y="252"/>
                </a:lnTo>
                <a:lnTo>
                  <a:pt x="387" y="258"/>
                </a:lnTo>
                <a:lnTo>
                  <a:pt x="393" y="258"/>
                </a:lnTo>
                <a:lnTo>
                  <a:pt x="393" y="258"/>
                </a:lnTo>
                <a:lnTo>
                  <a:pt x="393" y="264"/>
                </a:lnTo>
                <a:lnTo>
                  <a:pt x="399" y="264"/>
                </a:lnTo>
                <a:lnTo>
                  <a:pt x="399" y="264"/>
                </a:lnTo>
                <a:lnTo>
                  <a:pt x="405" y="270"/>
                </a:lnTo>
                <a:lnTo>
                  <a:pt x="405" y="270"/>
                </a:lnTo>
                <a:lnTo>
                  <a:pt x="405" y="276"/>
                </a:lnTo>
                <a:lnTo>
                  <a:pt x="411" y="276"/>
                </a:lnTo>
                <a:lnTo>
                  <a:pt x="411" y="276"/>
                </a:lnTo>
                <a:lnTo>
                  <a:pt x="411" y="281"/>
                </a:lnTo>
                <a:lnTo>
                  <a:pt x="417" y="281"/>
                </a:lnTo>
                <a:lnTo>
                  <a:pt x="417" y="281"/>
                </a:lnTo>
                <a:lnTo>
                  <a:pt x="417" y="287"/>
                </a:lnTo>
                <a:lnTo>
                  <a:pt x="423" y="287"/>
                </a:lnTo>
                <a:lnTo>
                  <a:pt x="423" y="293"/>
                </a:lnTo>
                <a:lnTo>
                  <a:pt x="429" y="293"/>
                </a:lnTo>
                <a:lnTo>
                  <a:pt x="429" y="293"/>
                </a:lnTo>
                <a:lnTo>
                  <a:pt x="429" y="299"/>
                </a:lnTo>
                <a:lnTo>
                  <a:pt x="434" y="299"/>
                </a:lnTo>
                <a:lnTo>
                  <a:pt x="434" y="299"/>
                </a:lnTo>
                <a:lnTo>
                  <a:pt x="434" y="305"/>
                </a:lnTo>
                <a:lnTo>
                  <a:pt x="440" y="305"/>
                </a:lnTo>
                <a:lnTo>
                  <a:pt x="440" y="305"/>
                </a:lnTo>
                <a:lnTo>
                  <a:pt x="440" y="311"/>
                </a:lnTo>
                <a:lnTo>
                  <a:pt x="446" y="311"/>
                </a:lnTo>
                <a:lnTo>
                  <a:pt x="446" y="317"/>
                </a:lnTo>
                <a:lnTo>
                  <a:pt x="446" y="317"/>
                </a:lnTo>
                <a:lnTo>
                  <a:pt x="452" y="317"/>
                </a:lnTo>
                <a:lnTo>
                  <a:pt x="452" y="323"/>
                </a:lnTo>
                <a:lnTo>
                  <a:pt x="452" y="323"/>
                </a:lnTo>
                <a:lnTo>
                  <a:pt x="458" y="323"/>
                </a:lnTo>
                <a:lnTo>
                  <a:pt x="458" y="328"/>
                </a:lnTo>
                <a:lnTo>
                  <a:pt x="458" y="328"/>
                </a:lnTo>
                <a:lnTo>
                  <a:pt x="464" y="334"/>
                </a:lnTo>
                <a:lnTo>
                  <a:pt x="464" y="334"/>
                </a:lnTo>
                <a:lnTo>
                  <a:pt x="464" y="334"/>
                </a:lnTo>
                <a:lnTo>
                  <a:pt x="470" y="340"/>
                </a:lnTo>
                <a:lnTo>
                  <a:pt x="470" y="340"/>
                </a:lnTo>
                <a:lnTo>
                  <a:pt x="470" y="340"/>
                </a:lnTo>
                <a:lnTo>
                  <a:pt x="475" y="346"/>
                </a:lnTo>
                <a:lnTo>
                  <a:pt x="475" y="346"/>
                </a:lnTo>
                <a:lnTo>
                  <a:pt x="475" y="346"/>
                </a:lnTo>
                <a:lnTo>
                  <a:pt x="481" y="352"/>
                </a:lnTo>
                <a:lnTo>
                  <a:pt x="481" y="352"/>
                </a:lnTo>
                <a:lnTo>
                  <a:pt x="481" y="352"/>
                </a:lnTo>
                <a:lnTo>
                  <a:pt x="487" y="358"/>
                </a:lnTo>
                <a:lnTo>
                  <a:pt x="487" y="358"/>
                </a:lnTo>
                <a:lnTo>
                  <a:pt x="487" y="358"/>
                </a:lnTo>
                <a:lnTo>
                  <a:pt x="493" y="364"/>
                </a:lnTo>
                <a:lnTo>
                  <a:pt x="493" y="36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24360" y="3857760"/>
            <a:ext cx="168120" cy="185760"/>
          </a:xfrm>
          <a:custGeom>
            <a:avLst/>
            <a:gdLst/>
            <a:ahLst/>
            <a:rect l="l" t="t" r="r" b="b"/>
            <a:pathLst>
              <a:path w="106" h="117">
                <a:moveTo>
                  <a:pt x="106" y="117"/>
                </a:moveTo>
                <a:lnTo>
                  <a:pt x="77" y="0"/>
                </a:lnTo>
                <a:lnTo>
                  <a:pt x="0" y="70"/>
                </a:lnTo>
                <a:lnTo>
                  <a:pt x="106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062160" y="3903840"/>
            <a:ext cx="10188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71880" y="3951360"/>
            <a:ext cx="82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10824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325600" y="3308400"/>
            <a:ext cx="2637000" cy="1498680"/>
          </a:xfrm>
          <a:custGeom>
            <a:avLst/>
            <a:gdLst/>
            <a:ahLst/>
            <a:rect l="l" t="t" r="r" b="b"/>
            <a:pathLst>
              <a:path w="1661" h="944">
                <a:moveTo>
                  <a:pt x="0" y="0"/>
                </a:moveTo>
                <a:lnTo>
                  <a:pt x="12" y="6"/>
                </a:lnTo>
                <a:lnTo>
                  <a:pt x="18" y="6"/>
                </a:lnTo>
                <a:lnTo>
                  <a:pt x="30" y="12"/>
                </a:lnTo>
                <a:lnTo>
                  <a:pt x="35" y="12"/>
                </a:lnTo>
                <a:lnTo>
                  <a:pt x="47" y="18"/>
                </a:lnTo>
                <a:lnTo>
                  <a:pt x="53" y="23"/>
                </a:lnTo>
                <a:lnTo>
                  <a:pt x="65" y="23"/>
                </a:lnTo>
                <a:lnTo>
                  <a:pt x="76" y="29"/>
                </a:lnTo>
                <a:lnTo>
                  <a:pt x="82" y="29"/>
                </a:lnTo>
                <a:lnTo>
                  <a:pt x="94" y="35"/>
                </a:lnTo>
                <a:lnTo>
                  <a:pt x="100" y="35"/>
                </a:lnTo>
                <a:lnTo>
                  <a:pt x="112" y="41"/>
                </a:lnTo>
                <a:lnTo>
                  <a:pt x="123" y="41"/>
                </a:lnTo>
                <a:lnTo>
                  <a:pt x="129" y="47"/>
                </a:lnTo>
                <a:lnTo>
                  <a:pt x="141" y="47"/>
                </a:lnTo>
                <a:lnTo>
                  <a:pt x="153" y="47"/>
                </a:lnTo>
                <a:lnTo>
                  <a:pt x="159" y="53"/>
                </a:lnTo>
                <a:lnTo>
                  <a:pt x="170" y="53"/>
                </a:lnTo>
                <a:lnTo>
                  <a:pt x="182" y="59"/>
                </a:lnTo>
                <a:lnTo>
                  <a:pt x="188" y="59"/>
                </a:lnTo>
                <a:lnTo>
                  <a:pt x="200" y="64"/>
                </a:lnTo>
                <a:lnTo>
                  <a:pt x="211" y="64"/>
                </a:lnTo>
                <a:lnTo>
                  <a:pt x="223" y="64"/>
                </a:lnTo>
                <a:lnTo>
                  <a:pt x="229" y="70"/>
                </a:lnTo>
                <a:lnTo>
                  <a:pt x="241" y="70"/>
                </a:lnTo>
                <a:lnTo>
                  <a:pt x="252" y="76"/>
                </a:lnTo>
                <a:lnTo>
                  <a:pt x="258" y="76"/>
                </a:lnTo>
                <a:lnTo>
                  <a:pt x="270" y="76"/>
                </a:lnTo>
                <a:lnTo>
                  <a:pt x="282" y="82"/>
                </a:lnTo>
                <a:lnTo>
                  <a:pt x="294" y="82"/>
                </a:lnTo>
                <a:lnTo>
                  <a:pt x="299" y="88"/>
                </a:lnTo>
                <a:lnTo>
                  <a:pt x="311" y="88"/>
                </a:lnTo>
                <a:lnTo>
                  <a:pt x="323" y="88"/>
                </a:lnTo>
                <a:lnTo>
                  <a:pt x="335" y="94"/>
                </a:lnTo>
                <a:lnTo>
                  <a:pt x="341" y="94"/>
                </a:lnTo>
                <a:lnTo>
                  <a:pt x="352" y="94"/>
                </a:lnTo>
                <a:lnTo>
                  <a:pt x="364" y="100"/>
                </a:lnTo>
                <a:lnTo>
                  <a:pt x="376" y="100"/>
                </a:lnTo>
                <a:lnTo>
                  <a:pt x="382" y="100"/>
                </a:lnTo>
                <a:lnTo>
                  <a:pt x="393" y="105"/>
                </a:lnTo>
                <a:lnTo>
                  <a:pt x="405" y="105"/>
                </a:lnTo>
                <a:lnTo>
                  <a:pt x="417" y="105"/>
                </a:lnTo>
                <a:lnTo>
                  <a:pt x="423" y="111"/>
                </a:lnTo>
                <a:lnTo>
                  <a:pt x="434" y="111"/>
                </a:lnTo>
                <a:lnTo>
                  <a:pt x="446" y="117"/>
                </a:lnTo>
                <a:lnTo>
                  <a:pt x="458" y="117"/>
                </a:lnTo>
                <a:lnTo>
                  <a:pt x="470" y="117"/>
                </a:lnTo>
                <a:lnTo>
                  <a:pt x="475" y="123"/>
                </a:lnTo>
                <a:lnTo>
                  <a:pt x="487" y="123"/>
                </a:lnTo>
                <a:lnTo>
                  <a:pt x="499" y="123"/>
                </a:lnTo>
                <a:lnTo>
                  <a:pt x="511" y="129"/>
                </a:lnTo>
                <a:lnTo>
                  <a:pt x="517" y="129"/>
                </a:lnTo>
                <a:lnTo>
                  <a:pt x="528" y="129"/>
                </a:lnTo>
                <a:lnTo>
                  <a:pt x="540" y="135"/>
                </a:lnTo>
                <a:lnTo>
                  <a:pt x="552" y="135"/>
                </a:lnTo>
                <a:lnTo>
                  <a:pt x="558" y="141"/>
                </a:lnTo>
                <a:lnTo>
                  <a:pt x="569" y="141"/>
                </a:lnTo>
                <a:lnTo>
                  <a:pt x="581" y="141"/>
                </a:lnTo>
                <a:lnTo>
                  <a:pt x="593" y="147"/>
                </a:lnTo>
                <a:lnTo>
                  <a:pt x="599" y="147"/>
                </a:lnTo>
                <a:lnTo>
                  <a:pt x="610" y="152"/>
                </a:lnTo>
                <a:lnTo>
                  <a:pt x="622" y="152"/>
                </a:lnTo>
                <a:lnTo>
                  <a:pt x="634" y="152"/>
                </a:lnTo>
                <a:lnTo>
                  <a:pt x="640" y="158"/>
                </a:lnTo>
                <a:lnTo>
                  <a:pt x="651" y="158"/>
                </a:lnTo>
                <a:lnTo>
                  <a:pt x="663" y="164"/>
                </a:lnTo>
                <a:lnTo>
                  <a:pt x="675" y="164"/>
                </a:lnTo>
                <a:lnTo>
                  <a:pt x="681" y="170"/>
                </a:lnTo>
                <a:lnTo>
                  <a:pt x="693" y="170"/>
                </a:lnTo>
                <a:lnTo>
                  <a:pt x="704" y="176"/>
                </a:lnTo>
                <a:lnTo>
                  <a:pt x="710" y="176"/>
                </a:lnTo>
                <a:lnTo>
                  <a:pt x="722" y="182"/>
                </a:lnTo>
                <a:lnTo>
                  <a:pt x="734" y="182"/>
                </a:lnTo>
                <a:lnTo>
                  <a:pt x="745" y="182"/>
                </a:lnTo>
                <a:lnTo>
                  <a:pt x="751" y="188"/>
                </a:lnTo>
                <a:lnTo>
                  <a:pt x="763" y="188"/>
                </a:lnTo>
                <a:lnTo>
                  <a:pt x="775" y="193"/>
                </a:lnTo>
                <a:lnTo>
                  <a:pt x="781" y="199"/>
                </a:lnTo>
                <a:lnTo>
                  <a:pt x="792" y="199"/>
                </a:lnTo>
                <a:lnTo>
                  <a:pt x="804" y="205"/>
                </a:lnTo>
                <a:lnTo>
                  <a:pt x="810" y="205"/>
                </a:lnTo>
                <a:lnTo>
                  <a:pt x="822" y="211"/>
                </a:lnTo>
                <a:lnTo>
                  <a:pt x="833" y="211"/>
                </a:lnTo>
                <a:lnTo>
                  <a:pt x="839" y="217"/>
                </a:lnTo>
                <a:lnTo>
                  <a:pt x="851" y="217"/>
                </a:lnTo>
                <a:lnTo>
                  <a:pt x="863" y="223"/>
                </a:lnTo>
                <a:lnTo>
                  <a:pt x="869" y="229"/>
                </a:lnTo>
                <a:lnTo>
                  <a:pt x="880" y="229"/>
                </a:lnTo>
                <a:lnTo>
                  <a:pt x="886" y="235"/>
                </a:lnTo>
                <a:lnTo>
                  <a:pt x="898" y="235"/>
                </a:lnTo>
                <a:lnTo>
                  <a:pt x="910" y="240"/>
                </a:lnTo>
                <a:lnTo>
                  <a:pt x="915" y="246"/>
                </a:lnTo>
                <a:lnTo>
                  <a:pt x="927" y="246"/>
                </a:lnTo>
                <a:lnTo>
                  <a:pt x="933" y="252"/>
                </a:lnTo>
                <a:lnTo>
                  <a:pt x="945" y="258"/>
                </a:lnTo>
                <a:lnTo>
                  <a:pt x="957" y="258"/>
                </a:lnTo>
                <a:lnTo>
                  <a:pt x="962" y="264"/>
                </a:lnTo>
                <a:lnTo>
                  <a:pt x="974" y="270"/>
                </a:lnTo>
                <a:lnTo>
                  <a:pt x="980" y="270"/>
                </a:lnTo>
                <a:lnTo>
                  <a:pt x="992" y="276"/>
                </a:lnTo>
                <a:lnTo>
                  <a:pt x="998" y="281"/>
                </a:lnTo>
                <a:lnTo>
                  <a:pt x="1009" y="287"/>
                </a:lnTo>
                <a:lnTo>
                  <a:pt x="1015" y="287"/>
                </a:lnTo>
                <a:lnTo>
                  <a:pt x="1027" y="293"/>
                </a:lnTo>
                <a:lnTo>
                  <a:pt x="1033" y="299"/>
                </a:lnTo>
                <a:lnTo>
                  <a:pt x="1045" y="305"/>
                </a:lnTo>
                <a:lnTo>
                  <a:pt x="1050" y="305"/>
                </a:lnTo>
                <a:lnTo>
                  <a:pt x="1062" y="311"/>
                </a:lnTo>
                <a:lnTo>
                  <a:pt x="1068" y="317"/>
                </a:lnTo>
                <a:lnTo>
                  <a:pt x="1080" y="322"/>
                </a:lnTo>
                <a:lnTo>
                  <a:pt x="1086" y="328"/>
                </a:lnTo>
                <a:lnTo>
                  <a:pt x="1092" y="328"/>
                </a:lnTo>
                <a:lnTo>
                  <a:pt x="1103" y="334"/>
                </a:lnTo>
                <a:lnTo>
                  <a:pt x="1109" y="340"/>
                </a:lnTo>
                <a:lnTo>
                  <a:pt x="1121" y="346"/>
                </a:lnTo>
                <a:lnTo>
                  <a:pt x="1127" y="352"/>
                </a:lnTo>
                <a:lnTo>
                  <a:pt x="1133" y="358"/>
                </a:lnTo>
                <a:lnTo>
                  <a:pt x="1144" y="364"/>
                </a:lnTo>
                <a:lnTo>
                  <a:pt x="1150" y="369"/>
                </a:lnTo>
                <a:lnTo>
                  <a:pt x="1162" y="375"/>
                </a:lnTo>
                <a:lnTo>
                  <a:pt x="1168" y="375"/>
                </a:lnTo>
                <a:lnTo>
                  <a:pt x="1174" y="381"/>
                </a:lnTo>
                <a:lnTo>
                  <a:pt x="1185" y="387"/>
                </a:lnTo>
                <a:lnTo>
                  <a:pt x="1191" y="393"/>
                </a:lnTo>
                <a:lnTo>
                  <a:pt x="1197" y="399"/>
                </a:lnTo>
                <a:lnTo>
                  <a:pt x="1209" y="405"/>
                </a:lnTo>
                <a:lnTo>
                  <a:pt x="1215" y="410"/>
                </a:lnTo>
                <a:lnTo>
                  <a:pt x="1221" y="416"/>
                </a:lnTo>
                <a:lnTo>
                  <a:pt x="1226" y="422"/>
                </a:lnTo>
                <a:lnTo>
                  <a:pt x="1238" y="428"/>
                </a:lnTo>
                <a:lnTo>
                  <a:pt x="1244" y="434"/>
                </a:lnTo>
                <a:lnTo>
                  <a:pt x="1250" y="440"/>
                </a:lnTo>
                <a:lnTo>
                  <a:pt x="1262" y="446"/>
                </a:lnTo>
                <a:lnTo>
                  <a:pt x="1268" y="452"/>
                </a:lnTo>
                <a:lnTo>
                  <a:pt x="1273" y="463"/>
                </a:lnTo>
                <a:lnTo>
                  <a:pt x="1279" y="469"/>
                </a:lnTo>
                <a:lnTo>
                  <a:pt x="1285" y="475"/>
                </a:lnTo>
                <a:lnTo>
                  <a:pt x="1297" y="481"/>
                </a:lnTo>
                <a:lnTo>
                  <a:pt x="1303" y="487"/>
                </a:lnTo>
                <a:lnTo>
                  <a:pt x="1309" y="493"/>
                </a:lnTo>
                <a:lnTo>
                  <a:pt x="1314" y="498"/>
                </a:lnTo>
                <a:lnTo>
                  <a:pt x="1320" y="504"/>
                </a:lnTo>
                <a:lnTo>
                  <a:pt x="1332" y="510"/>
                </a:lnTo>
                <a:lnTo>
                  <a:pt x="1338" y="522"/>
                </a:lnTo>
                <a:lnTo>
                  <a:pt x="1344" y="528"/>
                </a:lnTo>
                <a:lnTo>
                  <a:pt x="1350" y="534"/>
                </a:lnTo>
                <a:lnTo>
                  <a:pt x="1356" y="539"/>
                </a:lnTo>
                <a:lnTo>
                  <a:pt x="1361" y="545"/>
                </a:lnTo>
                <a:lnTo>
                  <a:pt x="1367" y="551"/>
                </a:lnTo>
                <a:lnTo>
                  <a:pt x="1379" y="563"/>
                </a:lnTo>
                <a:lnTo>
                  <a:pt x="1385" y="569"/>
                </a:lnTo>
                <a:lnTo>
                  <a:pt x="1391" y="575"/>
                </a:lnTo>
                <a:lnTo>
                  <a:pt x="1397" y="581"/>
                </a:lnTo>
                <a:lnTo>
                  <a:pt x="1402" y="592"/>
                </a:lnTo>
                <a:lnTo>
                  <a:pt x="1408" y="598"/>
                </a:lnTo>
                <a:lnTo>
                  <a:pt x="1414" y="604"/>
                </a:lnTo>
                <a:lnTo>
                  <a:pt x="1420" y="610"/>
                </a:lnTo>
                <a:lnTo>
                  <a:pt x="1426" y="622"/>
                </a:lnTo>
                <a:lnTo>
                  <a:pt x="1432" y="627"/>
                </a:lnTo>
                <a:lnTo>
                  <a:pt x="1438" y="633"/>
                </a:lnTo>
                <a:lnTo>
                  <a:pt x="1444" y="639"/>
                </a:lnTo>
                <a:lnTo>
                  <a:pt x="1449" y="651"/>
                </a:lnTo>
                <a:lnTo>
                  <a:pt x="1455" y="657"/>
                </a:lnTo>
                <a:lnTo>
                  <a:pt x="1461" y="663"/>
                </a:lnTo>
                <a:lnTo>
                  <a:pt x="1467" y="674"/>
                </a:lnTo>
                <a:lnTo>
                  <a:pt x="1473" y="680"/>
                </a:lnTo>
                <a:lnTo>
                  <a:pt x="1479" y="686"/>
                </a:lnTo>
                <a:lnTo>
                  <a:pt x="1485" y="692"/>
                </a:lnTo>
                <a:lnTo>
                  <a:pt x="1490" y="704"/>
                </a:lnTo>
                <a:lnTo>
                  <a:pt x="1496" y="710"/>
                </a:lnTo>
                <a:lnTo>
                  <a:pt x="1502" y="715"/>
                </a:lnTo>
                <a:lnTo>
                  <a:pt x="1508" y="727"/>
                </a:lnTo>
                <a:lnTo>
                  <a:pt x="1514" y="733"/>
                </a:lnTo>
                <a:lnTo>
                  <a:pt x="1520" y="745"/>
                </a:lnTo>
                <a:lnTo>
                  <a:pt x="1526" y="751"/>
                </a:lnTo>
                <a:lnTo>
                  <a:pt x="1532" y="757"/>
                </a:lnTo>
                <a:lnTo>
                  <a:pt x="1537" y="768"/>
                </a:lnTo>
                <a:lnTo>
                  <a:pt x="1543" y="774"/>
                </a:lnTo>
                <a:lnTo>
                  <a:pt x="1549" y="780"/>
                </a:lnTo>
                <a:lnTo>
                  <a:pt x="1555" y="792"/>
                </a:lnTo>
                <a:lnTo>
                  <a:pt x="1561" y="798"/>
                </a:lnTo>
                <a:lnTo>
                  <a:pt x="1567" y="803"/>
                </a:lnTo>
                <a:lnTo>
                  <a:pt x="1573" y="815"/>
                </a:lnTo>
                <a:lnTo>
                  <a:pt x="1578" y="821"/>
                </a:lnTo>
                <a:lnTo>
                  <a:pt x="1584" y="833"/>
                </a:lnTo>
                <a:lnTo>
                  <a:pt x="1590" y="839"/>
                </a:lnTo>
                <a:lnTo>
                  <a:pt x="1596" y="844"/>
                </a:lnTo>
                <a:lnTo>
                  <a:pt x="1602" y="856"/>
                </a:lnTo>
                <a:lnTo>
                  <a:pt x="1608" y="862"/>
                </a:lnTo>
                <a:lnTo>
                  <a:pt x="1608" y="874"/>
                </a:lnTo>
                <a:lnTo>
                  <a:pt x="1614" y="880"/>
                </a:lnTo>
                <a:lnTo>
                  <a:pt x="1620" y="886"/>
                </a:lnTo>
                <a:lnTo>
                  <a:pt x="1625" y="897"/>
                </a:lnTo>
                <a:lnTo>
                  <a:pt x="1631" y="903"/>
                </a:lnTo>
                <a:lnTo>
                  <a:pt x="1637" y="909"/>
                </a:lnTo>
                <a:lnTo>
                  <a:pt x="1643" y="921"/>
                </a:lnTo>
                <a:lnTo>
                  <a:pt x="1649" y="927"/>
                </a:lnTo>
                <a:lnTo>
                  <a:pt x="1655" y="938"/>
                </a:lnTo>
                <a:lnTo>
                  <a:pt x="1661" y="944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869000" y="4722840"/>
            <a:ext cx="16812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106" y="118"/>
                </a:moveTo>
                <a:lnTo>
                  <a:pt x="88" y="0"/>
                </a:lnTo>
                <a:lnTo>
                  <a:pt x="0" y="59"/>
                </a:lnTo>
                <a:lnTo>
                  <a:pt x="106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15080" y="4761000"/>
            <a:ext cx="10296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924440" y="48070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962600" y="47703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71840" y="2778120"/>
            <a:ext cx="101520" cy="1144440"/>
          </a:xfrm>
          <a:custGeom>
            <a:avLst/>
            <a:gdLst/>
            <a:ahLst/>
            <a:rect l="l" t="t" r="r" b="b"/>
            <a:pathLst>
              <a:path w="64" h="721">
                <a:moveTo>
                  <a:pt x="0" y="0"/>
                </a:moveTo>
                <a:lnTo>
                  <a:pt x="0" y="5"/>
                </a:lnTo>
                <a:lnTo>
                  <a:pt x="0" y="5"/>
                </a:lnTo>
                <a:lnTo>
                  <a:pt x="0" y="11"/>
                </a:lnTo>
                <a:lnTo>
                  <a:pt x="0" y="17"/>
                </a:lnTo>
                <a:lnTo>
                  <a:pt x="0" y="17"/>
                </a:lnTo>
                <a:lnTo>
                  <a:pt x="0" y="23"/>
                </a:lnTo>
                <a:lnTo>
                  <a:pt x="0" y="29"/>
                </a:lnTo>
                <a:lnTo>
                  <a:pt x="0" y="29"/>
                </a:lnTo>
                <a:lnTo>
                  <a:pt x="0" y="35"/>
                </a:lnTo>
                <a:lnTo>
                  <a:pt x="0" y="41"/>
                </a:lnTo>
                <a:lnTo>
                  <a:pt x="0" y="41"/>
                </a:lnTo>
                <a:lnTo>
                  <a:pt x="6" y="47"/>
                </a:lnTo>
                <a:lnTo>
                  <a:pt x="6" y="52"/>
                </a:lnTo>
                <a:lnTo>
                  <a:pt x="6" y="52"/>
                </a:lnTo>
                <a:lnTo>
                  <a:pt x="6" y="58"/>
                </a:lnTo>
                <a:lnTo>
                  <a:pt x="6" y="64"/>
                </a:lnTo>
                <a:lnTo>
                  <a:pt x="6" y="64"/>
                </a:lnTo>
                <a:lnTo>
                  <a:pt x="6" y="70"/>
                </a:lnTo>
                <a:lnTo>
                  <a:pt x="6" y="76"/>
                </a:lnTo>
                <a:lnTo>
                  <a:pt x="6" y="76"/>
                </a:lnTo>
                <a:lnTo>
                  <a:pt x="6" y="82"/>
                </a:lnTo>
                <a:lnTo>
                  <a:pt x="6" y="88"/>
                </a:lnTo>
                <a:lnTo>
                  <a:pt x="6" y="88"/>
                </a:lnTo>
                <a:lnTo>
                  <a:pt x="12" y="93"/>
                </a:lnTo>
                <a:lnTo>
                  <a:pt x="12" y="99"/>
                </a:lnTo>
                <a:lnTo>
                  <a:pt x="12" y="105"/>
                </a:lnTo>
                <a:lnTo>
                  <a:pt x="12" y="105"/>
                </a:lnTo>
                <a:lnTo>
                  <a:pt x="12" y="111"/>
                </a:lnTo>
                <a:lnTo>
                  <a:pt x="12" y="117"/>
                </a:lnTo>
                <a:lnTo>
                  <a:pt x="12" y="117"/>
                </a:lnTo>
                <a:lnTo>
                  <a:pt x="12" y="123"/>
                </a:lnTo>
                <a:lnTo>
                  <a:pt x="12" y="129"/>
                </a:lnTo>
                <a:lnTo>
                  <a:pt x="12" y="129"/>
                </a:lnTo>
                <a:lnTo>
                  <a:pt x="17" y="135"/>
                </a:lnTo>
                <a:lnTo>
                  <a:pt x="17" y="140"/>
                </a:lnTo>
                <a:lnTo>
                  <a:pt x="17" y="140"/>
                </a:lnTo>
                <a:lnTo>
                  <a:pt x="17" y="146"/>
                </a:lnTo>
                <a:lnTo>
                  <a:pt x="17" y="152"/>
                </a:lnTo>
                <a:lnTo>
                  <a:pt x="17" y="152"/>
                </a:lnTo>
                <a:lnTo>
                  <a:pt x="17" y="158"/>
                </a:lnTo>
                <a:lnTo>
                  <a:pt x="17" y="164"/>
                </a:lnTo>
                <a:lnTo>
                  <a:pt x="23" y="164"/>
                </a:lnTo>
                <a:lnTo>
                  <a:pt x="23" y="170"/>
                </a:lnTo>
                <a:lnTo>
                  <a:pt x="23" y="176"/>
                </a:lnTo>
                <a:lnTo>
                  <a:pt x="23" y="176"/>
                </a:lnTo>
                <a:lnTo>
                  <a:pt x="23" y="181"/>
                </a:lnTo>
                <a:lnTo>
                  <a:pt x="23" y="187"/>
                </a:lnTo>
                <a:lnTo>
                  <a:pt x="23" y="187"/>
                </a:lnTo>
                <a:lnTo>
                  <a:pt x="23" y="193"/>
                </a:lnTo>
                <a:lnTo>
                  <a:pt x="23" y="199"/>
                </a:lnTo>
                <a:lnTo>
                  <a:pt x="29" y="199"/>
                </a:lnTo>
                <a:lnTo>
                  <a:pt x="29" y="205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9" y="222"/>
                </a:lnTo>
                <a:lnTo>
                  <a:pt x="29" y="222"/>
                </a:lnTo>
                <a:lnTo>
                  <a:pt x="29" y="228"/>
                </a:lnTo>
                <a:lnTo>
                  <a:pt x="35" y="234"/>
                </a:lnTo>
                <a:lnTo>
                  <a:pt x="35" y="234"/>
                </a:lnTo>
                <a:lnTo>
                  <a:pt x="35" y="240"/>
                </a:lnTo>
                <a:lnTo>
                  <a:pt x="35" y="246"/>
                </a:lnTo>
                <a:lnTo>
                  <a:pt x="35" y="246"/>
                </a:lnTo>
                <a:lnTo>
                  <a:pt x="35" y="252"/>
                </a:lnTo>
                <a:lnTo>
                  <a:pt x="35" y="258"/>
                </a:lnTo>
                <a:lnTo>
                  <a:pt x="35" y="258"/>
                </a:lnTo>
                <a:lnTo>
                  <a:pt x="35" y="264"/>
                </a:lnTo>
                <a:lnTo>
                  <a:pt x="41" y="269"/>
                </a:lnTo>
                <a:lnTo>
                  <a:pt x="41" y="269"/>
                </a:lnTo>
                <a:lnTo>
                  <a:pt x="41" y="275"/>
                </a:lnTo>
                <a:lnTo>
                  <a:pt x="41" y="281"/>
                </a:lnTo>
                <a:lnTo>
                  <a:pt x="41" y="281"/>
                </a:lnTo>
                <a:lnTo>
                  <a:pt x="41" y="287"/>
                </a:lnTo>
                <a:lnTo>
                  <a:pt x="41" y="293"/>
                </a:lnTo>
                <a:lnTo>
                  <a:pt x="41" y="293"/>
                </a:lnTo>
                <a:lnTo>
                  <a:pt x="47" y="299"/>
                </a:lnTo>
                <a:lnTo>
                  <a:pt x="47" y="305"/>
                </a:lnTo>
                <a:lnTo>
                  <a:pt x="47" y="305"/>
                </a:lnTo>
                <a:lnTo>
                  <a:pt x="47" y="310"/>
                </a:lnTo>
                <a:lnTo>
                  <a:pt x="47" y="316"/>
                </a:lnTo>
                <a:lnTo>
                  <a:pt x="47" y="316"/>
                </a:lnTo>
                <a:lnTo>
                  <a:pt x="47" y="322"/>
                </a:lnTo>
                <a:lnTo>
                  <a:pt x="47" y="328"/>
                </a:lnTo>
                <a:lnTo>
                  <a:pt x="47" y="328"/>
                </a:lnTo>
                <a:lnTo>
                  <a:pt x="47" y="334"/>
                </a:lnTo>
                <a:lnTo>
                  <a:pt x="53" y="340"/>
                </a:lnTo>
                <a:lnTo>
                  <a:pt x="53" y="340"/>
                </a:lnTo>
                <a:lnTo>
                  <a:pt x="53" y="346"/>
                </a:lnTo>
                <a:lnTo>
                  <a:pt x="53" y="352"/>
                </a:lnTo>
                <a:lnTo>
                  <a:pt x="53" y="352"/>
                </a:lnTo>
                <a:lnTo>
                  <a:pt x="53" y="357"/>
                </a:lnTo>
                <a:lnTo>
                  <a:pt x="53" y="363"/>
                </a:lnTo>
                <a:lnTo>
                  <a:pt x="53" y="363"/>
                </a:lnTo>
                <a:lnTo>
                  <a:pt x="53" y="369"/>
                </a:lnTo>
                <a:lnTo>
                  <a:pt x="53" y="375"/>
                </a:lnTo>
                <a:lnTo>
                  <a:pt x="53" y="375"/>
                </a:lnTo>
                <a:lnTo>
                  <a:pt x="53" y="381"/>
                </a:lnTo>
                <a:lnTo>
                  <a:pt x="59" y="387"/>
                </a:lnTo>
                <a:lnTo>
                  <a:pt x="59" y="387"/>
                </a:lnTo>
                <a:lnTo>
                  <a:pt x="59" y="393"/>
                </a:lnTo>
                <a:lnTo>
                  <a:pt x="59" y="393"/>
                </a:lnTo>
                <a:lnTo>
                  <a:pt x="59" y="398"/>
                </a:lnTo>
                <a:lnTo>
                  <a:pt x="59" y="404"/>
                </a:lnTo>
                <a:lnTo>
                  <a:pt x="59" y="404"/>
                </a:lnTo>
                <a:lnTo>
                  <a:pt x="59" y="410"/>
                </a:lnTo>
                <a:lnTo>
                  <a:pt x="59" y="416"/>
                </a:lnTo>
                <a:lnTo>
                  <a:pt x="59" y="416"/>
                </a:lnTo>
                <a:lnTo>
                  <a:pt x="59" y="422"/>
                </a:lnTo>
                <a:lnTo>
                  <a:pt x="59" y="428"/>
                </a:lnTo>
                <a:lnTo>
                  <a:pt x="59" y="428"/>
                </a:lnTo>
                <a:lnTo>
                  <a:pt x="59" y="434"/>
                </a:lnTo>
                <a:lnTo>
                  <a:pt x="59" y="439"/>
                </a:lnTo>
                <a:lnTo>
                  <a:pt x="64" y="439"/>
                </a:lnTo>
                <a:lnTo>
                  <a:pt x="64" y="445"/>
                </a:lnTo>
                <a:lnTo>
                  <a:pt x="64" y="451"/>
                </a:lnTo>
                <a:lnTo>
                  <a:pt x="64" y="451"/>
                </a:lnTo>
                <a:lnTo>
                  <a:pt x="64" y="457"/>
                </a:lnTo>
                <a:lnTo>
                  <a:pt x="64" y="463"/>
                </a:lnTo>
                <a:lnTo>
                  <a:pt x="64" y="463"/>
                </a:lnTo>
                <a:lnTo>
                  <a:pt x="64" y="469"/>
                </a:lnTo>
                <a:lnTo>
                  <a:pt x="64" y="475"/>
                </a:lnTo>
                <a:lnTo>
                  <a:pt x="64" y="475"/>
                </a:lnTo>
                <a:lnTo>
                  <a:pt x="64" y="481"/>
                </a:lnTo>
                <a:lnTo>
                  <a:pt x="64" y="481"/>
                </a:lnTo>
                <a:lnTo>
                  <a:pt x="64" y="486"/>
                </a:lnTo>
                <a:lnTo>
                  <a:pt x="64" y="492"/>
                </a:lnTo>
                <a:lnTo>
                  <a:pt x="64" y="492"/>
                </a:lnTo>
                <a:lnTo>
                  <a:pt x="64" y="498"/>
                </a:lnTo>
                <a:lnTo>
                  <a:pt x="64" y="504"/>
                </a:lnTo>
                <a:lnTo>
                  <a:pt x="64" y="504"/>
                </a:lnTo>
                <a:lnTo>
                  <a:pt x="64" y="510"/>
                </a:lnTo>
                <a:lnTo>
                  <a:pt x="64" y="516"/>
                </a:lnTo>
                <a:lnTo>
                  <a:pt x="64" y="516"/>
                </a:lnTo>
                <a:lnTo>
                  <a:pt x="64" y="522"/>
                </a:lnTo>
                <a:lnTo>
                  <a:pt x="64" y="522"/>
                </a:lnTo>
                <a:lnTo>
                  <a:pt x="64" y="527"/>
                </a:lnTo>
                <a:lnTo>
                  <a:pt x="64" y="533"/>
                </a:lnTo>
                <a:lnTo>
                  <a:pt x="64" y="533"/>
                </a:lnTo>
                <a:lnTo>
                  <a:pt x="64" y="539"/>
                </a:lnTo>
                <a:lnTo>
                  <a:pt x="64" y="539"/>
                </a:lnTo>
                <a:lnTo>
                  <a:pt x="64" y="545"/>
                </a:lnTo>
                <a:lnTo>
                  <a:pt x="64" y="551"/>
                </a:lnTo>
                <a:lnTo>
                  <a:pt x="64" y="551"/>
                </a:lnTo>
                <a:lnTo>
                  <a:pt x="64" y="557"/>
                </a:lnTo>
                <a:lnTo>
                  <a:pt x="64" y="563"/>
                </a:lnTo>
                <a:lnTo>
                  <a:pt x="64" y="563"/>
                </a:lnTo>
                <a:lnTo>
                  <a:pt x="64" y="569"/>
                </a:lnTo>
                <a:lnTo>
                  <a:pt x="64" y="569"/>
                </a:lnTo>
                <a:lnTo>
                  <a:pt x="64" y="574"/>
                </a:lnTo>
                <a:lnTo>
                  <a:pt x="64" y="574"/>
                </a:lnTo>
                <a:lnTo>
                  <a:pt x="64" y="580"/>
                </a:lnTo>
                <a:lnTo>
                  <a:pt x="64" y="586"/>
                </a:lnTo>
                <a:lnTo>
                  <a:pt x="64" y="586"/>
                </a:lnTo>
                <a:lnTo>
                  <a:pt x="64" y="592"/>
                </a:lnTo>
                <a:lnTo>
                  <a:pt x="64" y="592"/>
                </a:lnTo>
                <a:lnTo>
                  <a:pt x="64" y="598"/>
                </a:lnTo>
                <a:lnTo>
                  <a:pt x="64" y="604"/>
                </a:lnTo>
                <a:lnTo>
                  <a:pt x="64" y="604"/>
                </a:lnTo>
                <a:lnTo>
                  <a:pt x="64" y="610"/>
                </a:lnTo>
                <a:lnTo>
                  <a:pt x="64" y="610"/>
                </a:lnTo>
                <a:lnTo>
                  <a:pt x="64" y="615"/>
                </a:lnTo>
                <a:lnTo>
                  <a:pt x="64" y="615"/>
                </a:lnTo>
                <a:lnTo>
                  <a:pt x="64" y="621"/>
                </a:lnTo>
                <a:lnTo>
                  <a:pt x="64" y="621"/>
                </a:lnTo>
                <a:lnTo>
                  <a:pt x="64" y="627"/>
                </a:lnTo>
                <a:lnTo>
                  <a:pt x="64" y="633"/>
                </a:lnTo>
                <a:lnTo>
                  <a:pt x="64" y="633"/>
                </a:lnTo>
                <a:lnTo>
                  <a:pt x="64" y="639"/>
                </a:lnTo>
                <a:lnTo>
                  <a:pt x="64" y="639"/>
                </a:lnTo>
                <a:lnTo>
                  <a:pt x="64" y="645"/>
                </a:lnTo>
                <a:lnTo>
                  <a:pt x="64" y="645"/>
                </a:lnTo>
                <a:lnTo>
                  <a:pt x="64" y="651"/>
                </a:lnTo>
                <a:lnTo>
                  <a:pt x="64" y="651"/>
                </a:lnTo>
                <a:lnTo>
                  <a:pt x="64" y="656"/>
                </a:lnTo>
                <a:lnTo>
                  <a:pt x="64" y="656"/>
                </a:lnTo>
                <a:lnTo>
                  <a:pt x="64" y="662"/>
                </a:lnTo>
                <a:lnTo>
                  <a:pt x="64" y="662"/>
                </a:lnTo>
                <a:lnTo>
                  <a:pt x="64" y="668"/>
                </a:lnTo>
                <a:lnTo>
                  <a:pt x="64" y="668"/>
                </a:lnTo>
                <a:lnTo>
                  <a:pt x="64" y="674"/>
                </a:lnTo>
                <a:lnTo>
                  <a:pt x="64" y="674"/>
                </a:lnTo>
                <a:lnTo>
                  <a:pt x="64" y="680"/>
                </a:lnTo>
                <a:lnTo>
                  <a:pt x="59" y="680"/>
                </a:lnTo>
                <a:lnTo>
                  <a:pt x="59" y="686"/>
                </a:lnTo>
                <a:lnTo>
                  <a:pt x="59" y="686"/>
                </a:lnTo>
                <a:lnTo>
                  <a:pt x="59" y="692"/>
                </a:lnTo>
                <a:lnTo>
                  <a:pt x="59" y="692"/>
                </a:lnTo>
                <a:lnTo>
                  <a:pt x="59" y="692"/>
                </a:lnTo>
                <a:lnTo>
                  <a:pt x="59" y="698"/>
                </a:lnTo>
                <a:lnTo>
                  <a:pt x="59" y="698"/>
                </a:lnTo>
                <a:lnTo>
                  <a:pt x="59" y="703"/>
                </a:lnTo>
                <a:lnTo>
                  <a:pt x="59" y="703"/>
                </a:lnTo>
                <a:lnTo>
                  <a:pt x="59" y="709"/>
                </a:lnTo>
                <a:lnTo>
                  <a:pt x="59" y="709"/>
                </a:lnTo>
                <a:lnTo>
                  <a:pt x="59" y="709"/>
                </a:lnTo>
                <a:lnTo>
                  <a:pt x="59" y="715"/>
                </a:lnTo>
                <a:lnTo>
                  <a:pt x="59" y="715"/>
                </a:lnTo>
                <a:lnTo>
                  <a:pt x="59" y="721"/>
                </a:lnTo>
                <a:lnTo>
                  <a:pt x="59" y="72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90920" y="3867120"/>
            <a:ext cx="157320" cy="176400"/>
          </a:xfrm>
          <a:custGeom>
            <a:avLst/>
            <a:gdLst/>
            <a:ahLst/>
            <a:rect l="l" t="t" r="r" b="b"/>
            <a:pathLst>
              <a:path w="99" h="111">
                <a:moveTo>
                  <a:pt x="35" y="111"/>
                </a:moveTo>
                <a:lnTo>
                  <a:pt x="99" y="12"/>
                </a:lnTo>
                <a:lnTo>
                  <a:pt x="0" y="0"/>
                </a:lnTo>
                <a:lnTo>
                  <a:pt x="35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17920" y="3876840"/>
            <a:ext cx="10332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27280" y="392256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565440" y="3886200"/>
            <a:ext cx="180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22760" y="2778120"/>
            <a:ext cx="1379520" cy="2009880"/>
          </a:xfrm>
          <a:custGeom>
            <a:avLst/>
            <a:gdLst/>
            <a:ahLst/>
            <a:rect l="l" t="t" r="r" b="b"/>
            <a:pathLst>
              <a:path w="869" h="1266">
                <a:moveTo>
                  <a:pt x="0" y="0"/>
                </a:moveTo>
                <a:lnTo>
                  <a:pt x="6" y="5"/>
                </a:lnTo>
                <a:lnTo>
                  <a:pt x="6" y="11"/>
                </a:lnTo>
                <a:lnTo>
                  <a:pt x="12" y="17"/>
                </a:lnTo>
                <a:lnTo>
                  <a:pt x="18" y="17"/>
                </a:lnTo>
                <a:lnTo>
                  <a:pt x="18" y="23"/>
                </a:lnTo>
                <a:lnTo>
                  <a:pt x="24" y="29"/>
                </a:lnTo>
                <a:lnTo>
                  <a:pt x="30" y="35"/>
                </a:lnTo>
                <a:lnTo>
                  <a:pt x="35" y="41"/>
                </a:lnTo>
                <a:lnTo>
                  <a:pt x="35" y="47"/>
                </a:lnTo>
                <a:lnTo>
                  <a:pt x="41" y="52"/>
                </a:lnTo>
                <a:lnTo>
                  <a:pt x="47" y="52"/>
                </a:lnTo>
                <a:lnTo>
                  <a:pt x="53" y="58"/>
                </a:lnTo>
                <a:lnTo>
                  <a:pt x="53" y="64"/>
                </a:lnTo>
                <a:lnTo>
                  <a:pt x="59" y="70"/>
                </a:lnTo>
                <a:lnTo>
                  <a:pt x="65" y="76"/>
                </a:lnTo>
                <a:lnTo>
                  <a:pt x="71" y="82"/>
                </a:lnTo>
                <a:lnTo>
                  <a:pt x="71" y="88"/>
                </a:lnTo>
                <a:lnTo>
                  <a:pt x="77" y="93"/>
                </a:lnTo>
                <a:lnTo>
                  <a:pt x="82" y="99"/>
                </a:lnTo>
                <a:lnTo>
                  <a:pt x="88" y="99"/>
                </a:lnTo>
                <a:lnTo>
                  <a:pt x="88" y="105"/>
                </a:lnTo>
                <a:lnTo>
                  <a:pt x="94" y="111"/>
                </a:lnTo>
                <a:lnTo>
                  <a:pt x="100" y="117"/>
                </a:lnTo>
                <a:lnTo>
                  <a:pt x="106" y="123"/>
                </a:lnTo>
                <a:lnTo>
                  <a:pt x="112" y="129"/>
                </a:lnTo>
                <a:lnTo>
                  <a:pt x="112" y="135"/>
                </a:lnTo>
                <a:lnTo>
                  <a:pt x="118" y="140"/>
                </a:lnTo>
                <a:lnTo>
                  <a:pt x="123" y="146"/>
                </a:lnTo>
                <a:lnTo>
                  <a:pt x="129" y="146"/>
                </a:lnTo>
                <a:lnTo>
                  <a:pt x="135" y="152"/>
                </a:lnTo>
                <a:lnTo>
                  <a:pt x="135" y="158"/>
                </a:lnTo>
                <a:lnTo>
                  <a:pt x="141" y="164"/>
                </a:lnTo>
                <a:lnTo>
                  <a:pt x="147" y="170"/>
                </a:lnTo>
                <a:lnTo>
                  <a:pt x="153" y="176"/>
                </a:lnTo>
                <a:lnTo>
                  <a:pt x="159" y="181"/>
                </a:lnTo>
                <a:lnTo>
                  <a:pt x="159" y="187"/>
                </a:lnTo>
                <a:lnTo>
                  <a:pt x="165" y="193"/>
                </a:lnTo>
                <a:lnTo>
                  <a:pt x="170" y="199"/>
                </a:lnTo>
                <a:lnTo>
                  <a:pt x="176" y="205"/>
                </a:lnTo>
                <a:lnTo>
                  <a:pt x="182" y="205"/>
                </a:lnTo>
                <a:lnTo>
                  <a:pt x="182" y="211"/>
                </a:lnTo>
                <a:lnTo>
                  <a:pt x="188" y="217"/>
                </a:lnTo>
                <a:lnTo>
                  <a:pt x="194" y="222"/>
                </a:lnTo>
                <a:lnTo>
                  <a:pt x="200" y="228"/>
                </a:lnTo>
                <a:lnTo>
                  <a:pt x="206" y="234"/>
                </a:lnTo>
                <a:lnTo>
                  <a:pt x="212" y="240"/>
                </a:lnTo>
                <a:lnTo>
                  <a:pt x="212" y="246"/>
                </a:lnTo>
                <a:lnTo>
                  <a:pt x="217" y="252"/>
                </a:lnTo>
                <a:lnTo>
                  <a:pt x="223" y="258"/>
                </a:lnTo>
                <a:lnTo>
                  <a:pt x="229" y="264"/>
                </a:lnTo>
                <a:lnTo>
                  <a:pt x="235" y="269"/>
                </a:lnTo>
                <a:lnTo>
                  <a:pt x="241" y="275"/>
                </a:lnTo>
                <a:lnTo>
                  <a:pt x="247" y="281"/>
                </a:lnTo>
                <a:lnTo>
                  <a:pt x="247" y="287"/>
                </a:lnTo>
                <a:lnTo>
                  <a:pt x="253" y="287"/>
                </a:lnTo>
                <a:lnTo>
                  <a:pt x="258" y="293"/>
                </a:lnTo>
                <a:lnTo>
                  <a:pt x="264" y="299"/>
                </a:lnTo>
                <a:lnTo>
                  <a:pt x="270" y="305"/>
                </a:lnTo>
                <a:lnTo>
                  <a:pt x="276" y="310"/>
                </a:lnTo>
                <a:lnTo>
                  <a:pt x="276" y="316"/>
                </a:lnTo>
                <a:lnTo>
                  <a:pt x="282" y="322"/>
                </a:lnTo>
                <a:lnTo>
                  <a:pt x="288" y="328"/>
                </a:lnTo>
                <a:lnTo>
                  <a:pt x="294" y="334"/>
                </a:lnTo>
                <a:lnTo>
                  <a:pt x="300" y="340"/>
                </a:lnTo>
                <a:lnTo>
                  <a:pt x="305" y="346"/>
                </a:lnTo>
                <a:lnTo>
                  <a:pt x="305" y="352"/>
                </a:lnTo>
                <a:lnTo>
                  <a:pt x="311" y="357"/>
                </a:lnTo>
                <a:lnTo>
                  <a:pt x="317" y="363"/>
                </a:lnTo>
                <a:lnTo>
                  <a:pt x="323" y="369"/>
                </a:lnTo>
                <a:lnTo>
                  <a:pt x="329" y="375"/>
                </a:lnTo>
                <a:lnTo>
                  <a:pt x="335" y="381"/>
                </a:lnTo>
                <a:lnTo>
                  <a:pt x="341" y="387"/>
                </a:lnTo>
                <a:lnTo>
                  <a:pt x="341" y="393"/>
                </a:lnTo>
                <a:lnTo>
                  <a:pt x="346" y="398"/>
                </a:lnTo>
                <a:lnTo>
                  <a:pt x="352" y="404"/>
                </a:lnTo>
                <a:lnTo>
                  <a:pt x="358" y="410"/>
                </a:lnTo>
                <a:lnTo>
                  <a:pt x="364" y="416"/>
                </a:lnTo>
                <a:lnTo>
                  <a:pt x="370" y="422"/>
                </a:lnTo>
                <a:lnTo>
                  <a:pt x="370" y="428"/>
                </a:lnTo>
                <a:lnTo>
                  <a:pt x="376" y="434"/>
                </a:lnTo>
                <a:lnTo>
                  <a:pt x="382" y="439"/>
                </a:lnTo>
                <a:lnTo>
                  <a:pt x="388" y="445"/>
                </a:lnTo>
                <a:lnTo>
                  <a:pt x="393" y="451"/>
                </a:lnTo>
                <a:lnTo>
                  <a:pt x="399" y="457"/>
                </a:lnTo>
                <a:lnTo>
                  <a:pt x="399" y="463"/>
                </a:lnTo>
                <a:lnTo>
                  <a:pt x="405" y="469"/>
                </a:lnTo>
                <a:lnTo>
                  <a:pt x="411" y="475"/>
                </a:lnTo>
                <a:lnTo>
                  <a:pt x="417" y="481"/>
                </a:lnTo>
                <a:lnTo>
                  <a:pt x="423" y="486"/>
                </a:lnTo>
                <a:lnTo>
                  <a:pt x="429" y="492"/>
                </a:lnTo>
                <a:lnTo>
                  <a:pt x="429" y="498"/>
                </a:lnTo>
                <a:lnTo>
                  <a:pt x="434" y="504"/>
                </a:lnTo>
                <a:lnTo>
                  <a:pt x="440" y="510"/>
                </a:lnTo>
                <a:lnTo>
                  <a:pt x="446" y="516"/>
                </a:lnTo>
                <a:lnTo>
                  <a:pt x="452" y="522"/>
                </a:lnTo>
                <a:lnTo>
                  <a:pt x="452" y="527"/>
                </a:lnTo>
                <a:lnTo>
                  <a:pt x="458" y="533"/>
                </a:lnTo>
                <a:lnTo>
                  <a:pt x="464" y="539"/>
                </a:lnTo>
                <a:lnTo>
                  <a:pt x="470" y="545"/>
                </a:lnTo>
                <a:lnTo>
                  <a:pt x="476" y="551"/>
                </a:lnTo>
                <a:lnTo>
                  <a:pt x="476" y="557"/>
                </a:lnTo>
                <a:lnTo>
                  <a:pt x="481" y="563"/>
                </a:lnTo>
                <a:lnTo>
                  <a:pt x="487" y="569"/>
                </a:lnTo>
                <a:lnTo>
                  <a:pt x="493" y="574"/>
                </a:lnTo>
                <a:lnTo>
                  <a:pt x="499" y="580"/>
                </a:lnTo>
                <a:lnTo>
                  <a:pt x="499" y="586"/>
                </a:lnTo>
                <a:lnTo>
                  <a:pt x="505" y="598"/>
                </a:lnTo>
                <a:lnTo>
                  <a:pt x="511" y="604"/>
                </a:lnTo>
                <a:lnTo>
                  <a:pt x="517" y="610"/>
                </a:lnTo>
                <a:lnTo>
                  <a:pt x="522" y="615"/>
                </a:lnTo>
                <a:lnTo>
                  <a:pt x="522" y="621"/>
                </a:lnTo>
                <a:lnTo>
                  <a:pt x="528" y="627"/>
                </a:lnTo>
                <a:lnTo>
                  <a:pt x="534" y="633"/>
                </a:lnTo>
                <a:lnTo>
                  <a:pt x="540" y="639"/>
                </a:lnTo>
                <a:lnTo>
                  <a:pt x="546" y="645"/>
                </a:lnTo>
                <a:lnTo>
                  <a:pt x="546" y="651"/>
                </a:lnTo>
                <a:lnTo>
                  <a:pt x="552" y="656"/>
                </a:lnTo>
                <a:lnTo>
                  <a:pt x="558" y="662"/>
                </a:lnTo>
                <a:lnTo>
                  <a:pt x="564" y="668"/>
                </a:lnTo>
                <a:lnTo>
                  <a:pt x="564" y="680"/>
                </a:lnTo>
                <a:lnTo>
                  <a:pt x="569" y="686"/>
                </a:lnTo>
                <a:lnTo>
                  <a:pt x="575" y="692"/>
                </a:lnTo>
                <a:lnTo>
                  <a:pt x="581" y="698"/>
                </a:lnTo>
                <a:lnTo>
                  <a:pt x="581" y="703"/>
                </a:lnTo>
                <a:lnTo>
                  <a:pt x="587" y="709"/>
                </a:lnTo>
                <a:lnTo>
                  <a:pt x="593" y="715"/>
                </a:lnTo>
                <a:lnTo>
                  <a:pt x="599" y="721"/>
                </a:lnTo>
                <a:lnTo>
                  <a:pt x="599" y="727"/>
                </a:lnTo>
                <a:lnTo>
                  <a:pt x="605" y="739"/>
                </a:lnTo>
                <a:lnTo>
                  <a:pt x="610" y="744"/>
                </a:lnTo>
                <a:lnTo>
                  <a:pt x="616" y="750"/>
                </a:lnTo>
                <a:lnTo>
                  <a:pt x="616" y="756"/>
                </a:lnTo>
                <a:lnTo>
                  <a:pt x="622" y="762"/>
                </a:lnTo>
                <a:lnTo>
                  <a:pt x="628" y="768"/>
                </a:lnTo>
                <a:lnTo>
                  <a:pt x="634" y="774"/>
                </a:lnTo>
                <a:lnTo>
                  <a:pt x="634" y="786"/>
                </a:lnTo>
                <a:lnTo>
                  <a:pt x="640" y="791"/>
                </a:lnTo>
                <a:lnTo>
                  <a:pt x="646" y="797"/>
                </a:lnTo>
                <a:lnTo>
                  <a:pt x="646" y="803"/>
                </a:lnTo>
                <a:lnTo>
                  <a:pt x="652" y="809"/>
                </a:lnTo>
                <a:lnTo>
                  <a:pt x="657" y="815"/>
                </a:lnTo>
                <a:lnTo>
                  <a:pt x="663" y="827"/>
                </a:lnTo>
                <a:lnTo>
                  <a:pt x="663" y="832"/>
                </a:lnTo>
                <a:lnTo>
                  <a:pt x="669" y="838"/>
                </a:lnTo>
                <a:lnTo>
                  <a:pt x="675" y="844"/>
                </a:lnTo>
                <a:lnTo>
                  <a:pt x="675" y="850"/>
                </a:lnTo>
                <a:lnTo>
                  <a:pt x="681" y="862"/>
                </a:lnTo>
                <a:lnTo>
                  <a:pt x="687" y="868"/>
                </a:lnTo>
                <a:lnTo>
                  <a:pt x="687" y="873"/>
                </a:lnTo>
                <a:lnTo>
                  <a:pt x="693" y="879"/>
                </a:lnTo>
                <a:lnTo>
                  <a:pt x="698" y="885"/>
                </a:lnTo>
                <a:lnTo>
                  <a:pt x="704" y="897"/>
                </a:lnTo>
                <a:lnTo>
                  <a:pt x="704" y="903"/>
                </a:lnTo>
                <a:lnTo>
                  <a:pt x="710" y="909"/>
                </a:lnTo>
                <a:lnTo>
                  <a:pt x="716" y="915"/>
                </a:lnTo>
                <a:lnTo>
                  <a:pt x="716" y="920"/>
                </a:lnTo>
                <a:lnTo>
                  <a:pt x="722" y="932"/>
                </a:lnTo>
                <a:lnTo>
                  <a:pt x="728" y="938"/>
                </a:lnTo>
                <a:lnTo>
                  <a:pt x="728" y="944"/>
                </a:lnTo>
                <a:lnTo>
                  <a:pt x="734" y="950"/>
                </a:lnTo>
                <a:lnTo>
                  <a:pt x="740" y="961"/>
                </a:lnTo>
                <a:lnTo>
                  <a:pt x="740" y="967"/>
                </a:lnTo>
                <a:lnTo>
                  <a:pt x="745" y="973"/>
                </a:lnTo>
                <a:lnTo>
                  <a:pt x="745" y="985"/>
                </a:lnTo>
                <a:lnTo>
                  <a:pt x="751" y="991"/>
                </a:lnTo>
                <a:lnTo>
                  <a:pt x="757" y="997"/>
                </a:lnTo>
                <a:lnTo>
                  <a:pt x="757" y="1003"/>
                </a:lnTo>
                <a:lnTo>
                  <a:pt x="763" y="1014"/>
                </a:lnTo>
                <a:lnTo>
                  <a:pt x="769" y="1020"/>
                </a:lnTo>
                <a:lnTo>
                  <a:pt x="769" y="1026"/>
                </a:lnTo>
                <a:lnTo>
                  <a:pt x="775" y="1038"/>
                </a:lnTo>
                <a:lnTo>
                  <a:pt x="781" y="1044"/>
                </a:lnTo>
                <a:lnTo>
                  <a:pt x="781" y="1049"/>
                </a:lnTo>
                <a:lnTo>
                  <a:pt x="786" y="1061"/>
                </a:lnTo>
                <a:lnTo>
                  <a:pt x="786" y="1067"/>
                </a:lnTo>
                <a:lnTo>
                  <a:pt x="792" y="1073"/>
                </a:lnTo>
                <a:lnTo>
                  <a:pt x="798" y="1085"/>
                </a:lnTo>
                <a:lnTo>
                  <a:pt x="798" y="1091"/>
                </a:lnTo>
                <a:lnTo>
                  <a:pt x="804" y="1096"/>
                </a:lnTo>
                <a:lnTo>
                  <a:pt x="804" y="1108"/>
                </a:lnTo>
                <a:lnTo>
                  <a:pt x="810" y="1114"/>
                </a:lnTo>
                <a:lnTo>
                  <a:pt x="816" y="1120"/>
                </a:lnTo>
                <a:lnTo>
                  <a:pt x="816" y="1132"/>
                </a:lnTo>
                <a:lnTo>
                  <a:pt x="822" y="1137"/>
                </a:lnTo>
                <a:lnTo>
                  <a:pt x="822" y="1149"/>
                </a:lnTo>
                <a:lnTo>
                  <a:pt x="828" y="1155"/>
                </a:lnTo>
                <a:lnTo>
                  <a:pt x="828" y="1161"/>
                </a:lnTo>
                <a:lnTo>
                  <a:pt x="833" y="1173"/>
                </a:lnTo>
                <a:lnTo>
                  <a:pt x="839" y="1178"/>
                </a:lnTo>
                <a:lnTo>
                  <a:pt x="839" y="1190"/>
                </a:lnTo>
                <a:lnTo>
                  <a:pt x="845" y="1196"/>
                </a:lnTo>
                <a:lnTo>
                  <a:pt x="845" y="1208"/>
                </a:lnTo>
                <a:lnTo>
                  <a:pt x="851" y="1214"/>
                </a:lnTo>
                <a:lnTo>
                  <a:pt x="851" y="1225"/>
                </a:lnTo>
                <a:lnTo>
                  <a:pt x="857" y="1231"/>
                </a:lnTo>
                <a:lnTo>
                  <a:pt x="857" y="1243"/>
                </a:lnTo>
                <a:lnTo>
                  <a:pt x="863" y="1249"/>
                </a:lnTo>
                <a:lnTo>
                  <a:pt x="863" y="1255"/>
                </a:lnTo>
                <a:lnTo>
                  <a:pt x="869" y="126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008680" y="4722840"/>
            <a:ext cx="158760" cy="187200"/>
          </a:xfrm>
          <a:custGeom>
            <a:avLst/>
            <a:gdLst/>
            <a:ahLst/>
            <a:rect l="l" t="t" r="r" b="b"/>
            <a:pathLst>
              <a:path w="100" h="118">
                <a:moveTo>
                  <a:pt x="88" y="118"/>
                </a:moveTo>
                <a:lnTo>
                  <a:pt x="100" y="0"/>
                </a:lnTo>
                <a:lnTo>
                  <a:pt x="0" y="36"/>
                </a:lnTo>
                <a:lnTo>
                  <a:pt x="88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054760" y="474192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064120" y="47880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02280" y="475128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984480" y="2795760"/>
            <a:ext cx="893880" cy="1155600"/>
          </a:xfrm>
          <a:custGeom>
            <a:avLst/>
            <a:gdLst/>
            <a:ahLst/>
            <a:rect l="l" t="t" r="r" b="b"/>
            <a:pathLst>
              <a:path w="563" h="728">
                <a:moveTo>
                  <a:pt x="563" y="0"/>
                </a:moveTo>
                <a:lnTo>
                  <a:pt x="557" y="6"/>
                </a:lnTo>
                <a:lnTo>
                  <a:pt x="557" y="12"/>
                </a:lnTo>
                <a:lnTo>
                  <a:pt x="551" y="18"/>
                </a:lnTo>
                <a:lnTo>
                  <a:pt x="551" y="24"/>
                </a:lnTo>
                <a:lnTo>
                  <a:pt x="551" y="24"/>
                </a:lnTo>
                <a:lnTo>
                  <a:pt x="545" y="30"/>
                </a:lnTo>
                <a:lnTo>
                  <a:pt x="545" y="36"/>
                </a:lnTo>
                <a:lnTo>
                  <a:pt x="539" y="41"/>
                </a:lnTo>
                <a:lnTo>
                  <a:pt x="539" y="47"/>
                </a:lnTo>
                <a:lnTo>
                  <a:pt x="533" y="53"/>
                </a:lnTo>
                <a:lnTo>
                  <a:pt x="533" y="59"/>
                </a:lnTo>
                <a:lnTo>
                  <a:pt x="528" y="59"/>
                </a:lnTo>
                <a:lnTo>
                  <a:pt x="528" y="65"/>
                </a:lnTo>
                <a:lnTo>
                  <a:pt x="522" y="71"/>
                </a:lnTo>
                <a:lnTo>
                  <a:pt x="522" y="77"/>
                </a:lnTo>
                <a:lnTo>
                  <a:pt x="516" y="82"/>
                </a:lnTo>
                <a:lnTo>
                  <a:pt x="516" y="88"/>
                </a:lnTo>
                <a:lnTo>
                  <a:pt x="510" y="94"/>
                </a:lnTo>
                <a:lnTo>
                  <a:pt x="510" y="94"/>
                </a:lnTo>
                <a:lnTo>
                  <a:pt x="504" y="100"/>
                </a:lnTo>
                <a:lnTo>
                  <a:pt x="504" y="106"/>
                </a:lnTo>
                <a:lnTo>
                  <a:pt x="498" y="112"/>
                </a:lnTo>
                <a:lnTo>
                  <a:pt x="498" y="118"/>
                </a:lnTo>
                <a:lnTo>
                  <a:pt x="492" y="124"/>
                </a:lnTo>
                <a:lnTo>
                  <a:pt x="492" y="124"/>
                </a:lnTo>
                <a:lnTo>
                  <a:pt x="487" y="129"/>
                </a:lnTo>
                <a:lnTo>
                  <a:pt x="487" y="135"/>
                </a:lnTo>
                <a:lnTo>
                  <a:pt x="481" y="141"/>
                </a:lnTo>
                <a:lnTo>
                  <a:pt x="481" y="147"/>
                </a:lnTo>
                <a:lnTo>
                  <a:pt x="475" y="147"/>
                </a:lnTo>
                <a:lnTo>
                  <a:pt x="475" y="153"/>
                </a:lnTo>
                <a:lnTo>
                  <a:pt x="469" y="159"/>
                </a:lnTo>
                <a:lnTo>
                  <a:pt x="469" y="165"/>
                </a:lnTo>
                <a:lnTo>
                  <a:pt x="463" y="170"/>
                </a:lnTo>
                <a:lnTo>
                  <a:pt x="463" y="176"/>
                </a:lnTo>
                <a:lnTo>
                  <a:pt x="457" y="176"/>
                </a:lnTo>
                <a:lnTo>
                  <a:pt x="457" y="182"/>
                </a:lnTo>
                <a:lnTo>
                  <a:pt x="457" y="188"/>
                </a:lnTo>
                <a:lnTo>
                  <a:pt x="451" y="194"/>
                </a:lnTo>
                <a:lnTo>
                  <a:pt x="451" y="200"/>
                </a:lnTo>
                <a:lnTo>
                  <a:pt x="445" y="200"/>
                </a:lnTo>
                <a:lnTo>
                  <a:pt x="445" y="206"/>
                </a:lnTo>
                <a:lnTo>
                  <a:pt x="440" y="211"/>
                </a:lnTo>
                <a:lnTo>
                  <a:pt x="440" y="217"/>
                </a:lnTo>
                <a:lnTo>
                  <a:pt x="434" y="223"/>
                </a:lnTo>
                <a:lnTo>
                  <a:pt x="434" y="223"/>
                </a:lnTo>
                <a:lnTo>
                  <a:pt x="428" y="229"/>
                </a:lnTo>
                <a:lnTo>
                  <a:pt x="428" y="235"/>
                </a:lnTo>
                <a:lnTo>
                  <a:pt x="422" y="241"/>
                </a:lnTo>
                <a:lnTo>
                  <a:pt x="422" y="241"/>
                </a:lnTo>
                <a:lnTo>
                  <a:pt x="416" y="247"/>
                </a:lnTo>
                <a:lnTo>
                  <a:pt x="416" y="253"/>
                </a:lnTo>
                <a:lnTo>
                  <a:pt x="410" y="258"/>
                </a:lnTo>
                <a:lnTo>
                  <a:pt x="410" y="264"/>
                </a:lnTo>
                <a:lnTo>
                  <a:pt x="404" y="264"/>
                </a:lnTo>
                <a:lnTo>
                  <a:pt x="404" y="270"/>
                </a:lnTo>
                <a:lnTo>
                  <a:pt x="399" y="276"/>
                </a:lnTo>
                <a:lnTo>
                  <a:pt x="399" y="282"/>
                </a:lnTo>
                <a:lnTo>
                  <a:pt x="393" y="282"/>
                </a:lnTo>
                <a:lnTo>
                  <a:pt x="393" y="288"/>
                </a:lnTo>
                <a:lnTo>
                  <a:pt x="387" y="294"/>
                </a:lnTo>
                <a:lnTo>
                  <a:pt x="387" y="299"/>
                </a:lnTo>
                <a:lnTo>
                  <a:pt x="381" y="299"/>
                </a:lnTo>
                <a:lnTo>
                  <a:pt x="381" y="305"/>
                </a:lnTo>
                <a:lnTo>
                  <a:pt x="375" y="311"/>
                </a:lnTo>
                <a:lnTo>
                  <a:pt x="375" y="317"/>
                </a:lnTo>
                <a:lnTo>
                  <a:pt x="369" y="317"/>
                </a:lnTo>
                <a:lnTo>
                  <a:pt x="369" y="323"/>
                </a:lnTo>
                <a:lnTo>
                  <a:pt x="363" y="329"/>
                </a:lnTo>
                <a:lnTo>
                  <a:pt x="363" y="329"/>
                </a:lnTo>
                <a:lnTo>
                  <a:pt x="357" y="335"/>
                </a:lnTo>
                <a:lnTo>
                  <a:pt x="357" y="341"/>
                </a:lnTo>
                <a:lnTo>
                  <a:pt x="352" y="346"/>
                </a:lnTo>
                <a:lnTo>
                  <a:pt x="352" y="346"/>
                </a:lnTo>
                <a:lnTo>
                  <a:pt x="346" y="352"/>
                </a:lnTo>
                <a:lnTo>
                  <a:pt x="346" y="358"/>
                </a:lnTo>
                <a:lnTo>
                  <a:pt x="340" y="364"/>
                </a:lnTo>
                <a:lnTo>
                  <a:pt x="340" y="364"/>
                </a:lnTo>
                <a:lnTo>
                  <a:pt x="334" y="370"/>
                </a:lnTo>
                <a:lnTo>
                  <a:pt x="334" y="376"/>
                </a:lnTo>
                <a:lnTo>
                  <a:pt x="328" y="376"/>
                </a:lnTo>
                <a:lnTo>
                  <a:pt x="328" y="382"/>
                </a:lnTo>
                <a:lnTo>
                  <a:pt x="322" y="387"/>
                </a:lnTo>
                <a:lnTo>
                  <a:pt x="322" y="393"/>
                </a:lnTo>
                <a:lnTo>
                  <a:pt x="316" y="393"/>
                </a:lnTo>
                <a:lnTo>
                  <a:pt x="316" y="399"/>
                </a:lnTo>
                <a:lnTo>
                  <a:pt x="311" y="405"/>
                </a:lnTo>
                <a:lnTo>
                  <a:pt x="311" y="405"/>
                </a:lnTo>
                <a:lnTo>
                  <a:pt x="305" y="411"/>
                </a:lnTo>
                <a:lnTo>
                  <a:pt x="305" y="417"/>
                </a:lnTo>
                <a:lnTo>
                  <a:pt x="299" y="417"/>
                </a:lnTo>
                <a:lnTo>
                  <a:pt x="299" y="423"/>
                </a:lnTo>
                <a:lnTo>
                  <a:pt x="293" y="428"/>
                </a:lnTo>
                <a:lnTo>
                  <a:pt x="287" y="428"/>
                </a:lnTo>
                <a:lnTo>
                  <a:pt x="287" y="434"/>
                </a:lnTo>
                <a:lnTo>
                  <a:pt x="281" y="440"/>
                </a:lnTo>
                <a:lnTo>
                  <a:pt x="281" y="440"/>
                </a:lnTo>
                <a:lnTo>
                  <a:pt x="275" y="446"/>
                </a:lnTo>
                <a:lnTo>
                  <a:pt x="275" y="452"/>
                </a:lnTo>
                <a:lnTo>
                  <a:pt x="269" y="452"/>
                </a:lnTo>
                <a:lnTo>
                  <a:pt x="269" y="458"/>
                </a:lnTo>
                <a:lnTo>
                  <a:pt x="264" y="464"/>
                </a:lnTo>
                <a:lnTo>
                  <a:pt x="264" y="464"/>
                </a:lnTo>
                <a:lnTo>
                  <a:pt x="258" y="470"/>
                </a:lnTo>
                <a:lnTo>
                  <a:pt x="258" y="475"/>
                </a:lnTo>
                <a:lnTo>
                  <a:pt x="252" y="475"/>
                </a:lnTo>
                <a:lnTo>
                  <a:pt x="252" y="481"/>
                </a:lnTo>
                <a:lnTo>
                  <a:pt x="246" y="481"/>
                </a:lnTo>
                <a:lnTo>
                  <a:pt x="246" y="487"/>
                </a:lnTo>
                <a:lnTo>
                  <a:pt x="240" y="493"/>
                </a:lnTo>
                <a:lnTo>
                  <a:pt x="240" y="493"/>
                </a:lnTo>
                <a:lnTo>
                  <a:pt x="234" y="499"/>
                </a:lnTo>
                <a:lnTo>
                  <a:pt x="228" y="505"/>
                </a:lnTo>
                <a:lnTo>
                  <a:pt x="228" y="505"/>
                </a:lnTo>
                <a:lnTo>
                  <a:pt x="223" y="511"/>
                </a:lnTo>
                <a:lnTo>
                  <a:pt x="223" y="511"/>
                </a:lnTo>
                <a:lnTo>
                  <a:pt x="217" y="516"/>
                </a:lnTo>
                <a:lnTo>
                  <a:pt x="217" y="522"/>
                </a:lnTo>
                <a:lnTo>
                  <a:pt x="211" y="522"/>
                </a:lnTo>
                <a:lnTo>
                  <a:pt x="211" y="528"/>
                </a:lnTo>
                <a:lnTo>
                  <a:pt x="205" y="528"/>
                </a:lnTo>
                <a:lnTo>
                  <a:pt x="205" y="534"/>
                </a:lnTo>
                <a:lnTo>
                  <a:pt x="199" y="540"/>
                </a:lnTo>
                <a:lnTo>
                  <a:pt x="199" y="540"/>
                </a:lnTo>
                <a:lnTo>
                  <a:pt x="193" y="546"/>
                </a:lnTo>
                <a:lnTo>
                  <a:pt x="193" y="546"/>
                </a:lnTo>
                <a:lnTo>
                  <a:pt x="187" y="552"/>
                </a:lnTo>
                <a:lnTo>
                  <a:pt x="181" y="552"/>
                </a:lnTo>
                <a:lnTo>
                  <a:pt x="181" y="558"/>
                </a:lnTo>
                <a:lnTo>
                  <a:pt x="176" y="563"/>
                </a:lnTo>
                <a:lnTo>
                  <a:pt x="176" y="563"/>
                </a:lnTo>
                <a:lnTo>
                  <a:pt x="170" y="569"/>
                </a:lnTo>
                <a:lnTo>
                  <a:pt x="170" y="569"/>
                </a:lnTo>
                <a:lnTo>
                  <a:pt x="164" y="575"/>
                </a:lnTo>
                <a:lnTo>
                  <a:pt x="164" y="575"/>
                </a:lnTo>
                <a:lnTo>
                  <a:pt x="158" y="581"/>
                </a:lnTo>
                <a:lnTo>
                  <a:pt x="158" y="581"/>
                </a:lnTo>
                <a:lnTo>
                  <a:pt x="152" y="587"/>
                </a:lnTo>
                <a:lnTo>
                  <a:pt x="152" y="593"/>
                </a:lnTo>
                <a:lnTo>
                  <a:pt x="146" y="593"/>
                </a:lnTo>
                <a:lnTo>
                  <a:pt x="146" y="599"/>
                </a:lnTo>
                <a:lnTo>
                  <a:pt x="140" y="599"/>
                </a:lnTo>
                <a:lnTo>
                  <a:pt x="140" y="604"/>
                </a:lnTo>
                <a:lnTo>
                  <a:pt x="135" y="604"/>
                </a:lnTo>
                <a:lnTo>
                  <a:pt x="135" y="610"/>
                </a:lnTo>
                <a:lnTo>
                  <a:pt x="129" y="610"/>
                </a:lnTo>
                <a:lnTo>
                  <a:pt x="129" y="616"/>
                </a:lnTo>
                <a:lnTo>
                  <a:pt x="123" y="616"/>
                </a:lnTo>
                <a:lnTo>
                  <a:pt x="123" y="622"/>
                </a:lnTo>
                <a:lnTo>
                  <a:pt x="117" y="622"/>
                </a:lnTo>
                <a:lnTo>
                  <a:pt x="117" y="628"/>
                </a:lnTo>
                <a:lnTo>
                  <a:pt x="111" y="628"/>
                </a:lnTo>
                <a:lnTo>
                  <a:pt x="111" y="634"/>
                </a:lnTo>
                <a:lnTo>
                  <a:pt x="105" y="634"/>
                </a:lnTo>
                <a:lnTo>
                  <a:pt x="105" y="634"/>
                </a:lnTo>
                <a:lnTo>
                  <a:pt x="99" y="640"/>
                </a:lnTo>
                <a:lnTo>
                  <a:pt x="99" y="640"/>
                </a:lnTo>
                <a:lnTo>
                  <a:pt x="93" y="645"/>
                </a:lnTo>
                <a:lnTo>
                  <a:pt x="93" y="645"/>
                </a:lnTo>
                <a:lnTo>
                  <a:pt x="88" y="651"/>
                </a:lnTo>
                <a:lnTo>
                  <a:pt x="88" y="651"/>
                </a:lnTo>
                <a:lnTo>
                  <a:pt x="82" y="657"/>
                </a:lnTo>
                <a:lnTo>
                  <a:pt x="82" y="657"/>
                </a:lnTo>
                <a:lnTo>
                  <a:pt x="76" y="657"/>
                </a:lnTo>
                <a:lnTo>
                  <a:pt x="76" y="663"/>
                </a:lnTo>
                <a:lnTo>
                  <a:pt x="70" y="663"/>
                </a:lnTo>
                <a:lnTo>
                  <a:pt x="70" y="669"/>
                </a:lnTo>
                <a:lnTo>
                  <a:pt x="70" y="669"/>
                </a:lnTo>
                <a:lnTo>
                  <a:pt x="64" y="675"/>
                </a:lnTo>
                <a:lnTo>
                  <a:pt x="64" y="675"/>
                </a:lnTo>
                <a:lnTo>
                  <a:pt x="58" y="675"/>
                </a:lnTo>
                <a:lnTo>
                  <a:pt x="58" y="681"/>
                </a:lnTo>
                <a:lnTo>
                  <a:pt x="52" y="681"/>
                </a:lnTo>
                <a:lnTo>
                  <a:pt x="52" y="681"/>
                </a:lnTo>
                <a:lnTo>
                  <a:pt x="52" y="687"/>
                </a:lnTo>
                <a:lnTo>
                  <a:pt x="47" y="687"/>
                </a:lnTo>
                <a:lnTo>
                  <a:pt x="47" y="692"/>
                </a:lnTo>
                <a:lnTo>
                  <a:pt x="41" y="692"/>
                </a:lnTo>
                <a:lnTo>
                  <a:pt x="41" y="692"/>
                </a:lnTo>
                <a:lnTo>
                  <a:pt x="35" y="698"/>
                </a:lnTo>
                <a:lnTo>
                  <a:pt x="35" y="698"/>
                </a:lnTo>
                <a:lnTo>
                  <a:pt x="35" y="698"/>
                </a:lnTo>
                <a:lnTo>
                  <a:pt x="29" y="704"/>
                </a:lnTo>
                <a:lnTo>
                  <a:pt x="29" y="704"/>
                </a:lnTo>
                <a:lnTo>
                  <a:pt x="29" y="704"/>
                </a:lnTo>
                <a:lnTo>
                  <a:pt x="23" y="710"/>
                </a:lnTo>
                <a:lnTo>
                  <a:pt x="23" y="710"/>
                </a:lnTo>
                <a:lnTo>
                  <a:pt x="17" y="710"/>
                </a:lnTo>
                <a:lnTo>
                  <a:pt x="17" y="710"/>
                </a:lnTo>
                <a:lnTo>
                  <a:pt x="17" y="716"/>
                </a:lnTo>
                <a:lnTo>
                  <a:pt x="11" y="716"/>
                </a:lnTo>
                <a:lnTo>
                  <a:pt x="11" y="716"/>
                </a:lnTo>
                <a:lnTo>
                  <a:pt x="11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2"/>
                </a:lnTo>
                <a:lnTo>
                  <a:pt x="5" y="728"/>
                </a:lnTo>
                <a:lnTo>
                  <a:pt x="0" y="728"/>
                </a:lnTo>
                <a:lnTo>
                  <a:pt x="0" y="728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880" y="3867120"/>
            <a:ext cx="17640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936960" y="3903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46680" y="395136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84480" y="3913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176800" y="2787480"/>
            <a:ext cx="231840" cy="1992600"/>
          </a:xfrm>
          <a:custGeom>
            <a:avLst/>
            <a:gdLst/>
            <a:ahLst/>
            <a:rect l="l" t="t" r="r" b="b"/>
            <a:pathLst>
              <a:path w="146" h="1255">
                <a:moveTo>
                  <a:pt x="0" y="0"/>
                </a:moveTo>
                <a:lnTo>
                  <a:pt x="0" y="6"/>
                </a:lnTo>
                <a:lnTo>
                  <a:pt x="5" y="12"/>
                </a:lnTo>
                <a:lnTo>
                  <a:pt x="5" y="18"/>
                </a:lnTo>
                <a:lnTo>
                  <a:pt x="5" y="24"/>
                </a:lnTo>
                <a:lnTo>
                  <a:pt x="11" y="30"/>
                </a:lnTo>
                <a:lnTo>
                  <a:pt x="11" y="36"/>
                </a:lnTo>
                <a:lnTo>
                  <a:pt x="11" y="41"/>
                </a:lnTo>
                <a:lnTo>
                  <a:pt x="11" y="47"/>
                </a:lnTo>
                <a:lnTo>
                  <a:pt x="17" y="53"/>
                </a:lnTo>
                <a:lnTo>
                  <a:pt x="17" y="59"/>
                </a:lnTo>
                <a:lnTo>
                  <a:pt x="17" y="65"/>
                </a:lnTo>
                <a:lnTo>
                  <a:pt x="23" y="71"/>
                </a:lnTo>
                <a:lnTo>
                  <a:pt x="23" y="77"/>
                </a:lnTo>
                <a:lnTo>
                  <a:pt x="23" y="82"/>
                </a:lnTo>
                <a:lnTo>
                  <a:pt x="23" y="88"/>
                </a:lnTo>
                <a:lnTo>
                  <a:pt x="29" y="94"/>
                </a:lnTo>
                <a:lnTo>
                  <a:pt x="29" y="100"/>
                </a:lnTo>
                <a:lnTo>
                  <a:pt x="29" y="106"/>
                </a:lnTo>
                <a:lnTo>
                  <a:pt x="35" y="112"/>
                </a:lnTo>
                <a:lnTo>
                  <a:pt x="35" y="118"/>
                </a:lnTo>
                <a:lnTo>
                  <a:pt x="35" y="124"/>
                </a:lnTo>
                <a:lnTo>
                  <a:pt x="35" y="129"/>
                </a:lnTo>
                <a:lnTo>
                  <a:pt x="41" y="135"/>
                </a:lnTo>
                <a:lnTo>
                  <a:pt x="41" y="141"/>
                </a:lnTo>
                <a:lnTo>
                  <a:pt x="41" y="147"/>
                </a:lnTo>
                <a:lnTo>
                  <a:pt x="47" y="153"/>
                </a:lnTo>
                <a:lnTo>
                  <a:pt x="47" y="159"/>
                </a:lnTo>
                <a:lnTo>
                  <a:pt x="47" y="165"/>
                </a:lnTo>
                <a:lnTo>
                  <a:pt x="47" y="170"/>
                </a:lnTo>
                <a:lnTo>
                  <a:pt x="52" y="176"/>
                </a:lnTo>
                <a:lnTo>
                  <a:pt x="52" y="182"/>
                </a:lnTo>
                <a:lnTo>
                  <a:pt x="52" y="188"/>
                </a:lnTo>
                <a:lnTo>
                  <a:pt x="52" y="194"/>
                </a:lnTo>
                <a:lnTo>
                  <a:pt x="58" y="200"/>
                </a:lnTo>
                <a:lnTo>
                  <a:pt x="58" y="206"/>
                </a:lnTo>
                <a:lnTo>
                  <a:pt x="58" y="211"/>
                </a:lnTo>
                <a:lnTo>
                  <a:pt x="64" y="217"/>
                </a:lnTo>
                <a:lnTo>
                  <a:pt x="64" y="223"/>
                </a:lnTo>
                <a:lnTo>
                  <a:pt x="64" y="229"/>
                </a:lnTo>
                <a:lnTo>
                  <a:pt x="64" y="235"/>
                </a:lnTo>
                <a:lnTo>
                  <a:pt x="70" y="241"/>
                </a:lnTo>
                <a:lnTo>
                  <a:pt x="70" y="247"/>
                </a:lnTo>
                <a:lnTo>
                  <a:pt x="70" y="253"/>
                </a:lnTo>
                <a:lnTo>
                  <a:pt x="70" y="258"/>
                </a:lnTo>
                <a:lnTo>
                  <a:pt x="76" y="264"/>
                </a:lnTo>
                <a:lnTo>
                  <a:pt x="76" y="270"/>
                </a:lnTo>
                <a:lnTo>
                  <a:pt x="76" y="276"/>
                </a:lnTo>
                <a:lnTo>
                  <a:pt x="76" y="282"/>
                </a:lnTo>
                <a:lnTo>
                  <a:pt x="82" y="288"/>
                </a:lnTo>
                <a:lnTo>
                  <a:pt x="82" y="294"/>
                </a:lnTo>
                <a:lnTo>
                  <a:pt x="82" y="299"/>
                </a:lnTo>
                <a:lnTo>
                  <a:pt x="82" y="305"/>
                </a:lnTo>
                <a:lnTo>
                  <a:pt x="88" y="311"/>
                </a:lnTo>
                <a:lnTo>
                  <a:pt x="88" y="317"/>
                </a:lnTo>
                <a:lnTo>
                  <a:pt x="88" y="323"/>
                </a:lnTo>
                <a:lnTo>
                  <a:pt x="88" y="329"/>
                </a:lnTo>
                <a:lnTo>
                  <a:pt x="88" y="335"/>
                </a:lnTo>
                <a:lnTo>
                  <a:pt x="93" y="341"/>
                </a:lnTo>
                <a:lnTo>
                  <a:pt x="93" y="346"/>
                </a:lnTo>
                <a:lnTo>
                  <a:pt x="93" y="352"/>
                </a:lnTo>
                <a:lnTo>
                  <a:pt x="93" y="358"/>
                </a:lnTo>
                <a:lnTo>
                  <a:pt x="99" y="364"/>
                </a:lnTo>
                <a:lnTo>
                  <a:pt x="99" y="370"/>
                </a:lnTo>
                <a:lnTo>
                  <a:pt x="99" y="376"/>
                </a:lnTo>
                <a:lnTo>
                  <a:pt x="99" y="382"/>
                </a:lnTo>
                <a:lnTo>
                  <a:pt x="99" y="387"/>
                </a:lnTo>
                <a:lnTo>
                  <a:pt x="105" y="393"/>
                </a:lnTo>
                <a:lnTo>
                  <a:pt x="105" y="399"/>
                </a:lnTo>
                <a:lnTo>
                  <a:pt x="105" y="405"/>
                </a:lnTo>
                <a:lnTo>
                  <a:pt x="105" y="411"/>
                </a:lnTo>
                <a:lnTo>
                  <a:pt x="105" y="417"/>
                </a:lnTo>
                <a:lnTo>
                  <a:pt x="111" y="423"/>
                </a:lnTo>
                <a:lnTo>
                  <a:pt x="111" y="428"/>
                </a:lnTo>
                <a:lnTo>
                  <a:pt x="111" y="434"/>
                </a:lnTo>
                <a:lnTo>
                  <a:pt x="111" y="440"/>
                </a:lnTo>
                <a:lnTo>
                  <a:pt x="111" y="446"/>
                </a:lnTo>
                <a:lnTo>
                  <a:pt x="117" y="452"/>
                </a:lnTo>
                <a:lnTo>
                  <a:pt x="117" y="458"/>
                </a:lnTo>
                <a:lnTo>
                  <a:pt x="117" y="464"/>
                </a:lnTo>
                <a:lnTo>
                  <a:pt x="117" y="470"/>
                </a:lnTo>
                <a:lnTo>
                  <a:pt x="117" y="475"/>
                </a:lnTo>
                <a:lnTo>
                  <a:pt x="117" y="481"/>
                </a:lnTo>
                <a:lnTo>
                  <a:pt x="123" y="487"/>
                </a:lnTo>
                <a:lnTo>
                  <a:pt x="123" y="493"/>
                </a:lnTo>
                <a:lnTo>
                  <a:pt x="123" y="499"/>
                </a:lnTo>
                <a:lnTo>
                  <a:pt x="123" y="505"/>
                </a:lnTo>
                <a:lnTo>
                  <a:pt x="123" y="511"/>
                </a:lnTo>
                <a:lnTo>
                  <a:pt x="123" y="516"/>
                </a:lnTo>
                <a:lnTo>
                  <a:pt x="129" y="522"/>
                </a:lnTo>
                <a:lnTo>
                  <a:pt x="129" y="528"/>
                </a:lnTo>
                <a:lnTo>
                  <a:pt x="129" y="534"/>
                </a:lnTo>
                <a:lnTo>
                  <a:pt x="129" y="540"/>
                </a:lnTo>
                <a:lnTo>
                  <a:pt x="129" y="546"/>
                </a:lnTo>
                <a:lnTo>
                  <a:pt x="129" y="552"/>
                </a:lnTo>
                <a:lnTo>
                  <a:pt x="129" y="558"/>
                </a:lnTo>
                <a:lnTo>
                  <a:pt x="129" y="563"/>
                </a:lnTo>
                <a:lnTo>
                  <a:pt x="135" y="569"/>
                </a:lnTo>
                <a:lnTo>
                  <a:pt x="135" y="575"/>
                </a:lnTo>
                <a:lnTo>
                  <a:pt x="135" y="581"/>
                </a:lnTo>
                <a:lnTo>
                  <a:pt x="135" y="587"/>
                </a:lnTo>
                <a:lnTo>
                  <a:pt x="135" y="593"/>
                </a:lnTo>
                <a:lnTo>
                  <a:pt x="135" y="599"/>
                </a:lnTo>
                <a:lnTo>
                  <a:pt x="135" y="604"/>
                </a:lnTo>
                <a:lnTo>
                  <a:pt x="135" y="610"/>
                </a:lnTo>
                <a:lnTo>
                  <a:pt x="140" y="622"/>
                </a:lnTo>
                <a:lnTo>
                  <a:pt x="140" y="628"/>
                </a:lnTo>
                <a:lnTo>
                  <a:pt x="140" y="634"/>
                </a:lnTo>
                <a:lnTo>
                  <a:pt x="140" y="640"/>
                </a:lnTo>
                <a:lnTo>
                  <a:pt x="140" y="645"/>
                </a:lnTo>
                <a:lnTo>
                  <a:pt x="140" y="651"/>
                </a:lnTo>
                <a:lnTo>
                  <a:pt x="140" y="657"/>
                </a:lnTo>
                <a:lnTo>
                  <a:pt x="140" y="663"/>
                </a:lnTo>
                <a:lnTo>
                  <a:pt x="140" y="669"/>
                </a:lnTo>
                <a:lnTo>
                  <a:pt x="140" y="675"/>
                </a:lnTo>
                <a:lnTo>
                  <a:pt x="140" y="681"/>
                </a:lnTo>
                <a:lnTo>
                  <a:pt x="140" y="687"/>
                </a:lnTo>
                <a:lnTo>
                  <a:pt x="140" y="692"/>
                </a:lnTo>
                <a:lnTo>
                  <a:pt x="146" y="698"/>
                </a:lnTo>
                <a:lnTo>
                  <a:pt x="146" y="704"/>
                </a:lnTo>
                <a:lnTo>
                  <a:pt x="146" y="710"/>
                </a:lnTo>
                <a:lnTo>
                  <a:pt x="146" y="716"/>
                </a:lnTo>
                <a:lnTo>
                  <a:pt x="146" y="722"/>
                </a:lnTo>
                <a:lnTo>
                  <a:pt x="146" y="733"/>
                </a:lnTo>
                <a:lnTo>
                  <a:pt x="146" y="739"/>
                </a:lnTo>
                <a:lnTo>
                  <a:pt x="146" y="745"/>
                </a:lnTo>
                <a:lnTo>
                  <a:pt x="146" y="751"/>
                </a:lnTo>
                <a:lnTo>
                  <a:pt x="146" y="757"/>
                </a:lnTo>
                <a:lnTo>
                  <a:pt x="146" y="763"/>
                </a:lnTo>
                <a:lnTo>
                  <a:pt x="146" y="769"/>
                </a:lnTo>
                <a:lnTo>
                  <a:pt x="146" y="775"/>
                </a:lnTo>
                <a:lnTo>
                  <a:pt x="146" y="780"/>
                </a:lnTo>
                <a:lnTo>
                  <a:pt x="146" y="786"/>
                </a:lnTo>
                <a:lnTo>
                  <a:pt x="146" y="792"/>
                </a:lnTo>
                <a:lnTo>
                  <a:pt x="146" y="798"/>
                </a:lnTo>
                <a:lnTo>
                  <a:pt x="146" y="810"/>
                </a:lnTo>
                <a:lnTo>
                  <a:pt x="146" y="816"/>
                </a:lnTo>
                <a:lnTo>
                  <a:pt x="146" y="821"/>
                </a:lnTo>
                <a:lnTo>
                  <a:pt x="146" y="827"/>
                </a:lnTo>
                <a:lnTo>
                  <a:pt x="146" y="833"/>
                </a:lnTo>
                <a:lnTo>
                  <a:pt x="146" y="839"/>
                </a:lnTo>
                <a:lnTo>
                  <a:pt x="146" y="845"/>
                </a:lnTo>
                <a:lnTo>
                  <a:pt x="146" y="851"/>
                </a:lnTo>
                <a:lnTo>
                  <a:pt x="146" y="857"/>
                </a:lnTo>
                <a:lnTo>
                  <a:pt x="146" y="862"/>
                </a:lnTo>
                <a:lnTo>
                  <a:pt x="146" y="874"/>
                </a:lnTo>
                <a:lnTo>
                  <a:pt x="146" y="880"/>
                </a:lnTo>
                <a:lnTo>
                  <a:pt x="146" y="886"/>
                </a:lnTo>
                <a:lnTo>
                  <a:pt x="146" y="892"/>
                </a:lnTo>
                <a:lnTo>
                  <a:pt x="146" y="898"/>
                </a:lnTo>
                <a:lnTo>
                  <a:pt x="146" y="904"/>
                </a:lnTo>
                <a:lnTo>
                  <a:pt x="146" y="909"/>
                </a:lnTo>
                <a:lnTo>
                  <a:pt x="146" y="915"/>
                </a:lnTo>
                <a:lnTo>
                  <a:pt x="146" y="927"/>
                </a:lnTo>
                <a:lnTo>
                  <a:pt x="146" y="933"/>
                </a:lnTo>
                <a:lnTo>
                  <a:pt x="140" y="939"/>
                </a:lnTo>
                <a:lnTo>
                  <a:pt x="140" y="945"/>
                </a:lnTo>
                <a:lnTo>
                  <a:pt x="140" y="950"/>
                </a:lnTo>
                <a:lnTo>
                  <a:pt x="140" y="956"/>
                </a:lnTo>
                <a:lnTo>
                  <a:pt x="140" y="968"/>
                </a:lnTo>
                <a:lnTo>
                  <a:pt x="140" y="974"/>
                </a:lnTo>
                <a:lnTo>
                  <a:pt x="140" y="980"/>
                </a:lnTo>
                <a:lnTo>
                  <a:pt x="140" y="986"/>
                </a:lnTo>
                <a:lnTo>
                  <a:pt x="140" y="992"/>
                </a:lnTo>
                <a:lnTo>
                  <a:pt x="140" y="997"/>
                </a:lnTo>
                <a:lnTo>
                  <a:pt x="140" y="1009"/>
                </a:lnTo>
                <a:lnTo>
                  <a:pt x="140" y="1015"/>
                </a:lnTo>
                <a:lnTo>
                  <a:pt x="135" y="1021"/>
                </a:lnTo>
                <a:lnTo>
                  <a:pt x="135" y="1027"/>
                </a:lnTo>
                <a:lnTo>
                  <a:pt x="135" y="1033"/>
                </a:lnTo>
                <a:lnTo>
                  <a:pt x="135" y="1038"/>
                </a:lnTo>
                <a:lnTo>
                  <a:pt x="135" y="1050"/>
                </a:lnTo>
                <a:lnTo>
                  <a:pt x="135" y="1056"/>
                </a:lnTo>
                <a:lnTo>
                  <a:pt x="135" y="1062"/>
                </a:lnTo>
                <a:lnTo>
                  <a:pt x="135" y="1068"/>
                </a:lnTo>
                <a:lnTo>
                  <a:pt x="129" y="1074"/>
                </a:lnTo>
                <a:lnTo>
                  <a:pt x="129" y="1085"/>
                </a:lnTo>
                <a:lnTo>
                  <a:pt x="129" y="1091"/>
                </a:lnTo>
                <a:lnTo>
                  <a:pt x="129" y="1097"/>
                </a:lnTo>
                <a:lnTo>
                  <a:pt x="129" y="1103"/>
                </a:lnTo>
                <a:lnTo>
                  <a:pt x="129" y="1115"/>
                </a:lnTo>
                <a:lnTo>
                  <a:pt x="123" y="1121"/>
                </a:lnTo>
                <a:lnTo>
                  <a:pt x="123" y="1126"/>
                </a:lnTo>
                <a:lnTo>
                  <a:pt x="123" y="1132"/>
                </a:lnTo>
                <a:lnTo>
                  <a:pt x="123" y="1144"/>
                </a:lnTo>
                <a:lnTo>
                  <a:pt x="123" y="1150"/>
                </a:lnTo>
                <a:lnTo>
                  <a:pt x="123" y="1156"/>
                </a:lnTo>
                <a:lnTo>
                  <a:pt x="117" y="1162"/>
                </a:lnTo>
                <a:lnTo>
                  <a:pt x="117" y="1173"/>
                </a:lnTo>
                <a:lnTo>
                  <a:pt x="117" y="1179"/>
                </a:lnTo>
                <a:lnTo>
                  <a:pt x="117" y="1185"/>
                </a:lnTo>
                <a:lnTo>
                  <a:pt x="117" y="1197"/>
                </a:lnTo>
                <a:lnTo>
                  <a:pt x="111" y="1203"/>
                </a:lnTo>
                <a:lnTo>
                  <a:pt x="111" y="1209"/>
                </a:lnTo>
                <a:lnTo>
                  <a:pt x="111" y="1214"/>
                </a:lnTo>
                <a:lnTo>
                  <a:pt x="111" y="1226"/>
                </a:lnTo>
                <a:lnTo>
                  <a:pt x="111" y="1232"/>
                </a:lnTo>
                <a:lnTo>
                  <a:pt x="105" y="1238"/>
                </a:lnTo>
                <a:lnTo>
                  <a:pt x="105" y="1250"/>
                </a:lnTo>
                <a:lnTo>
                  <a:pt x="105" y="125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68960" y="4732200"/>
            <a:ext cx="168120" cy="177840"/>
          </a:xfrm>
          <a:custGeom>
            <a:avLst/>
            <a:gdLst/>
            <a:ahLst/>
            <a:rect l="l" t="t" r="r" b="b"/>
            <a:pathLst>
              <a:path w="106" h="112">
                <a:moveTo>
                  <a:pt x="35" y="112"/>
                </a:moveTo>
                <a:lnTo>
                  <a:pt x="106" y="18"/>
                </a:lnTo>
                <a:lnTo>
                  <a:pt x="0" y="0"/>
                </a:lnTo>
                <a:lnTo>
                  <a:pt x="35" y="112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297400" y="4741920"/>
            <a:ext cx="1015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07120" y="478800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343480" y="475128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41800" y="3425760"/>
            <a:ext cx="1994040" cy="804960"/>
          </a:xfrm>
          <a:custGeom>
            <a:avLst/>
            <a:gdLst/>
            <a:ahLst/>
            <a:rect l="l" t="t" r="r" b="b"/>
            <a:pathLst>
              <a:path w="1256" h="481">
                <a:moveTo>
                  <a:pt x="1256" y="0"/>
                </a:moveTo>
                <a:lnTo>
                  <a:pt x="1250" y="5"/>
                </a:lnTo>
                <a:lnTo>
                  <a:pt x="1244" y="5"/>
                </a:lnTo>
                <a:lnTo>
                  <a:pt x="1238" y="11"/>
                </a:lnTo>
                <a:lnTo>
                  <a:pt x="1232" y="11"/>
                </a:lnTo>
                <a:lnTo>
                  <a:pt x="1227" y="17"/>
                </a:lnTo>
                <a:lnTo>
                  <a:pt x="1221" y="17"/>
                </a:lnTo>
                <a:lnTo>
                  <a:pt x="1215" y="23"/>
                </a:lnTo>
                <a:lnTo>
                  <a:pt x="1209" y="23"/>
                </a:lnTo>
                <a:lnTo>
                  <a:pt x="1203" y="29"/>
                </a:lnTo>
                <a:lnTo>
                  <a:pt x="1197" y="29"/>
                </a:lnTo>
                <a:lnTo>
                  <a:pt x="1191" y="35"/>
                </a:lnTo>
                <a:lnTo>
                  <a:pt x="1185" y="35"/>
                </a:lnTo>
                <a:lnTo>
                  <a:pt x="1180" y="41"/>
                </a:lnTo>
                <a:lnTo>
                  <a:pt x="1168" y="41"/>
                </a:lnTo>
                <a:lnTo>
                  <a:pt x="1162" y="47"/>
                </a:lnTo>
                <a:lnTo>
                  <a:pt x="1156" y="52"/>
                </a:lnTo>
                <a:lnTo>
                  <a:pt x="1150" y="52"/>
                </a:lnTo>
                <a:lnTo>
                  <a:pt x="1144" y="58"/>
                </a:lnTo>
                <a:lnTo>
                  <a:pt x="1139" y="58"/>
                </a:lnTo>
                <a:lnTo>
                  <a:pt x="1133" y="64"/>
                </a:lnTo>
                <a:lnTo>
                  <a:pt x="1127" y="64"/>
                </a:lnTo>
                <a:lnTo>
                  <a:pt x="1121" y="70"/>
                </a:lnTo>
                <a:lnTo>
                  <a:pt x="1115" y="70"/>
                </a:lnTo>
                <a:lnTo>
                  <a:pt x="1109" y="76"/>
                </a:lnTo>
                <a:lnTo>
                  <a:pt x="1103" y="76"/>
                </a:lnTo>
                <a:lnTo>
                  <a:pt x="1097" y="82"/>
                </a:lnTo>
                <a:lnTo>
                  <a:pt x="1092" y="82"/>
                </a:lnTo>
                <a:lnTo>
                  <a:pt x="1086" y="88"/>
                </a:lnTo>
                <a:lnTo>
                  <a:pt x="1080" y="93"/>
                </a:lnTo>
                <a:lnTo>
                  <a:pt x="1074" y="93"/>
                </a:lnTo>
                <a:lnTo>
                  <a:pt x="1068" y="99"/>
                </a:lnTo>
                <a:lnTo>
                  <a:pt x="1062" y="99"/>
                </a:lnTo>
                <a:lnTo>
                  <a:pt x="1051" y="105"/>
                </a:lnTo>
                <a:lnTo>
                  <a:pt x="1045" y="105"/>
                </a:lnTo>
                <a:lnTo>
                  <a:pt x="1039" y="111"/>
                </a:lnTo>
                <a:lnTo>
                  <a:pt x="1033" y="111"/>
                </a:lnTo>
                <a:lnTo>
                  <a:pt x="1027" y="117"/>
                </a:lnTo>
                <a:lnTo>
                  <a:pt x="1021" y="117"/>
                </a:lnTo>
                <a:lnTo>
                  <a:pt x="1015" y="123"/>
                </a:lnTo>
                <a:lnTo>
                  <a:pt x="1009" y="123"/>
                </a:lnTo>
                <a:lnTo>
                  <a:pt x="1004" y="129"/>
                </a:lnTo>
                <a:lnTo>
                  <a:pt x="998" y="129"/>
                </a:lnTo>
                <a:lnTo>
                  <a:pt x="992" y="135"/>
                </a:lnTo>
                <a:lnTo>
                  <a:pt x="986" y="135"/>
                </a:lnTo>
                <a:lnTo>
                  <a:pt x="980" y="140"/>
                </a:lnTo>
                <a:lnTo>
                  <a:pt x="974" y="146"/>
                </a:lnTo>
                <a:lnTo>
                  <a:pt x="963" y="146"/>
                </a:lnTo>
                <a:lnTo>
                  <a:pt x="957" y="152"/>
                </a:lnTo>
                <a:lnTo>
                  <a:pt x="951" y="152"/>
                </a:lnTo>
                <a:lnTo>
                  <a:pt x="945" y="158"/>
                </a:lnTo>
                <a:lnTo>
                  <a:pt x="939" y="158"/>
                </a:lnTo>
                <a:lnTo>
                  <a:pt x="933" y="164"/>
                </a:lnTo>
                <a:lnTo>
                  <a:pt x="927" y="164"/>
                </a:lnTo>
                <a:lnTo>
                  <a:pt x="921" y="170"/>
                </a:lnTo>
                <a:lnTo>
                  <a:pt x="916" y="170"/>
                </a:lnTo>
                <a:lnTo>
                  <a:pt x="910" y="176"/>
                </a:lnTo>
                <a:lnTo>
                  <a:pt x="904" y="176"/>
                </a:lnTo>
                <a:lnTo>
                  <a:pt x="898" y="181"/>
                </a:lnTo>
                <a:lnTo>
                  <a:pt x="886" y="181"/>
                </a:lnTo>
                <a:lnTo>
                  <a:pt x="880" y="187"/>
                </a:lnTo>
                <a:lnTo>
                  <a:pt x="875" y="187"/>
                </a:lnTo>
                <a:lnTo>
                  <a:pt x="869" y="193"/>
                </a:lnTo>
                <a:lnTo>
                  <a:pt x="863" y="193"/>
                </a:lnTo>
                <a:lnTo>
                  <a:pt x="857" y="199"/>
                </a:lnTo>
                <a:lnTo>
                  <a:pt x="851" y="199"/>
                </a:lnTo>
                <a:lnTo>
                  <a:pt x="845" y="205"/>
                </a:lnTo>
                <a:lnTo>
                  <a:pt x="839" y="205"/>
                </a:lnTo>
                <a:lnTo>
                  <a:pt x="833" y="211"/>
                </a:lnTo>
                <a:lnTo>
                  <a:pt x="828" y="211"/>
                </a:lnTo>
                <a:lnTo>
                  <a:pt x="816" y="217"/>
                </a:lnTo>
                <a:lnTo>
                  <a:pt x="810" y="217"/>
                </a:lnTo>
                <a:lnTo>
                  <a:pt x="804" y="222"/>
                </a:lnTo>
                <a:lnTo>
                  <a:pt x="798" y="222"/>
                </a:lnTo>
                <a:lnTo>
                  <a:pt x="792" y="228"/>
                </a:lnTo>
                <a:lnTo>
                  <a:pt x="787" y="228"/>
                </a:lnTo>
                <a:lnTo>
                  <a:pt x="781" y="234"/>
                </a:lnTo>
                <a:lnTo>
                  <a:pt x="775" y="234"/>
                </a:lnTo>
                <a:lnTo>
                  <a:pt x="769" y="240"/>
                </a:lnTo>
                <a:lnTo>
                  <a:pt x="757" y="240"/>
                </a:lnTo>
                <a:lnTo>
                  <a:pt x="751" y="246"/>
                </a:lnTo>
                <a:lnTo>
                  <a:pt x="745" y="246"/>
                </a:lnTo>
                <a:lnTo>
                  <a:pt x="740" y="252"/>
                </a:lnTo>
                <a:lnTo>
                  <a:pt x="734" y="252"/>
                </a:lnTo>
                <a:lnTo>
                  <a:pt x="728" y="252"/>
                </a:lnTo>
                <a:lnTo>
                  <a:pt x="722" y="258"/>
                </a:lnTo>
                <a:lnTo>
                  <a:pt x="716" y="258"/>
                </a:lnTo>
                <a:lnTo>
                  <a:pt x="710" y="264"/>
                </a:lnTo>
                <a:lnTo>
                  <a:pt x="704" y="264"/>
                </a:lnTo>
                <a:lnTo>
                  <a:pt x="693" y="269"/>
                </a:lnTo>
                <a:lnTo>
                  <a:pt x="687" y="269"/>
                </a:lnTo>
                <a:lnTo>
                  <a:pt x="681" y="275"/>
                </a:lnTo>
                <a:lnTo>
                  <a:pt x="675" y="275"/>
                </a:lnTo>
                <a:lnTo>
                  <a:pt x="669" y="281"/>
                </a:lnTo>
                <a:lnTo>
                  <a:pt x="663" y="281"/>
                </a:lnTo>
                <a:lnTo>
                  <a:pt x="657" y="281"/>
                </a:lnTo>
                <a:lnTo>
                  <a:pt x="652" y="287"/>
                </a:lnTo>
                <a:lnTo>
                  <a:pt x="640" y="287"/>
                </a:lnTo>
                <a:lnTo>
                  <a:pt x="634" y="293"/>
                </a:lnTo>
                <a:lnTo>
                  <a:pt x="628" y="293"/>
                </a:lnTo>
                <a:lnTo>
                  <a:pt x="622" y="299"/>
                </a:lnTo>
                <a:lnTo>
                  <a:pt x="616" y="299"/>
                </a:lnTo>
                <a:lnTo>
                  <a:pt x="610" y="299"/>
                </a:lnTo>
                <a:lnTo>
                  <a:pt x="605" y="305"/>
                </a:lnTo>
                <a:lnTo>
                  <a:pt x="599" y="305"/>
                </a:lnTo>
                <a:lnTo>
                  <a:pt x="593" y="310"/>
                </a:lnTo>
                <a:lnTo>
                  <a:pt x="581" y="310"/>
                </a:lnTo>
                <a:lnTo>
                  <a:pt x="575" y="316"/>
                </a:lnTo>
                <a:lnTo>
                  <a:pt x="569" y="316"/>
                </a:lnTo>
                <a:lnTo>
                  <a:pt x="564" y="316"/>
                </a:lnTo>
                <a:lnTo>
                  <a:pt x="558" y="322"/>
                </a:lnTo>
                <a:lnTo>
                  <a:pt x="552" y="322"/>
                </a:lnTo>
                <a:lnTo>
                  <a:pt x="546" y="328"/>
                </a:lnTo>
                <a:lnTo>
                  <a:pt x="540" y="328"/>
                </a:lnTo>
                <a:lnTo>
                  <a:pt x="528" y="328"/>
                </a:lnTo>
                <a:lnTo>
                  <a:pt x="522" y="334"/>
                </a:lnTo>
                <a:lnTo>
                  <a:pt x="517" y="334"/>
                </a:lnTo>
                <a:lnTo>
                  <a:pt x="511" y="340"/>
                </a:lnTo>
                <a:lnTo>
                  <a:pt x="505" y="340"/>
                </a:lnTo>
                <a:lnTo>
                  <a:pt x="499" y="340"/>
                </a:lnTo>
                <a:lnTo>
                  <a:pt x="493" y="346"/>
                </a:lnTo>
                <a:lnTo>
                  <a:pt x="487" y="346"/>
                </a:lnTo>
                <a:lnTo>
                  <a:pt x="476" y="346"/>
                </a:lnTo>
                <a:lnTo>
                  <a:pt x="470" y="352"/>
                </a:lnTo>
                <a:lnTo>
                  <a:pt x="464" y="352"/>
                </a:lnTo>
                <a:lnTo>
                  <a:pt x="458" y="357"/>
                </a:lnTo>
                <a:lnTo>
                  <a:pt x="452" y="357"/>
                </a:lnTo>
                <a:lnTo>
                  <a:pt x="446" y="357"/>
                </a:lnTo>
                <a:lnTo>
                  <a:pt x="440" y="363"/>
                </a:lnTo>
                <a:lnTo>
                  <a:pt x="434" y="363"/>
                </a:lnTo>
                <a:lnTo>
                  <a:pt x="429" y="363"/>
                </a:lnTo>
                <a:lnTo>
                  <a:pt x="417" y="369"/>
                </a:lnTo>
                <a:lnTo>
                  <a:pt x="411" y="369"/>
                </a:lnTo>
                <a:lnTo>
                  <a:pt x="405" y="369"/>
                </a:lnTo>
                <a:lnTo>
                  <a:pt x="399" y="375"/>
                </a:lnTo>
                <a:lnTo>
                  <a:pt x="393" y="375"/>
                </a:lnTo>
                <a:lnTo>
                  <a:pt x="388" y="381"/>
                </a:lnTo>
                <a:lnTo>
                  <a:pt x="382" y="381"/>
                </a:lnTo>
                <a:lnTo>
                  <a:pt x="376" y="381"/>
                </a:lnTo>
                <a:lnTo>
                  <a:pt x="370" y="387"/>
                </a:lnTo>
                <a:lnTo>
                  <a:pt x="358" y="387"/>
                </a:lnTo>
                <a:lnTo>
                  <a:pt x="352" y="387"/>
                </a:lnTo>
                <a:lnTo>
                  <a:pt x="346" y="393"/>
                </a:lnTo>
                <a:lnTo>
                  <a:pt x="341" y="393"/>
                </a:lnTo>
                <a:lnTo>
                  <a:pt x="335" y="393"/>
                </a:lnTo>
                <a:lnTo>
                  <a:pt x="329" y="398"/>
                </a:lnTo>
                <a:lnTo>
                  <a:pt x="323" y="398"/>
                </a:lnTo>
                <a:lnTo>
                  <a:pt x="317" y="398"/>
                </a:lnTo>
                <a:lnTo>
                  <a:pt x="311" y="398"/>
                </a:lnTo>
                <a:lnTo>
                  <a:pt x="300" y="404"/>
                </a:lnTo>
                <a:lnTo>
                  <a:pt x="294" y="404"/>
                </a:lnTo>
                <a:lnTo>
                  <a:pt x="288" y="404"/>
                </a:lnTo>
                <a:lnTo>
                  <a:pt x="282" y="410"/>
                </a:lnTo>
                <a:lnTo>
                  <a:pt x="276" y="410"/>
                </a:lnTo>
                <a:lnTo>
                  <a:pt x="270" y="410"/>
                </a:lnTo>
                <a:lnTo>
                  <a:pt x="264" y="416"/>
                </a:lnTo>
                <a:lnTo>
                  <a:pt x="258" y="416"/>
                </a:lnTo>
                <a:lnTo>
                  <a:pt x="253" y="416"/>
                </a:lnTo>
                <a:lnTo>
                  <a:pt x="247" y="422"/>
                </a:lnTo>
                <a:lnTo>
                  <a:pt x="241" y="422"/>
                </a:lnTo>
                <a:lnTo>
                  <a:pt x="235" y="422"/>
                </a:lnTo>
                <a:lnTo>
                  <a:pt x="223" y="422"/>
                </a:lnTo>
                <a:lnTo>
                  <a:pt x="217" y="428"/>
                </a:lnTo>
                <a:lnTo>
                  <a:pt x="212" y="428"/>
                </a:lnTo>
                <a:lnTo>
                  <a:pt x="206" y="428"/>
                </a:lnTo>
                <a:lnTo>
                  <a:pt x="200" y="434"/>
                </a:lnTo>
                <a:lnTo>
                  <a:pt x="194" y="434"/>
                </a:lnTo>
                <a:lnTo>
                  <a:pt x="188" y="434"/>
                </a:lnTo>
                <a:lnTo>
                  <a:pt x="182" y="434"/>
                </a:lnTo>
                <a:lnTo>
                  <a:pt x="176" y="439"/>
                </a:lnTo>
                <a:lnTo>
                  <a:pt x="170" y="439"/>
                </a:lnTo>
                <a:lnTo>
                  <a:pt x="165" y="439"/>
                </a:lnTo>
                <a:lnTo>
                  <a:pt x="159" y="439"/>
                </a:lnTo>
                <a:lnTo>
                  <a:pt x="153" y="445"/>
                </a:lnTo>
                <a:lnTo>
                  <a:pt x="147" y="445"/>
                </a:lnTo>
                <a:lnTo>
                  <a:pt x="141" y="445"/>
                </a:lnTo>
                <a:lnTo>
                  <a:pt x="135" y="445"/>
                </a:lnTo>
                <a:lnTo>
                  <a:pt x="129" y="451"/>
                </a:lnTo>
                <a:lnTo>
                  <a:pt x="124" y="451"/>
                </a:lnTo>
                <a:lnTo>
                  <a:pt x="118" y="451"/>
                </a:lnTo>
                <a:lnTo>
                  <a:pt x="112" y="451"/>
                </a:lnTo>
                <a:lnTo>
                  <a:pt x="106" y="457"/>
                </a:lnTo>
                <a:lnTo>
                  <a:pt x="100" y="457"/>
                </a:lnTo>
                <a:lnTo>
                  <a:pt x="94" y="457"/>
                </a:lnTo>
                <a:lnTo>
                  <a:pt x="88" y="457"/>
                </a:lnTo>
                <a:lnTo>
                  <a:pt x="82" y="463"/>
                </a:lnTo>
                <a:lnTo>
                  <a:pt x="77" y="463"/>
                </a:lnTo>
                <a:lnTo>
                  <a:pt x="71" y="463"/>
                </a:lnTo>
                <a:lnTo>
                  <a:pt x="65" y="463"/>
                </a:lnTo>
                <a:lnTo>
                  <a:pt x="59" y="469"/>
                </a:lnTo>
                <a:lnTo>
                  <a:pt x="53" y="469"/>
                </a:lnTo>
                <a:lnTo>
                  <a:pt x="47" y="469"/>
                </a:lnTo>
                <a:lnTo>
                  <a:pt x="41" y="469"/>
                </a:lnTo>
                <a:lnTo>
                  <a:pt x="36" y="475"/>
                </a:lnTo>
                <a:lnTo>
                  <a:pt x="30" y="475"/>
                </a:lnTo>
                <a:lnTo>
                  <a:pt x="24" y="475"/>
                </a:lnTo>
                <a:lnTo>
                  <a:pt x="18" y="475"/>
                </a:lnTo>
                <a:lnTo>
                  <a:pt x="12" y="481"/>
                </a:lnTo>
                <a:lnTo>
                  <a:pt x="6" y="481"/>
                </a:lnTo>
                <a:lnTo>
                  <a:pt x="0" y="48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021200" y="4137120"/>
            <a:ext cx="185760" cy="166680"/>
          </a:xfrm>
          <a:custGeom>
            <a:avLst/>
            <a:gdLst/>
            <a:ahLst/>
            <a:rect l="l" t="t" r="r" b="b"/>
            <a:pathLst>
              <a:path w="117" h="105">
                <a:moveTo>
                  <a:pt x="0" y="76"/>
                </a:moveTo>
                <a:lnTo>
                  <a:pt x="117" y="105"/>
                </a:lnTo>
                <a:lnTo>
                  <a:pt x="94" y="0"/>
                </a:lnTo>
                <a:lnTo>
                  <a:pt x="0" y="7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95720" y="418320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05440" y="4230720"/>
            <a:ext cx="838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141800" y="4192560"/>
            <a:ext cx="144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632560" y="3425760"/>
            <a:ext cx="753840" cy="1381320"/>
          </a:xfrm>
          <a:custGeom>
            <a:avLst/>
            <a:gdLst/>
            <a:ahLst/>
            <a:rect l="l" t="t" r="r" b="b"/>
            <a:pathLst>
              <a:path w="540" h="797">
                <a:moveTo>
                  <a:pt x="540" y="0"/>
                </a:moveTo>
                <a:lnTo>
                  <a:pt x="540" y="5"/>
                </a:lnTo>
                <a:lnTo>
                  <a:pt x="534" y="11"/>
                </a:lnTo>
                <a:lnTo>
                  <a:pt x="534" y="11"/>
                </a:lnTo>
                <a:lnTo>
                  <a:pt x="534" y="17"/>
                </a:lnTo>
                <a:lnTo>
                  <a:pt x="528" y="23"/>
                </a:lnTo>
                <a:lnTo>
                  <a:pt x="528" y="29"/>
                </a:lnTo>
                <a:lnTo>
                  <a:pt x="528" y="35"/>
                </a:lnTo>
                <a:lnTo>
                  <a:pt x="522" y="35"/>
                </a:lnTo>
                <a:lnTo>
                  <a:pt x="522" y="41"/>
                </a:lnTo>
                <a:lnTo>
                  <a:pt x="522" y="46"/>
                </a:lnTo>
                <a:lnTo>
                  <a:pt x="516" y="52"/>
                </a:lnTo>
                <a:lnTo>
                  <a:pt x="516" y="58"/>
                </a:lnTo>
                <a:lnTo>
                  <a:pt x="511" y="58"/>
                </a:lnTo>
                <a:lnTo>
                  <a:pt x="511" y="64"/>
                </a:lnTo>
                <a:lnTo>
                  <a:pt x="511" y="70"/>
                </a:lnTo>
                <a:lnTo>
                  <a:pt x="505" y="76"/>
                </a:lnTo>
                <a:lnTo>
                  <a:pt x="505" y="76"/>
                </a:lnTo>
                <a:lnTo>
                  <a:pt x="505" y="82"/>
                </a:lnTo>
                <a:lnTo>
                  <a:pt x="499" y="88"/>
                </a:lnTo>
                <a:lnTo>
                  <a:pt x="499" y="93"/>
                </a:lnTo>
                <a:lnTo>
                  <a:pt x="499" y="93"/>
                </a:lnTo>
                <a:lnTo>
                  <a:pt x="493" y="99"/>
                </a:lnTo>
                <a:lnTo>
                  <a:pt x="493" y="105"/>
                </a:lnTo>
                <a:lnTo>
                  <a:pt x="493" y="111"/>
                </a:lnTo>
                <a:lnTo>
                  <a:pt x="487" y="111"/>
                </a:lnTo>
                <a:lnTo>
                  <a:pt x="487" y="117"/>
                </a:lnTo>
                <a:lnTo>
                  <a:pt x="487" y="123"/>
                </a:lnTo>
                <a:lnTo>
                  <a:pt x="481" y="129"/>
                </a:lnTo>
                <a:lnTo>
                  <a:pt x="481" y="129"/>
                </a:lnTo>
                <a:lnTo>
                  <a:pt x="481" y="134"/>
                </a:lnTo>
                <a:lnTo>
                  <a:pt x="475" y="140"/>
                </a:lnTo>
                <a:lnTo>
                  <a:pt x="475" y="146"/>
                </a:lnTo>
                <a:lnTo>
                  <a:pt x="475" y="146"/>
                </a:lnTo>
                <a:lnTo>
                  <a:pt x="469" y="152"/>
                </a:lnTo>
                <a:lnTo>
                  <a:pt x="469" y="158"/>
                </a:lnTo>
                <a:lnTo>
                  <a:pt x="469" y="164"/>
                </a:lnTo>
                <a:lnTo>
                  <a:pt x="464" y="164"/>
                </a:lnTo>
                <a:lnTo>
                  <a:pt x="464" y="170"/>
                </a:lnTo>
                <a:lnTo>
                  <a:pt x="464" y="175"/>
                </a:lnTo>
                <a:lnTo>
                  <a:pt x="458" y="181"/>
                </a:lnTo>
                <a:lnTo>
                  <a:pt x="458" y="181"/>
                </a:lnTo>
                <a:lnTo>
                  <a:pt x="458" y="187"/>
                </a:lnTo>
                <a:lnTo>
                  <a:pt x="452" y="193"/>
                </a:lnTo>
                <a:lnTo>
                  <a:pt x="452" y="199"/>
                </a:lnTo>
                <a:lnTo>
                  <a:pt x="446" y="199"/>
                </a:lnTo>
                <a:lnTo>
                  <a:pt x="446" y="205"/>
                </a:lnTo>
                <a:lnTo>
                  <a:pt x="446" y="211"/>
                </a:lnTo>
                <a:lnTo>
                  <a:pt x="440" y="211"/>
                </a:lnTo>
                <a:lnTo>
                  <a:pt x="440" y="217"/>
                </a:lnTo>
                <a:lnTo>
                  <a:pt x="440" y="222"/>
                </a:lnTo>
                <a:lnTo>
                  <a:pt x="434" y="228"/>
                </a:lnTo>
                <a:lnTo>
                  <a:pt x="434" y="228"/>
                </a:lnTo>
                <a:lnTo>
                  <a:pt x="434" y="234"/>
                </a:lnTo>
                <a:lnTo>
                  <a:pt x="428" y="240"/>
                </a:lnTo>
                <a:lnTo>
                  <a:pt x="428" y="240"/>
                </a:lnTo>
                <a:lnTo>
                  <a:pt x="428" y="246"/>
                </a:lnTo>
                <a:lnTo>
                  <a:pt x="422" y="252"/>
                </a:lnTo>
                <a:lnTo>
                  <a:pt x="422" y="252"/>
                </a:lnTo>
                <a:lnTo>
                  <a:pt x="417" y="258"/>
                </a:lnTo>
                <a:lnTo>
                  <a:pt x="417" y="263"/>
                </a:lnTo>
                <a:lnTo>
                  <a:pt x="417" y="269"/>
                </a:lnTo>
                <a:lnTo>
                  <a:pt x="411" y="269"/>
                </a:lnTo>
                <a:lnTo>
                  <a:pt x="411" y="275"/>
                </a:lnTo>
                <a:lnTo>
                  <a:pt x="411" y="281"/>
                </a:lnTo>
                <a:lnTo>
                  <a:pt x="405" y="281"/>
                </a:lnTo>
                <a:lnTo>
                  <a:pt x="405" y="287"/>
                </a:lnTo>
                <a:lnTo>
                  <a:pt x="399" y="293"/>
                </a:lnTo>
                <a:lnTo>
                  <a:pt x="399" y="293"/>
                </a:lnTo>
                <a:lnTo>
                  <a:pt x="399" y="299"/>
                </a:lnTo>
                <a:lnTo>
                  <a:pt x="393" y="305"/>
                </a:lnTo>
                <a:lnTo>
                  <a:pt x="393" y="305"/>
                </a:lnTo>
                <a:lnTo>
                  <a:pt x="393" y="310"/>
                </a:lnTo>
                <a:lnTo>
                  <a:pt x="387" y="316"/>
                </a:lnTo>
                <a:lnTo>
                  <a:pt x="387" y="316"/>
                </a:lnTo>
                <a:lnTo>
                  <a:pt x="381" y="322"/>
                </a:lnTo>
                <a:lnTo>
                  <a:pt x="381" y="328"/>
                </a:lnTo>
                <a:lnTo>
                  <a:pt x="381" y="328"/>
                </a:lnTo>
                <a:lnTo>
                  <a:pt x="376" y="334"/>
                </a:lnTo>
                <a:lnTo>
                  <a:pt x="376" y="340"/>
                </a:lnTo>
                <a:lnTo>
                  <a:pt x="370" y="340"/>
                </a:lnTo>
                <a:lnTo>
                  <a:pt x="370" y="346"/>
                </a:lnTo>
                <a:lnTo>
                  <a:pt x="370" y="351"/>
                </a:lnTo>
                <a:lnTo>
                  <a:pt x="364" y="351"/>
                </a:lnTo>
                <a:lnTo>
                  <a:pt x="364" y="357"/>
                </a:lnTo>
                <a:lnTo>
                  <a:pt x="358" y="363"/>
                </a:lnTo>
                <a:lnTo>
                  <a:pt x="358" y="363"/>
                </a:lnTo>
                <a:lnTo>
                  <a:pt x="358" y="369"/>
                </a:lnTo>
                <a:lnTo>
                  <a:pt x="352" y="375"/>
                </a:lnTo>
                <a:lnTo>
                  <a:pt x="352" y="375"/>
                </a:lnTo>
                <a:lnTo>
                  <a:pt x="346" y="381"/>
                </a:lnTo>
                <a:lnTo>
                  <a:pt x="346" y="387"/>
                </a:lnTo>
                <a:lnTo>
                  <a:pt x="340" y="387"/>
                </a:lnTo>
                <a:lnTo>
                  <a:pt x="340" y="392"/>
                </a:lnTo>
                <a:lnTo>
                  <a:pt x="340" y="398"/>
                </a:lnTo>
                <a:lnTo>
                  <a:pt x="334" y="398"/>
                </a:lnTo>
                <a:lnTo>
                  <a:pt x="334" y="404"/>
                </a:lnTo>
                <a:lnTo>
                  <a:pt x="329" y="410"/>
                </a:lnTo>
                <a:lnTo>
                  <a:pt x="329" y="410"/>
                </a:lnTo>
                <a:lnTo>
                  <a:pt x="323" y="416"/>
                </a:lnTo>
                <a:lnTo>
                  <a:pt x="323" y="416"/>
                </a:lnTo>
                <a:lnTo>
                  <a:pt x="323" y="422"/>
                </a:lnTo>
                <a:lnTo>
                  <a:pt x="317" y="428"/>
                </a:lnTo>
                <a:lnTo>
                  <a:pt x="317" y="428"/>
                </a:lnTo>
                <a:lnTo>
                  <a:pt x="311" y="434"/>
                </a:lnTo>
                <a:lnTo>
                  <a:pt x="311" y="439"/>
                </a:lnTo>
                <a:lnTo>
                  <a:pt x="305" y="439"/>
                </a:lnTo>
                <a:lnTo>
                  <a:pt x="305" y="445"/>
                </a:lnTo>
                <a:lnTo>
                  <a:pt x="299" y="451"/>
                </a:lnTo>
                <a:lnTo>
                  <a:pt x="299" y="451"/>
                </a:lnTo>
                <a:lnTo>
                  <a:pt x="299" y="457"/>
                </a:lnTo>
                <a:lnTo>
                  <a:pt x="293" y="457"/>
                </a:lnTo>
                <a:lnTo>
                  <a:pt x="293" y="463"/>
                </a:lnTo>
                <a:lnTo>
                  <a:pt x="288" y="469"/>
                </a:lnTo>
                <a:lnTo>
                  <a:pt x="288" y="469"/>
                </a:lnTo>
                <a:lnTo>
                  <a:pt x="282" y="475"/>
                </a:lnTo>
                <a:lnTo>
                  <a:pt x="282" y="480"/>
                </a:lnTo>
                <a:lnTo>
                  <a:pt x="276" y="480"/>
                </a:lnTo>
                <a:lnTo>
                  <a:pt x="276" y="486"/>
                </a:lnTo>
                <a:lnTo>
                  <a:pt x="270" y="486"/>
                </a:lnTo>
                <a:lnTo>
                  <a:pt x="270" y="492"/>
                </a:lnTo>
                <a:lnTo>
                  <a:pt x="264" y="498"/>
                </a:lnTo>
                <a:lnTo>
                  <a:pt x="264" y="498"/>
                </a:lnTo>
                <a:lnTo>
                  <a:pt x="258" y="504"/>
                </a:lnTo>
                <a:lnTo>
                  <a:pt x="258" y="510"/>
                </a:lnTo>
                <a:lnTo>
                  <a:pt x="252" y="510"/>
                </a:lnTo>
                <a:lnTo>
                  <a:pt x="252" y="516"/>
                </a:lnTo>
                <a:lnTo>
                  <a:pt x="246" y="516"/>
                </a:lnTo>
                <a:lnTo>
                  <a:pt x="246" y="522"/>
                </a:lnTo>
                <a:lnTo>
                  <a:pt x="241" y="527"/>
                </a:lnTo>
                <a:lnTo>
                  <a:pt x="241" y="527"/>
                </a:lnTo>
                <a:lnTo>
                  <a:pt x="235" y="533"/>
                </a:lnTo>
                <a:lnTo>
                  <a:pt x="235" y="539"/>
                </a:lnTo>
                <a:lnTo>
                  <a:pt x="229" y="539"/>
                </a:lnTo>
                <a:lnTo>
                  <a:pt x="229" y="545"/>
                </a:lnTo>
                <a:lnTo>
                  <a:pt x="223" y="545"/>
                </a:lnTo>
                <a:lnTo>
                  <a:pt x="223" y="551"/>
                </a:lnTo>
                <a:lnTo>
                  <a:pt x="217" y="557"/>
                </a:lnTo>
                <a:lnTo>
                  <a:pt x="217" y="557"/>
                </a:lnTo>
                <a:lnTo>
                  <a:pt x="211" y="563"/>
                </a:lnTo>
                <a:lnTo>
                  <a:pt x="211" y="568"/>
                </a:lnTo>
                <a:lnTo>
                  <a:pt x="205" y="568"/>
                </a:lnTo>
                <a:lnTo>
                  <a:pt x="205" y="574"/>
                </a:lnTo>
                <a:lnTo>
                  <a:pt x="200" y="574"/>
                </a:lnTo>
                <a:lnTo>
                  <a:pt x="200" y="580"/>
                </a:lnTo>
                <a:lnTo>
                  <a:pt x="194" y="586"/>
                </a:lnTo>
                <a:lnTo>
                  <a:pt x="188" y="586"/>
                </a:lnTo>
                <a:lnTo>
                  <a:pt x="188" y="592"/>
                </a:lnTo>
                <a:lnTo>
                  <a:pt x="182" y="598"/>
                </a:lnTo>
                <a:lnTo>
                  <a:pt x="182" y="598"/>
                </a:lnTo>
                <a:lnTo>
                  <a:pt x="176" y="604"/>
                </a:lnTo>
                <a:lnTo>
                  <a:pt x="176" y="604"/>
                </a:lnTo>
                <a:lnTo>
                  <a:pt x="170" y="610"/>
                </a:lnTo>
                <a:lnTo>
                  <a:pt x="170" y="615"/>
                </a:lnTo>
                <a:lnTo>
                  <a:pt x="164" y="615"/>
                </a:lnTo>
                <a:lnTo>
                  <a:pt x="158" y="621"/>
                </a:lnTo>
                <a:lnTo>
                  <a:pt x="158" y="627"/>
                </a:lnTo>
                <a:lnTo>
                  <a:pt x="153" y="627"/>
                </a:lnTo>
                <a:lnTo>
                  <a:pt x="153" y="633"/>
                </a:lnTo>
                <a:lnTo>
                  <a:pt x="147" y="639"/>
                </a:lnTo>
                <a:lnTo>
                  <a:pt x="147" y="639"/>
                </a:lnTo>
                <a:lnTo>
                  <a:pt x="141" y="645"/>
                </a:lnTo>
                <a:lnTo>
                  <a:pt x="135" y="645"/>
                </a:lnTo>
                <a:lnTo>
                  <a:pt x="135" y="651"/>
                </a:lnTo>
                <a:lnTo>
                  <a:pt x="129" y="656"/>
                </a:lnTo>
                <a:lnTo>
                  <a:pt x="129" y="656"/>
                </a:lnTo>
                <a:lnTo>
                  <a:pt x="123" y="662"/>
                </a:lnTo>
                <a:lnTo>
                  <a:pt x="117" y="668"/>
                </a:lnTo>
                <a:lnTo>
                  <a:pt x="117" y="668"/>
                </a:lnTo>
                <a:lnTo>
                  <a:pt x="112" y="674"/>
                </a:lnTo>
                <a:lnTo>
                  <a:pt x="112" y="680"/>
                </a:lnTo>
                <a:lnTo>
                  <a:pt x="106" y="680"/>
                </a:lnTo>
                <a:lnTo>
                  <a:pt x="100" y="686"/>
                </a:lnTo>
                <a:lnTo>
                  <a:pt x="100" y="692"/>
                </a:lnTo>
                <a:lnTo>
                  <a:pt x="94" y="692"/>
                </a:lnTo>
                <a:lnTo>
                  <a:pt x="94" y="697"/>
                </a:lnTo>
                <a:lnTo>
                  <a:pt x="88" y="703"/>
                </a:lnTo>
                <a:lnTo>
                  <a:pt x="82" y="703"/>
                </a:lnTo>
                <a:lnTo>
                  <a:pt x="82" y="709"/>
                </a:lnTo>
                <a:lnTo>
                  <a:pt x="76" y="715"/>
                </a:lnTo>
                <a:lnTo>
                  <a:pt x="70" y="715"/>
                </a:lnTo>
                <a:lnTo>
                  <a:pt x="70" y="721"/>
                </a:lnTo>
                <a:lnTo>
                  <a:pt x="65" y="727"/>
                </a:lnTo>
                <a:lnTo>
                  <a:pt x="65" y="727"/>
                </a:lnTo>
                <a:lnTo>
                  <a:pt x="59" y="733"/>
                </a:lnTo>
                <a:lnTo>
                  <a:pt x="53" y="739"/>
                </a:lnTo>
                <a:lnTo>
                  <a:pt x="53" y="744"/>
                </a:lnTo>
                <a:lnTo>
                  <a:pt x="47" y="744"/>
                </a:lnTo>
                <a:lnTo>
                  <a:pt x="41" y="750"/>
                </a:lnTo>
                <a:lnTo>
                  <a:pt x="41" y="756"/>
                </a:lnTo>
                <a:lnTo>
                  <a:pt x="35" y="756"/>
                </a:lnTo>
                <a:lnTo>
                  <a:pt x="29" y="762"/>
                </a:lnTo>
                <a:lnTo>
                  <a:pt x="29" y="768"/>
                </a:lnTo>
                <a:lnTo>
                  <a:pt x="24" y="774"/>
                </a:lnTo>
                <a:lnTo>
                  <a:pt x="18" y="774"/>
                </a:lnTo>
                <a:lnTo>
                  <a:pt x="18" y="780"/>
                </a:lnTo>
                <a:lnTo>
                  <a:pt x="12" y="785"/>
                </a:lnTo>
                <a:lnTo>
                  <a:pt x="6" y="791"/>
                </a:lnTo>
                <a:lnTo>
                  <a:pt x="6" y="791"/>
                </a:lnTo>
                <a:lnTo>
                  <a:pt x="0" y="797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57680" y="4722840"/>
            <a:ext cx="168480" cy="187200"/>
          </a:xfrm>
          <a:custGeom>
            <a:avLst/>
            <a:gdLst/>
            <a:ahLst/>
            <a:rect l="l" t="t" r="r" b="b"/>
            <a:pathLst>
              <a:path w="106" h="118">
                <a:moveTo>
                  <a:pt x="0" y="118"/>
                </a:moveTo>
                <a:lnTo>
                  <a:pt x="106" y="71"/>
                </a:lnTo>
                <a:lnTo>
                  <a:pt x="24" y="0"/>
                </a:lnTo>
                <a:lnTo>
                  <a:pt x="0" y="11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175280" y="4276080"/>
            <a:ext cx="2422440" cy="158760"/>
          </a:xfrm>
          <a:custGeom>
            <a:avLst/>
            <a:gdLst/>
            <a:ahLst/>
            <a:rect l="l" t="t" r="r" b="b"/>
            <a:pathLst>
              <a:path w="1467" h="70">
                <a:moveTo>
                  <a:pt x="1467" y="35"/>
                </a:moveTo>
                <a:lnTo>
                  <a:pt x="1461" y="35"/>
                </a:lnTo>
                <a:lnTo>
                  <a:pt x="1450" y="35"/>
                </a:lnTo>
                <a:lnTo>
                  <a:pt x="1444" y="35"/>
                </a:lnTo>
                <a:lnTo>
                  <a:pt x="1438" y="35"/>
                </a:lnTo>
                <a:lnTo>
                  <a:pt x="1426" y="41"/>
                </a:lnTo>
                <a:lnTo>
                  <a:pt x="1420" y="41"/>
                </a:lnTo>
                <a:lnTo>
                  <a:pt x="1414" y="41"/>
                </a:lnTo>
                <a:lnTo>
                  <a:pt x="1403" y="41"/>
                </a:lnTo>
                <a:lnTo>
                  <a:pt x="1397" y="41"/>
                </a:lnTo>
                <a:lnTo>
                  <a:pt x="1391" y="41"/>
                </a:lnTo>
                <a:lnTo>
                  <a:pt x="1379" y="41"/>
                </a:lnTo>
                <a:lnTo>
                  <a:pt x="1373" y="41"/>
                </a:lnTo>
                <a:lnTo>
                  <a:pt x="1367" y="41"/>
                </a:lnTo>
                <a:lnTo>
                  <a:pt x="1356" y="41"/>
                </a:lnTo>
                <a:lnTo>
                  <a:pt x="1350" y="47"/>
                </a:lnTo>
                <a:lnTo>
                  <a:pt x="1344" y="47"/>
                </a:lnTo>
                <a:lnTo>
                  <a:pt x="1332" y="47"/>
                </a:lnTo>
                <a:lnTo>
                  <a:pt x="1326" y="47"/>
                </a:lnTo>
                <a:lnTo>
                  <a:pt x="1320" y="47"/>
                </a:lnTo>
                <a:lnTo>
                  <a:pt x="1309" y="47"/>
                </a:lnTo>
                <a:lnTo>
                  <a:pt x="1303" y="47"/>
                </a:lnTo>
                <a:lnTo>
                  <a:pt x="1297" y="47"/>
                </a:lnTo>
                <a:lnTo>
                  <a:pt x="1285" y="47"/>
                </a:lnTo>
                <a:lnTo>
                  <a:pt x="1279" y="47"/>
                </a:lnTo>
                <a:lnTo>
                  <a:pt x="1273" y="53"/>
                </a:lnTo>
                <a:lnTo>
                  <a:pt x="1262" y="53"/>
                </a:lnTo>
                <a:lnTo>
                  <a:pt x="1256" y="53"/>
                </a:lnTo>
                <a:lnTo>
                  <a:pt x="1250" y="53"/>
                </a:lnTo>
                <a:lnTo>
                  <a:pt x="1238" y="53"/>
                </a:lnTo>
                <a:lnTo>
                  <a:pt x="1232" y="53"/>
                </a:lnTo>
                <a:lnTo>
                  <a:pt x="1227" y="53"/>
                </a:lnTo>
                <a:lnTo>
                  <a:pt x="1215" y="53"/>
                </a:lnTo>
                <a:lnTo>
                  <a:pt x="1209" y="53"/>
                </a:lnTo>
                <a:lnTo>
                  <a:pt x="1203" y="53"/>
                </a:lnTo>
                <a:lnTo>
                  <a:pt x="1191" y="53"/>
                </a:lnTo>
                <a:lnTo>
                  <a:pt x="1185" y="59"/>
                </a:lnTo>
                <a:lnTo>
                  <a:pt x="1180" y="59"/>
                </a:lnTo>
                <a:lnTo>
                  <a:pt x="1168" y="59"/>
                </a:lnTo>
                <a:lnTo>
                  <a:pt x="1162" y="59"/>
                </a:lnTo>
                <a:lnTo>
                  <a:pt x="1156" y="59"/>
                </a:lnTo>
                <a:lnTo>
                  <a:pt x="1144" y="59"/>
                </a:lnTo>
                <a:lnTo>
                  <a:pt x="1139" y="59"/>
                </a:lnTo>
                <a:lnTo>
                  <a:pt x="1133" y="59"/>
                </a:lnTo>
                <a:lnTo>
                  <a:pt x="1121" y="59"/>
                </a:lnTo>
                <a:lnTo>
                  <a:pt x="1115" y="59"/>
                </a:lnTo>
                <a:lnTo>
                  <a:pt x="1109" y="59"/>
                </a:lnTo>
                <a:lnTo>
                  <a:pt x="1103" y="59"/>
                </a:lnTo>
                <a:lnTo>
                  <a:pt x="1092" y="65"/>
                </a:lnTo>
                <a:lnTo>
                  <a:pt x="1086" y="65"/>
                </a:lnTo>
                <a:lnTo>
                  <a:pt x="1080" y="65"/>
                </a:lnTo>
                <a:lnTo>
                  <a:pt x="1068" y="65"/>
                </a:lnTo>
                <a:lnTo>
                  <a:pt x="1062" y="65"/>
                </a:lnTo>
                <a:lnTo>
                  <a:pt x="1056" y="65"/>
                </a:lnTo>
                <a:lnTo>
                  <a:pt x="1045" y="65"/>
                </a:lnTo>
                <a:lnTo>
                  <a:pt x="1039" y="65"/>
                </a:lnTo>
                <a:lnTo>
                  <a:pt x="1033" y="65"/>
                </a:lnTo>
                <a:lnTo>
                  <a:pt x="1021" y="65"/>
                </a:lnTo>
                <a:lnTo>
                  <a:pt x="1015" y="65"/>
                </a:lnTo>
                <a:lnTo>
                  <a:pt x="1009" y="65"/>
                </a:lnTo>
                <a:lnTo>
                  <a:pt x="998" y="65"/>
                </a:lnTo>
                <a:lnTo>
                  <a:pt x="992" y="65"/>
                </a:lnTo>
                <a:lnTo>
                  <a:pt x="986" y="65"/>
                </a:lnTo>
                <a:lnTo>
                  <a:pt x="974" y="65"/>
                </a:lnTo>
                <a:lnTo>
                  <a:pt x="968" y="65"/>
                </a:lnTo>
                <a:lnTo>
                  <a:pt x="963" y="70"/>
                </a:lnTo>
                <a:lnTo>
                  <a:pt x="951" y="70"/>
                </a:lnTo>
                <a:lnTo>
                  <a:pt x="945" y="70"/>
                </a:lnTo>
                <a:lnTo>
                  <a:pt x="939" y="70"/>
                </a:lnTo>
                <a:lnTo>
                  <a:pt x="927" y="70"/>
                </a:lnTo>
                <a:lnTo>
                  <a:pt x="921" y="70"/>
                </a:lnTo>
                <a:lnTo>
                  <a:pt x="916" y="70"/>
                </a:lnTo>
                <a:lnTo>
                  <a:pt x="904" y="70"/>
                </a:lnTo>
                <a:lnTo>
                  <a:pt x="898" y="70"/>
                </a:lnTo>
                <a:lnTo>
                  <a:pt x="892" y="70"/>
                </a:lnTo>
                <a:lnTo>
                  <a:pt x="886" y="70"/>
                </a:lnTo>
                <a:lnTo>
                  <a:pt x="875" y="70"/>
                </a:lnTo>
                <a:lnTo>
                  <a:pt x="869" y="70"/>
                </a:lnTo>
                <a:lnTo>
                  <a:pt x="863" y="70"/>
                </a:lnTo>
                <a:lnTo>
                  <a:pt x="851" y="70"/>
                </a:lnTo>
                <a:lnTo>
                  <a:pt x="845" y="70"/>
                </a:lnTo>
                <a:lnTo>
                  <a:pt x="839" y="70"/>
                </a:lnTo>
                <a:lnTo>
                  <a:pt x="828" y="70"/>
                </a:lnTo>
                <a:lnTo>
                  <a:pt x="822" y="70"/>
                </a:lnTo>
                <a:lnTo>
                  <a:pt x="816" y="70"/>
                </a:lnTo>
                <a:lnTo>
                  <a:pt x="804" y="70"/>
                </a:lnTo>
                <a:lnTo>
                  <a:pt x="798" y="70"/>
                </a:lnTo>
                <a:lnTo>
                  <a:pt x="792" y="70"/>
                </a:lnTo>
                <a:lnTo>
                  <a:pt x="781" y="70"/>
                </a:lnTo>
                <a:lnTo>
                  <a:pt x="775" y="70"/>
                </a:lnTo>
                <a:lnTo>
                  <a:pt x="769" y="70"/>
                </a:lnTo>
                <a:lnTo>
                  <a:pt x="763" y="70"/>
                </a:lnTo>
                <a:lnTo>
                  <a:pt x="751" y="70"/>
                </a:lnTo>
                <a:lnTo>
                  <a:pt x="745" y="70"/>
                </a:lnTo>
                <a:lnTo>
                  <a:pt x="740" y="70"/>
                </a:lnTo>
                <a:lnTo>
                  <a:pt x="728" y="70"/>
                </a:lnTo>
                <a:lnTo>
                  <a:pt x="722" y="70"/>
                </a:lnTo>
                <a:lnTo>
                  <a:pt x="716" y="70"/>
                </a:lnTo>
                <a:lnTo>
                  <a:pt x="704" y="70"/>
                </a:lnTo>
                <a:lnTo>
                  <a:pt x="699" y="70"/>
                </a:lnTo>
                <a:lnTo>
                  <a:pt x="693" y="70"/>
                </a:lnTo>
                <a:lnTo>
                  <a:pt x="681" y="70"/>
                </a:lnTo>
                <a:lnTo>
                  <a:pt x="675" y="70"/>
                </a:lnTo>
                <a:lnTo>
                  <a:pt x="669" y="70"/>
                </a:lnTo>
                <a:lnTo>
                  <a:pt x="663" y="70"/>
                </a:lnTo>
                <a:lnTo>
                  <a:pt x="652" y="70"/>
                </a:lnTo>
                <a:lnTo>
                  <a:pt x="646" y="65"/>
                </a:lnTo>
                <a:lnTo>
                  <a:pt x="640" y="65"/>
                </a:lnTo>
                <a:lnTo>
                  <a:pt x="628" y="65"/>
                </a:lnTo>
                <a:lnTo>
                  <a:pt x="622" y="65"/>
                </a:lnTo>
                <a:lnTo>
                  <a:pt x="616" y="65"/>
                </a:lnTo>
                <a:lnTo>
                  <a:pt x="610" y="65"/>
                </a:lnTo>
                <a:lnTo>
                  <a:pt x="599" y="65"/>
                </a:lnTo>
                <a:lnTo>
                  <a:pt x="593" y="65"/>
                </a:lnTo>
                <a:lnTo>
                  <a:pt x="587" y="65"/>
                </a:lnTo>
                <a:lnTo>
                  <a:pt x="575" y="65"/>
                </a:lnTo>
                <a:lnTo>
                  <a:pt x="569" y="65"/>
                </a:lnTo>
                <a:lnTo>
                  <a:pt x="564" y="65"/>
                </a:lnTo>
                <a:lnTo>
                  <a:pt x="558" y="65"/>
                </a:lnTo>
                <a:lnTo>
                  <a:pt x="546" y="65"/>
                </a:lnTo>
                <a:lnTo>
                  <a:pt x="540" y="65"/>
                </a:lnTo>
                <a:lnTo>
                  <a:pt x="534" y="65"/>
                </a:lnTo>
                <a:lnTo>
                  <a:pt x="522" y="59"/>
                </a:lnTo>
                <a:lnTo>
                  <a:pt x="517" y="59"/>
                </a:lnTo>
                <a:lnTo>
                  <a:pt x="511" y="59"/>
                </a:lnTo>
                <a:lnTo>
                  <a:pt x="505" y="59"/>
                </a:lnTo>
                <a:lnTo>
                  <a:pt x="493" y="59"/>
                </a:lnTo>
                <a:lnTo>
                  <a:pt x="487" y="59"/>
                </a:lnTo>
                <a:lnTo>
                  <a:pt x="481" y="59"/>
                </a:lnTo>
                <a:lnTo>
                  <a:pt x="476" y="59"/>
                </a:lnTo>
                <a:lnTo>
                  <a:pt x="464" y="59"/>
                </a:lnTo>
                <a:lnTo>
                  <a:pt x="458" y="59"/>
                </a:lnTo>
                <a:lnTo>
                  <a:pt x="452" y="59"/>
                </a:lnTo>
                <a:lnTo>
                  <a:pt x="446" y="53"/>
                </a:lnTo>
                <a:lnTo>
                  <a:pt x="434" y="53"/>
                </a:lnTo>
                <a:lnTo>
                  <a:pt x="429" y="53"/>
                </a:lnTo>
                <a:lnTo>
                  <a:pt x="423" y="53"/>
                </a:lnTo>
                <a:lnTo>
                  <a:pt x="417" y="53"/>
                </a:lnTo>
                <a:lnTo>
                  <a:pt x="405" y="53"/>
                </a:lnTo>
                <a:lnTo>
                  <a:pt x="399" y="53"/>
                </a:lnTo>
                <a:lnTo>
                  <a:pt x="393" y="53"/>
                </a:lnTo>
                <a:lnTo>
                  <a:pt x="388" y="53"/>
                </a:lnTo>
                <a:lnTo>
                  <a:pt x="376" y="47"/>
                </a:lnTo>
                <a:lnTo>
                  <a:pt x="370" y="47"/>
                </a:lnTo>
                <a:lnTo>
                  <a:pt x="364" y="47"/>
                </a:lnTo>
                <a:lnTo>
                  <a:pt x="358" y="47"/>
                </a:lnTo>
                <a:lnTo>
                  <a:pt x="346" y="47"/>
                </a:lnTo>
                <a:lnTo>
                  <a:pt x="341" y="47"/>
                </a:lnTo>
                <a:lnTo>
                  <a:pt x="335" y="47"/>
                </a:lnTo>
                <a:lnTo>
                  <a:pt x="329" y="47"/>
                </a:lnTo>
                <a:lnTo>
                  <a:pt x="323" y="41"/>
                </a:lnTo>
                <a:lnTo>
                  <a:pt x="311" y="41"/>
                </a:lnTo>
                <a:lnTo>
                  <a:pt x="305" y="41"/>
                </a:lnTo>
                <a:lnTo>
                  <a:pt x="300" y="41"/>
                </a:lnTo>
                <a:lnTo>
                  <a:pt x="294" y="41"/>
                </a:lnTo>
                <a:lnTo>
                  <a:pt x="288" y="41"/>
                </a:lnTo>
                <a:lnTo>
                  <a:pt x="276" y="41"/>
                </a:lnTo>
                <a:lnTo>
                  <a:pt x="270" y="35"/>
                </a:lnTo>
                <a:lnTo>
                  <a:pt x="264" y="35"/>
                </a:lnTo>
                <a:lnTo>
                  <a:pt x="258" y="35"/>
                </a:lnTo>
                <a:lnTo>
                  <a:pt x="253" y="35"/>
                </a:lnTo>
                <a:lnTo>
                  <a:pt x="241" y="35"/>
                </a:lnTo>
                <a:lnTo>
                  <a:pt x="235" y="35"/>
                </a:lnTo>
                <a:lnTo>
                  <a:pt x="229" y="35"/>
                </a:lnTo>
                <a:lnTo>
                  <a:pt x="223" y="29"/>
                </a:lnTo>
                <a:lnTo>
                  <a:pt x="217" y="29"/>
                </a:lnTo>
                <a:lnTo>
                  <a:pt x="212" y="29"/>
                </a:lnTo>
                <a:lnTo>
                  <a:pt x="200" y="29"/>
                </a:lnTo>
                <a:lnTo>
                  <a:pt x="194" y="29"/>
                </a:lnTo>
                <a:lnTo>
                  <a:pt x="188" y="29"/>
                </a:lnTo>
                <a:lnTo>
                  <a:pt x="182" y="29"/>
                </a:lnTo>
                <a:lnTo>
                  <a:pt x="176" y="24"/>
                </a:lnTo>
                <a:lnTo>
                  <a:pt x="170" y="24"/>
                </a:lnTo>
                <a:lnTo>
                  <a:pt x="165" y="24"/>
                </a:lnTo>
                <a:lnTo>
                  <a:pt x="153" y="24"/>
                </a:lnTo>
                <a:lnTo>
                  <a:pt x="147" y="24"/>
                </a:lnTo>
                <a:lnTo>
                  <a:pt x="141" y="24"/>
                </a:lnTo>
                <a:lnTo>
                  <a:pt x="135" y="18"/>
                </a:lnTo>
                <a:lnTo>
                  <a:pt x="129" y="18"/>
                </a:lnTo>
                <a:lnTo>
                  <a:pt x="124" y="18"/>
                </a:lnTo>
                <a:lnTo>
                  <a:pt x="118" y="18"/>
                </a:lnTo>
                <a:lnTo>
                  <a:pt x="112" y="18"/>
                </a:lnTo>
                <a:lnTo>
                  <a:pt x="106" y="18"/>
                </a:lnTo>
                <a:lnTo>
                  <a:pt x="100" y="12"/>
                </a:lnTo>
                <a:lnTo>
                  <a:pt x="88" y="12"/>
                </a:lnTo>
                <a:lnTo>
                  <a:pt x="82" y="12"/>
                </a:lnTo>
                <a:lnTo>
                  <a:pt x="77" y="12"/>
                </a:lnTo>
                <a:lnTo>
                  <a:pt x="71" y="12"/>
                </a:lnTo>
                <a:lnTo>
                  <a:pt x="65" y="12"/>
                </a:lnTo>
                <a:lnTo>
                  <a:pt x="59" y="12"/>
                </a:lnTo>
                <a:lnTo>
                  <a:pt x="53" y="6"/>
                </a:lnTo>
                <a:lnTo>
                  <a:pt x="47" y="6"/>
                </a:lnTo>
                <a:lnTo>
                  <a:pt x="41" y="6"/>
                </a:lnTo>
                <a:lnTo>
                  <a:pt x="36" y="6"/>
                </a:lnTo>
                <a:lnTo>
                  <a:pt x="30" y="6"/>
                </a:lnTo>
                <a:lnTo>
                  <a:pt x="24" y="6"/>
                </a:lnTo>
                <a:lnTo>
                  <a:pt x="18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883120" y="4397400"/>
            <a:ext cx="992520" cy="595440"/>
          </a:xfrm>
          <a:custGeom>
            <a:avLst/>
            <a:gdLst/>
            <a:ahLst/>
            <a:rect l="l" t="t" r="r" b="b"/>
            <a:pathLst>
              <a:path w="370" h="146">
                <a:moveTo>
                  <a:pt x="370" y="0"/>
                </a:moveTo>
                <a:lnTo>
                  <a:pt x="370" y="0"/>
                </a:lnTo>
                <a:lnTo>
                  <a:pt x="370" y="0"/>
                </a:lnTo>
                <a:lnTo>
                  <a:pt x="364" y="0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64" y="6"/>
                </a:lnTo>
                <a:lnTo>
                  <a:pt x="358" y="6"/>
                </a:lnTo>
                <a:lnTo>
                  <a:pt x="358" y="6"/>
                </a:lnTo>
                <a:lnTo>
                  <a:pt x="358" y="6"/>
                </a:lnTo>
                <a:lnTo>
                  <a:pt x="358" y="12"/>
                </a:lnTo>
                <a:lnTo>
                  <a:pt x="358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53" y="12"/>
                </a:lnTo>
                <a:lnTo>
                  <a:pt x="347" y="12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7" y="17"/>
                </a:lnTo>
                <a:lnTo>
                  <a:pt x="341" y="17"/>
                </a:lnTo>
                <a:lnTo>
                  <a:pt x="341" y="17"/>
                </a:lnTo>
                <a:lnTo>
                  <a:pt x="341" y="23"/>
                </a:lnTo>
                <a:lnTo>
                  <a:pt x="341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3"/>
                </a:lnTo>
                <a:lnTo>
                  <a:pt x="335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9" y="29"/>
                </a:lnTo>
                <a:lnTo>
                  <a:pt x="323" y="29"/>
                </a:lnTo>
                <a:lnTo>
                  <a:pt x="323" y="35"/>
                </a:lnTo>
                <a:lnTo>
                  <a:pt x="323" y="35"/>
                </a:lnTo>
                <a:lnTo>
                  <a:pt x="323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35"/>
                </a:lnTo>
                <a:lnTo>
                  <a:pt x="317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11" y="41"/>
                </a:lnTo>
                <a:lnTo>
                  <a:pt x="306" y="41"/>
                </a:lnTo>
                <a:lnTo>
                  <a:pt x="306" y="47"/>
                </a:lnTo>
                <a:lnTo>
                  <a:pt x="306" y="47"/>
                </a:lnTo>
                <a:lnTo>
                  <a:pt x="306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47"/>
                </a:lnTo>
                <a:lnTo>
                  <a:pt x="300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94" y="53"/>
                </a:lnTo>
                <a:lnTo>
                  <a:pt x="288" y="53"/>
                </a:lnTo>
                <a:lnTo>
                  <a:pt x="288" y="59"/>
                </a:lnTo>
                <a:lnTo>
                  <a:pt x="288" y="59"/>
                </a:lnTo>
                <a:lnTo>
                  <a:pt x="288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82" y="59"/>
                </a:lnTo>
                <a:lnTo>
                  <a:pt x="276" y="64"/>
                </a:lnTo>
                <a:lnTo>
                  <a:pt x="276" y="64"/>
                </a:lnTo>
                <a:lnTo>
                  <a:pt x="276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70" y="64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64" y="70"/>
                </a:lnTo>
                <a:lnTo>
                  <a:pt x="259" y="70"/>
                </a:lnTo>
                <a:lnTo>
                  <a:pt x="259" y="70"/>
                </a:lnTo>
                <a:lnTo>
                  <a:pt x="259" y="70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53" y="76"/>
                </a:lnTo>
                <a:lnTo>
                  <a:pt x="247" y="76"/>
                </a:lnTo>
                <a:lnTo>
                  <a:pt x="247" y="76"/>
                </a:lnTo>
                <a:lnTo>
                  <a:pt x="247" y="76"/>
                </a:lnTo>
                <a:lnTo>
                  <a:pt x="241" y="82"/>
                </a:lnTo>
                <a:lnTo>
                  <a:pt x="241" y="82"/>
                </a:lnTo>
                <a:lnTo>
                  <a:pt x="241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35" y="82"/>
                </a:lnTo>
                <a:lnTo>
                  <a:pt x="229" y="82"/>
                </a:lnTo>
                <a:lnTo>
                  <a:pt x="229" y="82"/>
                </a:lnTo>
                <a:lnTo>
                  <a:pt x="229" y="88"/>
                </a:lnTo>
                <a:lnTo>
                  <a:pt x="223" y="88"/>
                </a:lnTo>
                <a:lnTo>
                  <a:pt x="223" y="88"/>
                </a:lnTo>
                <a:lnTo>
                  <a:pt x="223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8" y="88"/>
                </a:lnTo>
                <a:lnTo>
                  <a:pt x="212" y="88"/>
                </a:lnTo>
                <a:lnTo>
                  <a:pt x="212" y="94"/>
                </a:lnTo>
                <a:lnTo>
                  <a:pt x="212" y="94"/>
                </a:lnTo>
                <a:lnTo>
                  <a:pt x="206" y="94"/>
                </a:lnTo>
                <a:lnTo>
                  <a:pt x="206" y="94"/>
                </a:lnTo>
                <a:lnTo>
                  <a:pt x="206" y="94"/>
                </a:lnTo>
                <a:lnTo>
                  <a:pt x="200" y="94"/>
                </a:lnTo>
                <a:lnTo>
                  <a:pt x="200" y="94"/>
                </a:lnTo>
                <a:lnTo>
                  <a:pt x="200" y="94"/>
                </a:lnTo>
                <a:lnTo>
                  <a:pt x="194" y="94"/>
                </a:lnTo>
                <a:lnTo>
                  <a:pt x="194" y="94"/>
                </a:lnTo>
                <a:lnTo>
                  <a:pt x="194" y="94"/>
                </a:lnTo>
                <a:lnTo>
                  <a:pt x="188" y="100"/>
                </a:lnTo>
                <a:lnTo>
                  <a:pt x="188" y="100"/>
                </a:lnTo>
                <a:lnTo>
                  <a:pt x="188" y="100"/>
                </a:lnTo>
                <a:lnTo>
                  <a:pt x="182" y="100"/>
                </a:lnTo>
                <a:lnTo>
                  <a:pt x="182" y="100"/>
                </a:lnTo>
                <a:lnTo>
                  <a:pt x="182" y="100"/>
                </a:lnTo>
                <a:lnTo>
                  <a:pt x="176" y="100"/>
                </a:lnTo>
                <a:lnTo>
                  <a:pt x="176" y="100"/>
                </a:lnTo>
                <a:lnTo>
                  <a:pt x="176" y="100"/>
                </a:lnTo>
                <a:lnTo>
                  <a:pt x="171" y="100"/>
                </a:lnTo>
                <a:lnTo>
                  <a:pt x="171" y="100"/>
                </a:lnTo>
                <a:lnTo>
                  <a:pt x="171" y="100"/>
                </a:lnTo>
                <a:lnTo>
                  <a:pt x="165" y="105"/>
                </a:lnTo>
                <a:lnTo>
                  <a:pt x="165" y="105"/>
                </a:lnTo>
                <a:lnTo>
                  <a:pt x="165" y="105"/>
                </a:lnTo>
                <a:lnTo>
                  <a:pt x="159" y="105"/>
                </a:lnTo>
                <a:lnTo>
                  <a:pt x="159" y="105"/>
                </a:lnTo>
                <a:lnTo>
                  <a:pt x="159" y="105"/>
                </a:lnTo>
                <a:lnTo>
                  <a:pt x="153" y="105"/>
                </a:lnTo>
                <a:lnTo>
                  <a:pt x="153" y="105"/>
                </a:lnTo>
                <a:lnTo>
                  <a:pt x="153" y="105"/>
                </a:lnTo>
                <a:lnTo>
                  <a:pt x="147" y="105"/>
                </a:lnTo>
                <a:lnTo>
                  <a:pt x="147" y="105"/>
                </a:lnTo>
                <a:lnTo>
                  <a:pt x="141" y="105"/>
                </a:lnTo>
                <a:lnTo>
                  <a:pt x="141" y="105"/>
                </a:lnTo>
                <a:lnTo>
                  <a:pt x="141" y="111"/>
                </a:lnTo>
                <a:lnTo>
                  <a:pt x="135" y="111"/>
                </a:lnTo>
                <a:lnTo>
                  <a:pt x="135" y="111"/>
                </a:lnTo>
                <a:lnTo>
                  <a:pt x="135" y="111"/>
                </a:lnTo>
                <a:lnTo>
                  <a:pt x="130" y="111"/>
                </a:lnTo>
                <a:lnTo>
                  <a:pt x="130" y="111"/>
                </a:lnTo>
                <a:lnTo>
                  <a:pt x="130" y="111"/>
                </a:lnTo>
                <a:lnTo>
                  <a:pt x="124" y="111"/>
                </a:lnTo>
                <a:lnTo>
                  <a:pt x="124" y="111"/>
                </a:lnTo>
                <a:lnTo>
                  <a:pt x="118" y="111"/>
                </a:lnTo>
                <a:lnTo>
                  <a:pt x="118" y="111"/>
                </a:lnTo>
                <a:lnTo>
                  <a:pt x="118" y="111"/>
                </a:lnTo>
                <a:lnTo>
                  <a:pt x="112" y="111"/>
                </a:lnTo>
                <a:lnTo>
                  <a:pt x="112" y="117"/>
                </a:lnTo>
                <a:lnTo>
                  <a:pt x="106" y="117"/>
                </a:lnTo>
                <a:lnTo>
                  <a:pt x="106" y="117"/>
                </a:lnTo>
                <a:lnTo>
                  <a:pt x="106" y="117"/>
                </a:lnTo>
                <a:lnTo>
                  <a:pt x="100" y="117"/>
                </a:lnTo>
                <a:lnTo>
                  <a:pt x="100" y="117"/>
                </a:lnTo>
                <a:lnTo>
                  <a:pt x="100" y="117"/>
                </a:lnTo>
                <a:lnTo>
                  <a:pt x="94" y="117"/>
                </a:lnTo>
                <a:lnTo>
                  <a:pt x="94" y="117"/>
                </a:lnTo>
                <a:lnTo>
                  <a:pt x="88" y="117"/>
                </a:lnTo>
                <a:lnTo>
                  <a:pt x="88" y="117"/>
                </a:lnTo>
                <a:lnTo>
                  <a:pt x="88" y="117"/>
                </a:lnTo>
                <a:lnTo>
                  <a:pt x="83" y="123"/>
                </a:lnTo>
                <a:lnTo>
                  <a:pt x="83" y="123"/>
                </a:lnTo>
                <a:lnTo>
                  <a:pt x="77" y="123"/>
                </a:lnTo>
                <a:lnTo>
                  <a:pt x="77" y="123"/>
                </a:lnTo>
                <a:lnTo>
                  <a:pt x="71" y="123"/>
                </a:lnTo>
                <a:lnTo>
                  <a:pt x="71" y="123"/>
                </a:lnTo>
                <a:lnTo>
                  <a:pt x="71" y="123"/>
                </a:lnTo>
                <a:lnTo>
                  <a:pt x="65" y="123"/>
                </a:lnTo>
                <a:lnTo>
                  <a:pt x="65" y="123"/>
                </a:lnTo>
                <a:lnTo>
                  <a:pt x="59" y="123"/>
                </a:lnTo>
                <a:lnTo>
                  <a:pt x="59" y="129"/>
                </a:lnTo>
                <a:lnTo>
                  <a:pt x="59" y="129"/>
                </a:lnTo>
                <a:lnTo>
                  <a:pt x="53" y="129"/>
                </a:lnTo>
                <a:lnTo>
                  <a:pt x="53" y="129"/>
                </a:lnTo>
                <a:lnTo>
                  <a:pt x="47" y="129"/>
                </a:lnTo>
                <a:lnTo>
                  <a:pt x="47" y="129"/>
                </a:lnTo>
                <a:lnTo>
                  <a:pt x="42" y="129"/>
                </a:lnTo>
                <a:lnTo>
                  <a:pt x="42" y="129"/>
                </a:lnTo>
                <a:lnTo>
                  <a:pt x="36" y="135"/>
                </a:lnTo>
                <a:lnTo>
                  <a:pt x="36" y="135"/>
                </a:lnTo>
                <a:lnTo>
                  <a:pt x="36" y="135"/>
                </a:lnTo>
                <a:lnTo>
                  <a:pt x="30" y="135"/>
                </a:lnTo>
                <a:lnTo>
                  <a:pt x="30" y="135"/>
                </a:lnTo>
                <a:lnTo>
                  <a:pt x="24" y="135"/>
                </a:lnTo>
                <a:lnTo>
                  <a:pt x="24" y="141"/>
                </a:lnTo>
                <a:lnTo>
                  <a:pt x="18" y="141"/>
                </a:lnTo>
                <a:lnTo>
                  <a:pt x="18" y="141"/>
                </a:lnTo>
                <a:lnTo>
                  <a:pt x="12" y="141"/>
                </a:lnTo>
                <a:lnTo>
                  <a:pt x="12" y="141"/>
                </a:lnTo>
                <a:lnTo>
                  <a:pt x="6" y="141"/>
                </a:lnTo>
                <a:lnTo>
                  <a:pt x="6" y="146"/>
                </a:lnTo>
                <a:lnTo>
                  <a:pt x="0" y="146"/>
                </a:lnTo>
                <a:lnTo>
                  <a:pt x="0" y="146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772240" y="4900680"/>
            <a:ext cx="185760" cy="14904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837400" y="494676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46760" y="499284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883120" y="495612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211560" y="4714920"/>
            <a:ext cx="166680" cy="352440"/>
          </a:xfrm>
          <a:custGeom>
            <a:avLst/>
            <a:gdLst/>
            <a:ahLst/>
            <a:rect l="l" t="t" r="r" b="b"/>
            <a:pathLst>
              <a:path w="105" h="222">
                <a:moveTo>
                  <a:pt x="105" y="0"/>
                </a:moveTo>
                <a:lnTo>
                  <a:pt x="105" y="0"/>
                </a:lnTo>
                <a:lnTo>
                  <a:pt x="105" y="5"/>
                </a:lnTo>
                <a:lnTo>
                  <a:pt x="105" y="5"/>
                </a:lnTo>
                <a:lnTo>
                  <a:pt x="99" y="11"/>
                </a:lnTo>
                <a:lnTo>
                  <a:pt x="99" y="11"/>
                </a:lnTo>
                <a:lnTo>
                  <a:pt x="99" y="11"/>
                </a:lnTo>
                <a:lnTo>
                  <a:pt x="99" y="17"/>
                </a:lnTo>
                <a:lnTo>
                  <a:pt x="99" y="17"/>
                </a:lnTo>
                <a:lnTo>
                  <a:pt x="99" y="23"/>
                </a:lnTo>
                <a:lnTo>
                  <a:pt x="99" y="23"/>
                </a:lnTo>
                <a:lnTo>
                  <a:pt x="93" y="23"/>
                </a:lnTo>
                <a:lnTo>
                  <a:pt x="93" y="29"/>
                </a:lnTo>
                <a:lnTo>
                  <a:pt x="93" y="29"/>
                </a:lnTo>
                <a:lnTo>
                  <a:pt x="93" y="29"/>
                </a:lnTo>
                <a:lnTo>
                  <a:pt x="93" y="35"/>
                </a:lnTo>
                <a:lnTo>
                  <a:pt x="93" y="35"/>
                </a:lnTo>
                <a:lnTo>
                  <a:pt x="93" y="41"/>
                </a:lnTo>
                <a:lnTo>
                  <a:pt x="93" y="41"/>
                </a:lnTo>
                <a:lnTo>
                  <a:pt x="93" y="41"/>
                </a:lnTo>
                <a:lnTo>
                  <a:pt x="88" y="46"/>
                </a:lnTo>
                <a:lnTo>
                  <a:pt x="88" y="46"/>
                </a:lnTo>
                <a:lnTo>
                  <a:pt x="88" y="46"/>
                </a:lnTo>
                <a:lnTo>
                  <a:pt x="88" y="52"/>
                </a:lnTo>
                <a:lnTo>
                  <a:pt x="88" y="52"/>
                </a:lnTo>
                <a:lnTo>
                  <a:pt x="88" y="58"/>
                </a:lnTo>
                <a:lnTo>
                  <a:pt x="88" y="58"/>
                </a:lnTo>
                <a:lnTo>
                  <a:pt x="88" y="58"/>
                </a:lnTo>
                <a:lnTo>
                  <a:pt x="88" y="64"/>
                </a:lnTo>
                <a:lnTo>
                  <a:pt x="82" y="64"/>
                </a:lnTo>
                <a:lnTo>
                  <a:pt x="82" y="64"/>
                </a:lnTo>
                <a:lnTo>
                  <a:pt x="82" y="70"/>
                </a:lnTo>
                <a:lnTo>
                  <a:pt x="82" y="70"/>
                </a:lnTo>
                <a:lnTo>
                  <a:pt x="82" y="70"/>
                </a:lnTo>
                <a:lnTo>
                  <a:pt x="82" y="76"/>
                </a:lnTo>
                <a:lnTo>
                  <a:pt x="82" y="76"/>
                </a:lnTo>
                <a:lnTo>
                  <a:pt x="82" y="76"/>
                </a:lnTo>
                <a:lnTo>
                  <a:pt x="82" y="82"/>
                </a:lnTo>
                <a:lnTo>
                  <a:pt x="76" y="82"/>
                </a:lnTo>
                <a:lnTo>
                  <a:pt x="76" y="82"/>
                </a:lnTo>
                <a:lnTo>
                  <a:pt x="76" y="88"/>
                </a:lnTo>
                <a:lnTo>
                  <a:pt x="76" y="88"/>
                </a:lnTo>
                <a:lnTo>
                  <a:pt x="76" y="88"/>
                </a:lnTo>
                <a:lnTo>
                  <a:pt x="76" y="93"/>
                </a:lnTo>
                <a:lnTo>
                  <a:pt x="76" y="93"/>
                </a:lnTo>
                <a:lnTo>
                  <a:pt x="76" y="93"/>
                </a:lnTo>
                <a:lnTo>
                  <a:pt x="76" y="99"/>
                </a:lnTo>
                <a:lnTo>
                  <a:pt x="76" y="99"/>
                </a:lnTo>
                <a:lnTo>
                  <a:pt x="70" y="99"/>
                </a:lnTo>
                <a:lnTo>
                  <a:pt x="70" y="105"/>
                </a:lnTo>
                <a:lnTo>
                  <a:pt x="70" y="105"/>
                </a:lnTo>
                <a:lnTo>
                  <a:pt x="70" y="105"/>
                </a:lnTo>
                <a:lnTo>
                  <a:pt x="70" y="111"/>
                </a:lnTo>
                <a:lnTo>
                  <a:pt x="70" y="111"/>
                </a:lnTo>
                <a:lnTo>
                  <a:pt x="70" y="111"/>
                </a:lnTo>
                <a:lnTo>
                  <a:pt x="70" y="117"/>
                </a:lnTo>
                <a:lnTo>
                  <a:pt x="70" y="117"/>
                </a:lnTo>
                <a:lnTo>
                  <a:pt x="70" y="117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3"/>
                </a:lnTo>
                <a:lnTo>
                  <a:pt x="64" y="129"/>
                </a:lnTo>
                <a:lnTo>
                  <a:pt x="64" y="129"/>
                </a:lnTo>
                <a:lnTo>
                  <a:pt x="64" y="129"/>
                </a:lnTo>
                <a:lnTo>
                  <a:pt x="64" y="134"/>
                </a:lnTo>
                <a:lnTo>
                  <a:pt x="64" y="134"/>
                </a:lnTo>
                <a:lnTo>
                  <a:pt x="58" y="134"/>
                </a:lnTo>
                <a:lnTo>
                  <a:pt x="58" y="134"/>
                </a:lnTo>
                <a:lnTo>
                  <a:pt x="58" y="140"/>
                </a:lnTo>
                <a:lnTo>
                  <a:pt x="58" y="140"/>
                </a:lnTo>
                <a:lnTo>
                  <a:pt x="58" y="140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8" y="146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2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52" y="158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64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0"/>
                </a:lnTo>
                <a:lnTo>
                  <a:pt x="47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75"/>
                </a:lnTo>
                <a:lnTo>
                  <a:pt x="41" y="181"/>
                </a:lnTo>
                <a:lnTo>
                  <a:pt x="41" y="181"/>
                </a:lnTo>
                <a:lnTo>
                  <a:pt x="41" y="181"/>
                </a:lnTo>
                <a:lnTo>
                  <a:pt x="35" y="181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87"/>
                </a:lnTo>
                <a:lnTo>
                  <a:pt x="35" y="193"/>
                </a:lnTo>
                <a:lnTo>
                  <a:pt x="35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3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9" y="199"/>
                </a:lnTo>
                <a:lnTo>
                  <a:pt x="23" y="199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23" y="205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1"/>
                </a:lnTo>
                <a:lnTo>
                  <a:pt x="17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11" y="217"/>
                </a:lnTo>
                <a:lnTo>
                  <a:pt x="5" y="217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5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22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0" y="217"/>
                </a:lnTo>
                <a:lnTo>
                  <a:pt x="5" y="217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5" y="211"/>
                </a:lnTo>
                <a:lnTo>
                  <a:pt x="11" y="205"/>
                </a:lnTo>
                <a:lnTo>
                  <a:pt x="11" y="205"/>
                </a:lnTo>
                <a:lnTo>
                  <a:pt x="11" y="20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37040" y="4956120"/>
            <a:ext cx="176040" cy="17640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0" y="111"/>
                </a:moveTo>
                <a:lnTo>
                  <a:pt x="111" y="76"/>
                </a:lnTo>
                <a:lnTo>
                  <a:pt x="35" y="0"/>
                </a:lnTo>
                <a:lnTo>
                  <a:pt x="0" y="111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82760" y="4992840"/>
            <a:ext cx="10332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192480" y="504036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228840" y="5002200"/>
            <a:ext cx="1800" cy="8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67000" y="5654520"/>
            <a:ext cx="623880" cy="335160"/>
          </a:xfrm>
          <a:custGeom>
            <a:avLst/>
            <a:gdLst/>
            <a:ahLst/>
            <a:rect l="l" t="t" r="r" b="b"/>
            <a:pathLst>
              <a:path w="393" h="211">
                <a:moveTo>
                  <a:pt x="0" y="0"/>
                </a:moveTo>
                <a:lnTo>
                  <a:pt x="6" y="0"/>
                </a:lnTo>
                <a:lnTo>
                  <a:pt x="6" y="0"/>
                </a:lnTo>
                <a:lnTo>
                  <a:pt x="12" y="6"/>
                </a:lnTo>
                <a:lnTo>
                  <a:pt x="12" y="6"/>
                </a:lnTo>
                <a:lnTo>
                  <a:pt x="12" y="6"/>
                </a:lnTo>
                <a:lnTo>
                  <a:pt x="17" y="6"/>
                </a:lnTo>
                <a:lnTo>
                  <a:pt x="17" y="6"/>
                </a:lnTo>
                <a:lnTo>
                  <a:pt x="23" y="6"/>
                </a:lnTo>
                <a:lnTo>
                  <a:pt x="23" y="6"/>
                </a:lnTo>
                <a:lnTo>
                  <a:pt x="29" y="12"/>
                </a:lnTo>
                <a:lnTo>
                  <a:pt x="29" y="12"/>
                </a:lnTo>
                <a:lnTo>
                  <a:pt x="35" y="12"/>
                </a:lnTo>
                <a:lnTo>
                  <a:pt x="35" y="12"/>
                </a:lnTo>
                <a:lnTo>
                  <a:pt x="41" y="12"/>
                </a:lnTo>
                <a:lnTo>
                  <a:pt x="41" y="12"/>
                </a:lnTo>
                <a:lnTo>
                  <a:pt x="47" y="17"/>
                </a:lnTo>
                <a:lnTo>
                  <a:pt x="47" y="17"/>
                </a:lnTo>
                <a:lnTo>
                  <a:pt x="53" y="17"/>
                </a:lnTo>
                <a:lnTo>
                  <a:pt x="53" y="17"/>
                </a:lnTo>
                <a:lnTo>
                  <a:pt x="58" y="17"/>
                </a:lnTo>
                <a:lnTo>
                  <a:pt x="58" y="17"/>
                </a:lnTo>
                <a:lnTo>
                  <a:pt x="64" y="17"/>
                </a:lnTo>
                <a:lnTo>
                  <a:pt x="64" y="23"/>
                </a:lnTo>
                <a:lnTo>
                  <a:pt x="70" y="23"/>
                </a:lnTo>
                <a:lnTo>
                  <a:pt x="70" y="23"/>
                </a:lnTo>
                <a:lnTo>
                  <a:pt x="76" y="23"/>
                </a:lnTo>
                <a:lnTo>
                  <a:pt x="76" y="23"/>
                </a:lnTo>
                <a:lnTo>
                  <a:pt x="82" y="23"/>
                </a:lnTo>
                <a:lnTo>
                  <a:pt x="82" y="23"/>
                </a:lnTo>
                <a:lnTo>
                  <a:pt x="88" y="23"/>
                </a:lnTo>
                <a:lnTo>
                  <a:pt x="88" y="29"/>
                </a:lnTo>
                <a:lnTo>
                  <a:pt x="88" y="29"/>
                </a:lnTo>
                <a:lnTo>
                  <a:pt x="94" y="29"/>
                </a:lnTo>
                <a:lnTo>
                  <a:pt x="94" y="29"/>
                </a:lnTo>
                <a:lnTo>
                  <a:pt x="100" y="29"/>
                </a:lnTo>
                <a:lnTo>
                  <a:pt x="100" y="29"/>
                </a:lnTo>
                <a:lnTo>
                  <a:pt x="105" y="29"/>
                </a:lnTo>
                <a:lnTo>
                  <a:pt x="105" y="35"/>
                </a:lnTo>
                <a:lnTo>
                  <a:pt x="111" y="35"/>
                </a:lnTo>
                <a:lnTo>
                  <a:pt x="111" y="35"/>
                </a:lnTo>
                <a:lnTo>
                  <a:pt x="117" y="35"/>
                </a:lnTo>
                <a:lnTo>
                  <a:pt x="117" y="35"/>
                </a:lnTo>
                <a:lnTo>
                  <a:pt x="117" y="35"/>
                </a:lnTo>
                <a:lnTo>
                  <a:pt x="123" y="35"/>
                </a:lnTo>
                <a:lnTo>
                  <a:pt x="123" y="35"/>
                </a:lnTo>
                <a:lnTo>
                  <a:pt x="129" y="41"/>
                </a:lnTo>
                <a:lnTo>
                  <a:pt x="129" y="41"/>
                </a:lnTo>
                <a:lnTo>
                  <a:pt x="135" y="41"/>
                </a:lnTo>
                <a:lnTo>
                  <a:pt x="135" y="41"/>
                </a:lnTo>
                <a:lnTo>
                  <a:pt x="141" y="41"/>
                </a:lnTo>
                <a:lnTo>
                  <a:pt x="141" y="41"/>
                </a:lnTo>
                <a:lnTo>
                  <a:pt x="141" y="41"/>
                </a:lnTo>
                <a:lnTo>
                  <a:pt x="146" y="47"/>
                </a:lnTo>
                <a:lnTo>
                  <a:pt x="146" y="47"/>
                </a:lnTo>
                <a:lnTo>
                  <a:pt x="152" y="47"/>
                </a:lnTo>
                <a:lnTo>
                  <a:pt x="152" y="47"/>
                </a:lnTo>
                <a:lnTo>
                  <a:pt x="158" y="47"/>
                </a:lnTo>
                <a:lnTo>
                  <a:pt x="158" y="47"/>
                </a:lnTo>
                <a:lnTo>
                  <a:pt x="158" y="47"/>
                </a:lnTo>
                <a:lnTo>
                  <a:pt x="164" y="53"/>
                </a:lnTo>
                <a:lnTo>
                  <a:pt x="164" y="53"/>
                </a:lnTo>
                <a:lnTo>
                  <a:pt x="170" y="53"/>
                </a:lnTo>
                <a:lnTo>
                  <a:pt x="170" y="53"/>
                </a:lnTo>
                <a:lnTo>
                  <a:pt x="176" y="53"/>
                </a:lnTo>
                <a:lnTo>
                  <a:pt x="176" y="53"/>
                </a:lnTo>
                <a:lnTo>
                  <a:pt x="176" y="53"/>
                </a:lnTo>
                <a:lnTo>
                  <a:pt x="182" y="59"/>
                </a:lnTo>
                <a:lnTo>
                  <a:pt x="182" y="59"/>
                </a:lnTo>
                <a:lnTo>
                  <a:pt x="188" y="59"/>
                </a:lnTo>
                <a:lnTo>
                  <a:pt x="188" y="59"/>
                </a:lnTo>
                <a:lnTo>
                  <a:pt x="188" y="59"/>
                </a:lnTo>
                <a:lnTo>
                  <a:pt x="193" y="59"/>
                </a:lnTo>
                <a:lnTo>
                  <a:pt x="193" y="64"/>
                </a:lnTo>
                <a:lnTo>
                  <a:pt x="199" y="64"/>
                </a:lnTo>
                <a:lnTo>
                  <a:pt x="199" y="64"/>
                </a:lnTo>
                <a:lnTo>
                  <a:pt x="199" y="64"/>
                </a:lnTo>
                <a:lnTo>
                  <a:pt x="205" y="64"/>
                </a:lnTo>
                <a:lnTo>
                  <a:pt x="205" y="64"/>
                </a:lnTo>
                <a:lnTo>
                  <a:pt x="211" y="64"/>
                </a:lnTo>
                <a:lnTo>
                  <a:pt x="211" y="70"/>
                </a:lnTo>
                <a:lnTo>
                  <a:pt x="211" y="70"/>
                </a:lnTo>
                <a:lnTo>
                  <a:pt x="217" y="70"/>
                </a:lnTo>
                <a:lnTo>
                  <a:pt x="217" y="70"/>
                </a:lnTo>
                <a:lnTo>
                  <a:pt x="217" y="70"/>
                </a:lnTo>
                <a:lnTo>
                  <a:pt x="223" y="76"/>
                </a:lnTo>
                <a:lnTo>
                  <a:pt x="223" y="76"/>
                </a:lnTo>
                <a:lnTo>
                  <a:pt x="229" y="76"/>
                </a:lnTo>
                <a:lnTo>
                  <a:pt x="229" y="76"/>
                </a:lnTo>
                <a:lnTo>
                  <a:pt x="229" y="76"/>
                </a:lnTo>
                <a:lnTo>
                  <a:pt x="234" y="76"/>
                </a:lnTo>
                <a:lnTo>
                  <a:pt x="234" y="82"/>
                </a:lnTo>
                <a:lnTo>
                  <a:pt x="234" y="82"/>
                </a:lnTo>
                <a:lnTo>
                  <a:pt x="240" y="82"/>
                </a:lnTo>
                <a:lnTo>
                  <a:pt x="240" y="82"/>
                </a:lnTo>
                <a:lnTo>
                  <a:pt x="240" y="82"/>
                </a:lnTo>
                <a:lnTo>
                  <a:pt x="246" y="88"/>
                </a:lnTo>
                <a:lnTo>
                  <a:pt x="246" y="88"/>
                </a:lnTo>
                <a:lnTo>
                  <a:pt x="252" y="88"/>
                </a:lnTo>
                <a:lnTo>
                  <a:pt x="252" y="88"/>
                </a:lnTo>
                <a:lnTo>
                  <a:pt x="252" y="88"/>
                </a:lnTo>
                <a:lnTo>
                  <a:pt x="258" y="88"/>
                </a:lnTo>
                <a:lnTo>
                  <a:pt x="258" y="94"/>
                </a:lnTo>
                <a:lnTo>
                  <a:pt x="258" y="94"/>
                </a:lnTo>
                <a:lnTo>
                  <a:pt x="264" y="94"/>
                </a:lnTo>
                <a:lnTo>
                  <a:pt x="264" y="94"/>
                </a:lnTo>
                <a:lnTo>
                  <a:pt x="264" y="94"/>
                </a:lnTo>
                <a:lnTo>
                  <a:pt x="270" y="100"/>
                </a:lnTo>
                <a:lnTo>
                  <a:pt x="270" y="100"/>
                </a:lnTo>
                <a:lnTo>
                  <a:pt x="270" y="100"/>
                </a:lnTo>
                <a:lnTo>
                  <a:pt x="276" y="100"/>
                </a:lnTo>
                <a:lnTo>
                  <a:pt x="276" y="105"/>
                </a:lnTo>
                <a:lnTo>
                  <a:pt x="276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05"/>
                </a:lnTo>
                <a:lnTo>
                  <a:pt x="281" y="111"/>
                </a:lnTo>
                <a:lnTo>
                  <a:pt x="287" y="111"/>
                </a:lnTo>
                <a:lnTo>
                  <a:pt x="287" y="111"/>
                </a:lnTo>
                <a:lnTo>
                  <a:pt x="287" y="111"/>
                </a:lnTo>
                <a:lnTo>
                  <a:pt x="293" y="111"/>
                </a:lnTo>
                <a:lnTo>
                  <a:pt x="293" y="117"/>
                </a:lnTo>
                <a:lnTo>
                  <a:pt x="293" y="117"/>
                </a:lnTo>
                <a:lnTo>
                  <a:pt x="299" y="117"/>
                </a:lnTo>
                <a:lnTo>
                  <a:pt x="299" y="117"/>
                </a:lnTo>
                <a:lnTo>
                  <a:pt x="299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05" y="123"/>
                </a:lnTo>
                <a:lnTo>
                  <a:pt x="311" y="129"/>
                </a:lnTo>
                <a:lnTo>
                  <a:pt x="311" y="129"/>
                </a:lnTo>
                <a:lnTo>
                  <a:pt x="311" y="129"/>
                </a:lnTo>
                <a:lnTo>
                  <a:pt x="317" y="129"/>
                </a:lnTo>
                <a:lnTo>
                  <a:pt x="317" y="135"/>
                </a:lnTo>
                <a:lnTo>
                  <a:pt x="317" y="135"/>
                </a:lnTo>
                <a:lnTo>
                  <a:pt x="317" y="135"/>
                </a:lnTo>
                <a:lnTo>
                  <a:pt x="322" y="135"/>
                </a:lnTo>
                <a:lnTo>
                  <a:pt x="322" y="141"/>
                </a:lnTo>
                <a:lnTo>
                  <a:pt x="322" y="141"/>
                </a:lnTo>
                <a:lnTo>
                  <a:pt x="322" y="141"/>
                </a:lnTo>
                <a:lnTo>
                  <a:pt x="328" y="141"/>
                </a:lnTo>
                <a:lnTo>
                  <a:pt x="328" y="141"/>
                </a:lnTo>
                <a:lnTo>
                  <a:pt x="328" y="147"/>
                </a:lnTo>
                <a:lnTo>
                  <a:pt x="328" y="147"/>
                </a:lnTo>
                <a:lnTo>
                  <a:pt x="334" y="147"/>
                </a:lnTo>
                <a:lnTo>
                  <a:pt x="334" y="147"/>
                </a:lnTo>
                <a:lnTo>
                  <a:pt x="334" y="152"/>
                </a:lnTo>
                <a:lnTo>
                  <a:pt x="334" y="152"/>
                </a:lnTo>
                <a:lnTo>
                  <a:pt x="340" y="152"/>
                </a:lnTo>
                <a:lnTo>
                  <a:pt x="340" y="152"/>
                </a:lnTo>
                <a:lnTo>
                  <a:pt x="340" y="158"/>
                </a:lnTo>
                <a:lnTo>
                  <a:pt x="340" y="158"/>
                </a:lnTo>
                <a:lnTo>
                  <a:pt x="346" y="158"/>
                </a:lnTo>
                <a:lnTo>
                  <a:pt x="346" y="158"/>
                </a:lnTo>
                <a:lnTo>
                  <a:pt x="346" y="164"/>
                </a:lnTo>
                <a:lnTo>
                  <a:pt x="346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64"/>
                </a:lnTo>
                <a:lnTo>
                  <a:pt x="352" y="170"/>
                </a:lnTo>
                <a:lnTo>
                  <a:pt x="352" y="170"/>
                </a:lnTo>
                <a:lnTo>
                  <a:pt x="358" y="170"/>
                </a:lnTo>
                <a:lnTo>
                  <a:pt x="358" y="170"/>
                </a:lnTo>
                <a:lnTo>
                  <a:pt x="358" y="176"/>
                </a:lnTo>
                <a:lnTo>
                  <a:pt x="358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76"/>
                </a:lnTo>
                <a:lnTo>
                  <a:pt x="364" y="182"/>
                </a:lnTo>
                <a:lnTo>
                  <a:pt x="364" y="182"/>
                </a:lnTo>
                <a:lnTo>
                  <a:pt x="369" y="182"/>
                </a:lnTo>
                <a:lnTo>
                  <a:pt x="369" y="182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69" y="188"/>
                </a:lnTo>
                <a:lnTo>
                  <a:pt x="375" y="188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75" y="193"/>
                </a:lnTo>
                <a:lnTo>
                  <a:pt x="381" y="193"/>
                </a:lnTo>
                <a:lnTo>
                  <a:pt x="381" y="193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1" y="199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87" y="205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  <a:lnTo>
                  <a:pt x="393" y="211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7000" y="5896080"/>
            <a:ext cx="185400" cy="168120"/>
          </a:xfrm>
          <a:custGeom>
            <a:avLst/>
            <a:gdLst/>
            <a:ahLst/>
            <a:rect l="l" t="t" r="r" b="b"/>
            <a:pathLst>
              <a:path w="117" h="106">
                <a:moveTo>
                  <a:pt x="117" y="106"/>
                </a:moveTo>
                <a:lnTo>
                  <a:pt x="65" y="0"/>
                </a:lnTo>
                <a:lnTo>
                  <a:pt x="0" y="82"/>
                </a:lnTo>
                <a:lnTo>
                  <a:pt x="117" y="106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44800" y="5943600"/>
            <a:ext cx="101880" cy="1015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598968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890880" y="5952960"/>
            <a:ext cx="1800" cy="8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738680" y="5570640"/>
            <a:ext cx="353880" cy="372960"/>
          </a:xfrm>
          <a:custGeom>
            <a:avLst/>
            <a:gdLst/>
            <a:ahLst/>
            <a:rect l="l" t="t" r="r" b="b"/>
            <a:pathLst>
              <a:path w="223" h="235">
                <a:moveTo>
                  <a:pt x="223" y="6"/>
                </a:move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0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6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2"/>
                </a:lnTo>
                <a:lnTo>
                  <a:pt x="223" y="18"/>
                </a:lnTo>
                <a:lnTo>
                  <a:pt x="223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18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4"/>
                </a:lnTo>
                <a:lnTo>
                  <a:pt x="217" y="29"/>
                </a:lnTo>
                <a:lnTo>
                  <a:pt x="217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29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35"/>
                </a:lnTo>
                <a:lnTo>
                  <a:pt x="211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1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205" y="47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3"/>
                </a:lnTo>
                <a:lnTo>
                  <a:pt x="199" y="59"/>
                </a:lnTo>
                <a:lnTo>
                  <a:pt x="199" y="59"/>
                </a:lnTo>
                <a:lnTo>
                  <a:pt x="193" y="59"/>
                </a:lnTo>
                <a:lnTo>
                  <a:pt x="193" y="59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93" y="65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0"/>
                </a:lnTo>
                <a:lnTo>
                  <a:pt x="188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76"/>
                </a:lnTo>
                <a:lnTo>
                  <a:pt x="182" y="82"/>
                </a:lnTo>
                <a:lnTo>
                  <a:pt x="182" y="82"/>
                </a:lnTo>
                <a:lnTo>
                  <a:pt x="176" y="82"/>
                </a:lnTo>
                <a:lnTo>
                  <a:pt x="176" y="82"/>
                </a:lnTo>
                <a:lnTo>
                  <a:pt x="176" y="88"/>
                </a:lnTo>
                <a:lnTo>
                  <a:pt x="176" y="88"/>
                </a:lnTo>
                <a:lnTo>
                  <a:pt x="176" y="88"/>
                </a:lnTo>
                <a:lnTo>
                  <a:pt x="170" y="88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70" y="94"/>
                </a:lnTo>
                <a:lnTo>
                  <a:pt x="164" y="100"/>
                </a:lnTo>
                <a:lnTo>
                  <a:pt x="164" y="100"/>
                </a:lnTo>
                <a:lnTo>
                  <a:pt x="164" y="100"/>
                </a:lnTo>
                <a:lnTo>
                  <a:pt x="164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06"/>
                </a:lnTo>
                <a:lnTo>
                  <a:pt x="158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2"/>
                </a:lnTo>
                <a:lnTo>
                  <a:pt x="152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17"/>
                </a:lnTo>
                <a:lnTo>
                  <a:pt x="146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3"/>
                </a:lnTo>
                <a:lnTo>
                  <a:pt x="141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29"/>
                </a:lnTo>
                <a:lnTo>
                  <a:pt x="135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35"/>
                </a:lnTo>
                <a:lnTo>
                  <a:pt x="129" y="141"/>
                </a:lnTo>
                <a:lnTo>
                  <a:pt x="123" y="141"/>
                </a:lnTo>
                <a:lnTo>
                  <a:pt x="123" y="141"/>
                </a:lnTo>
                <a:lnTo>
                  <a:pt x="123" y="141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7" y="147"/>
                </a:lnTo>
                <a:lnTo>
                  <a:pt x="111" y="153"/>
                </a:lnTo>
                <a:lnTo>
                  <a:pt x="111" y="153"/>
                </a:lnTo>
                <a:lnTo>
                  <a:pt x="111" y="153"/>
                </a:lnTo>
                <a:lnTo>
                  <a:pt x="105" y="153"/>
                </a:lnTo>
                <a:lnTo>
                  <a:pt x="105" y="158"/>
                </a:lnTo>
                <a:lnTo>
                  <a:pt x="105" y="158"/>
                </a:lnTo>
                <a:lnTo>
                  <a:pt x="105" y="158"/>
                </a:lnTo>
                <a:lnTo>
                  <a:pt x="100" y="158"/>
                </a:lnTo>
                <a:lnTo>
                  <a:pt x="100" y="158"/>
                </a:lnTo>
                <a:lnTo>
                  <a:pt x="100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64"/>
                </a:lnTo>
                <a:lnTo>
                  <a:pt x="94" y="170"/>
                </a:lnTo>
                <a:lnTo>
                  <a:pt x="88" y="170"/>
                </a:lnTo>
                <a:lnTo>
                  <a:pt x="88" y="170"/>
                </a:lnTo>
                <a:lnTo>
                  <a:pt x="88" y="170"/>
                </a:lnTo>
                <a:lnTo>
                  <a:pt x="82" y="176"/>
                </a:lnTo>
                <a:lnTo>
                  <a:pt x="82" y="176"/>
                </a:lnTo>
                <a:lnTo>
                  <a:pt x="82" y="176"/>
                </a:lnTo>
                <a:lnTo>
                  <a:pt x="76" y="176"/>
                </a:lnTo>
                <a:lnTo>
                  <a:pt x="76" y="176"/>
                </a:lnTo>
                <a:lnTo>
                  <a:pt x="76" y="182"/>
                </a:lnTo>
                <a:lnTo>
                  <a:pt x="76" y="182"/>
                </a:lnTo>
                <a:lnTo>
                  <a:pt x="70" y="182"/>
                </a:lnTo>
                <a:lnTo>
                  <a:pt x="70" y="182"/>
                </a:lnTo>
                <a:lnTo>
                  <a:pt x="70" y="188"/>
                </a:lnTo>
                <a:lnTo>
                  <a:pt x="64" y="188"/>
                </a:lnTo>
                <a:lnTo>
                  <a:pt x="64" y="188"/>
                </a:lnTo>
                <a:lnTo>
                  <a:pt x="64" y="188"/>
                </a:lnTo>
                <a:lnTo>
                  <a:pt x="58" y="188"/>
                </a:lnTo>
                <a:lnTo>
                  <a:pt x="58" y="194"/>
                </a:lnTo>
                <a:lnTo>
                  <a:pt x="58" y="194"/>
                </a:lnTo>
                <a:lnTo>
                  <a:pt x="58" y="194"/>
                </a:lnTo>
                <a:lnTo>
                  <a:pt x="53" y="194"/>
                </a:lnTo>
                <a:lnTo>
                  <a:pt x="53" y="194"/>
                </a:lnTo>
                <a:lnTo>
                  <a:pt x="53" y="200"/>
                </a:lnTo>
                <a:lnTo>
                  <a:pt x="47" y="200"/>
                </a:lnTo>
                <a:lnTo>
                  <a:pt x="47" y="200"/>
                </a:lnTo>
                <a:lnTo>
                  <a:pt x="47" y="200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41" y="205"/>
                </a:lnTo>
                <a:lnTo>
                  <a:pt x="35" y="205"/>
                </a:lnTo>
                <a:lnTo>
                  <a:pt x="35" y="211"/>
                </a:lnTo>
                <a:lnTo>
                  <a:pt x="35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1"/>
                </a:lnTo>
                <a:lnTo>
                  <a:pt x="29" y="217"/>
                </a:lnTo>
                <a:lnTo>
                  <a:pt x="23" y="217"/>
                </a:lnTo>
                <a:lnTo>
                  <a:pt x="23" y="217"/>
                </a:lnTo>
                <a:lnTo>
                  <a:pt x="23" y="217"/>
                </a:lnTo>
                <a:lnTo>
                  <a:pt x="17" y="217"/>
                </a:lnTo>
                <a:lnTo>
                  <a:pt x="17" y="223"/>
                </a:lnTo>
                <a:lnTo>
                  <a:pt x="17" y="223"/>
                </a:lnTo>
                <a:lnTo>
                  <a:pt x="17" y="223"/>
                </a:lnTo>
                <a:lnTo>
                  <a:pt x="12" y="223"/>
                </a:lnTo>
                <a:lnTo>
                  <a:pt x="12" y="223"/>
                </a:lnTo>
                <a:lnTo>
                  <a:pt x="12" y="229"/>
                </a:lnTo>
                <a:lnTo>
                  <a:pt x="12" y="229"/>
                </a:lnTo>
                <a:lnTo>
                  <a:pt x="6" y="229"/>
                </a:lnTo>
                <a:lnTo>
                  <a:pt x="6" y="229"/>
                </a:lnTo>
                <a:lnTo>
                  <a:pt x="6" y="229"/>
                </a:lnTo>
                <a:lnTo>
                  <a:pt x="6" y="235"/>
                </a:lnTo>
                <a:lnTo>
                  <a:pt x="0" y="235"/>
                </a:lnTo>
                <a:lnTo>
                  <a:pt x="0" y="235"/>
                </a:lnTo>
              </a:path>
            </a:pathLst>
          </a:custGeom>
          <a:noFill/>
          <a:ln w="28440">
            <a:solidFill>
              <a:srgbClr val="000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64160" y="5859360"/>
            <a:ext cx="166680" cy="185760"/>
          </a:xfrm>
          <a:custGeom>
            <a:avLst/>
            <a:gdLst/>
            <a:ahLst/>
            <a:rect l="l" t="t" r="r" b="b"/>
            <a:pathLst>
              <a:path w="105" h="117">
                <a:moveTo>
                  <a:pt x="0" y="117"/>
                </a:moveTo>
                <a:lnTo>
                  <a:pt x="105" y="70"/>
                </a:lnTo>
                <a:lnTo>
                  <a:pt x="23" y="0"/>
                </a:lnTo>
                <a:lnTo>
                  <a:pt x="0" y="117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691160" y="5896080"/>
            <a:ext cx="102960" cy="10296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700520" y="5943600"/>
            <a:ext cx="8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solidFill>
            <a:srgbClr val="80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597720" y="3765600"/>
            <a:ext cx="1006560" cy="66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039800" y="39052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51520" y="4119480"/>
            <a:ext cx="546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006800" y="4379760"/>
            <a:ext cx="185760" cy="149400"/>
          </a:xfrm>
          <a:custGeom>
            <a:avLst/>
            <a:gdLst/>
            <a:ahLst/>
            <a:rect l="l" t="t" r="r" b="b"/>
            <a:pathLst>
              <a:path w="117" h="94">
                <a:moveTo>
                  <a:pt x="0" y="88"/>
                </a:moveTo>
                <a:lnTo>
                  <a:pt x="117" y="94"/>
                </a:lnTo>
                <a:lnTo>
                  <a:pt x="76" y="0"/>
                </a:lnTo>
                <a:lnTo>
                  <a:pt x="0" y="88"/>
                </a:lnTo>
                <a:close/>
              </a:path>
            </a:pathLst>
          </a:custGeom>
          <a:solidFill>
            <a:srgbClr val="000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071960" y="4425840"/>
            <a:ext cx="103320" cy="103320"/>
          </a:xfrm>
          <a:prstGeom prst="ellipse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081320" y="4471920"/>
            <a:ext cx="842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18040" y="4435560"/>
            <a:ext cx="1440" cy="8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illkommen zur Betriebsbesichtig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1595520" y="2104920"/>
            <a:ext cx="5925960" cy="449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72960" y="1576440"/>
            <a:ext cx="6346800" cy="1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Ihre Entscheidungs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1" name=""/>
          <p:cNvSpPr/>
          <p:nvPr/>
        </p:nvSpPr>
        <p:spPr>
          <a:xfrm>
            <a:off x="527040" y="2019240"/>
            <a:ext cx="351936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trieb/Abs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Beschaff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Design / Entwickl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214880" y="2019240"/>
            <a:ext cx="447984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inanz- und Rechnungswe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la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5800" y="5052960"/>
            <a:ext cx="79678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Anzahl der Entscheidungen und damit auch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die Komplexität nimmt im Spielverlauf z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ser Produkt: DRES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518004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edelte T-Shirt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Chargen zu je 50 Stck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ypische Kun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ulklass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Vereine und Verbänd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vent-Agentur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seller / Großhändl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usschreibung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5776920" y="2104920"/>
            <a:ext cx="2606760" cy="19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4275000" y="3395520"/>
            <a:ext cx="4108680" cy="3114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685800" y="2043000"/>
            <a:ext cx="5943600" cy="25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arktforsch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s Marktes und der Kundengrup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ufeinander abgestimmter Marketing Mix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2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trieb/Absatz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3062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384280" y="1919160"/>
          <a:ext cx="4043520" cy="404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84280" y="1919160"/>
                    <a:ext cx="4043520" cy="40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53" name=""/>
          <p:cNvGrpSpPr/>
          <p:nvPr/>
        </p:nvGrpSpPr>
        <p:grpSpPr>
          <a:xfrm>
            <a:off x="563040" y="2579040"/>
            <a:ext cx="7941960" cy="3726720"/>
            <a:chOff x="563040" y="2579040"/>
            <a:chExt cx="7941960" cy="3726720"/>
          </a:xfrm>
        </p:grpSpPr>
        <p:sp>
          <p:nvSpPr>
            <p:cNvPr id="354" name=""/>
            <p:cNvSpPr/>
            <p:nvPr/>
          </p:nvSpPr>
          <p:spPr>
            <a:xfrm>
              <a:off x="563040" y="2579040"/>
              <a:ext cx="21009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Design – Index: 1,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44400" y="4988880"/>
              <a:ext cx="246060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Vertriebsmitarbeiter: 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61400" y="2609280"/>
              <a:ext cx="127512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Preis: € 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95520" y="4988880"/>
              <a:ext cx="186336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Verdana"/>
                </a:rPr>
                <a:t>Werbung: € 5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557360" y="5968440"/>
              <a:ext cx="5664240" cy="337320"/>
            </a:xfrm>
            <a:prstGeom prst="rect">
              <a:avLst/>
            </a:prstGeom>
            <a:solidFill>
              <a:srgbClr val="ffff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Absatz P 0: 200 Chargen DRE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rketing - Mix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479600" y="2104920"/>
          <a:ext cx="6159600" cy="463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04920"/>
                    <a:ext cx="6159600" cy="46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44696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Die Idee: ein Flugsimulator für Manager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Werbung und Vertrieb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rbung: Klassische Anzeigenwerbung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(Zeitungen, Zeitschriften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Vertrieb: Einsatz eigener (Teilzeit-)Mitarbeiter überall dort „wo die Musik spielt“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zur Beratung im Ladengeschäf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rkungsausbreit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Für Werbung i.P. relativ schnell, gewisse Trägheit, Bekanntheit baut sich langsam auf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m Vertrieb ist mehr Geduld gefragt („Sales Cycle“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5776920" y="3568680"/>
            <a:ext cx="2606760" cy="195912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orschung und Entwicklung: Desig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qualität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DRESS wird wesentlich durch eine externe Agentur bestimm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iese setzt Kundenideen in konkrete Designs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m und stellt Ihnen eine Musterkollektion zur Beratung Ihrer Kunden im Laden zur Verfügung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onatlich wenden Sie dafür 4.000 EUR auf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Der erreichte Standard wird in einem Index gemessen, der derzeit einen Wert von 1,00 h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stungserstellung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produzieren auftragsbezo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s gibt daher keine Lagerbestände an Fertigprodukt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Kunden holen die DRESS im Laden a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d bezahlen i.d.R. sofo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ie haben eine große Textildruckmaschin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mit ausreichender Kapazität zur Verfügu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aschinen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ird (teure) Kapazität dazugemiete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Maschine wird von derzeit 4 Mitarbeitern bedien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Die Produktivität der Mitarbeiter liegt bei ca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60 Chargen pro Mona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lnSpc>
                <a:spcPct val="90000"/>
              </a:lnSpc>
              <a:spcBef>
                <a:spcPts val="499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Reicht die Mitarbeiterkapazität nicht aus,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werden automatisch Zeitarbeiter angeforder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Materialwirtschaf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hi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Unbedruckte T-Shirt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10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Hilf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Farben, Chemikali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80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Betriebsstoff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erden automatisch beschaff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reis: 3 Euro pro Charg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Zahlung sofort nach Rechnungseinga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499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Nicht verbrauchtes Material wird gelage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hirt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2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51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Hilfsstoffe: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1 Euro Lagerkoste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430200" y="5699160"/>
            <a:ext cx="7953480" cy="9169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Fahren Sie die Maschine im Grenzbereich,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nimmt die Qualität der Veredelung ab 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</a:rPr>
              <a:t>und die Kunden werden unzufrieden sei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roduktion: Maschine 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415800" y="2104920"/>
          <a:ext cx="7967880" cy="3475080"/>
        </p:xfrm>
        <a:graphic>
          <a:graphicData uri="http://schemas.openxmlformats.org/drawingml/2006/table">
            <a:tbl>
              <a:tblPr/>
              <a:tblGrid>
                <a:gridCol w="4997520"/>
                <a:gridCol w="2970360"/>
              </a:tblGrid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eu gekauf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0 Char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schaffungspre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.0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bschreibung (linear pro Periode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uchw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artungsvertrag pro Perio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5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andhaltung und Reparaturen p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600 E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apazitätsbedarf pro Ch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666880" y="609480"/>
            <a:ext cx="5486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7262640" y="1957320"/>
          <a:ext cx="1121040" cy="5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62640" y="1957320"/>
                    <a:ext cx="1121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5" name=""/>
          <p:cNvGraphicFramePr/>
          <p:nvPr/>
        </p:nvGraphicFramePr>
        <p:xfrm>
          <a:off x="781200" y="1962000"/>
          <a:ext cx="7315200" cy="272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81200" y="1962000"/>
                    <a:ext cx="7315200" cy="272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7" name=""/>
          <p:cNvSpPr/>
          <p:nvPr/>
        </p:nvSpPr>
        <p:spPr>
          <a:xfrm>
            <a:off x="771480" y="4737240"/>
            <a:ext cx="7772400" cy="19317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instell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400  pro Mitarbeiter al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ntlassung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1.000 pro Mitarbei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nebenkosten: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Periode 0: 2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Zeitarbeiter: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€ 5.000 pro Monat und 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57600" y="457200"/>
            <a:ext cx="18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Beeinflussung des Personalbestande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4319640" y="38088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6119640" y="1012680"/>
          <a:ext cx="142416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9640" y="1012680"/>
                    <a:ext cx="142416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795240" y="4564080"/>
            <a:ext cx="76629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(Monatsgehälter in Periode 0 ohne Personalnebenkoste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Für den Einkauf benötigen Sie derzeit keinen eigenen Mitarbeit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785880" y="2629080"/>
          <a:ext cx="7458120" cy="1652400"/>
        </p:xfrm>
        <a:graphic>
          <a:graphicData uri="http://schemas.openxmlformats.org/drawingml/2006/table">
            <a:tbl>
              <a:tblPr/>
              <a:tblGrid>
                <a:gridCol w="2477880"/>
                <a:gridCol w="1293840"/>
                <a:gridCol w="1238400"/>
                <a:gridCol w="1224000"/>
                <a:gridCol w="122400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stenstel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inkau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k-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trie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wal-tu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hälter in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sonalbestan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Personalkost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291960" y="2104920"/>
            <a:ext cx="833616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übernehmen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00.000 EUR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Finanzschuld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rmalerweise sollten Si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keine </a:t>
            </a: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usätzlichen Schulden mach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Sie können nach Rücksprache kurzfristige, 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aber keine langfristigen Kredite aufnehm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Mindestkassenbestand am Bilanzstichtag: 5.000 E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Notfalls erhalten Sie Überziehungskredi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890640" y="5092560"/>
            <a:ext cx="4857840" cy="1354320"/>
          </a:xfrm>
          <a:prstGeom prst="rect">
            <a:avLst/>
          </a:prstGeom>
          <a:solidFill>
            <a:srgbClr val="ffff66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Zinssatz pro Monat: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lang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0,5 %</a:t>
            </a:r>
            <a:br>
              <a:rPr sz="1800"/>
            </a:b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kurzfristige Kredite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Überziehungskredit 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1,5 %</a:t>
            </a:r>
            <a:r>
              <a:rPr b="1" lang="de-DE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362320" y="4572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6575400" y="5931000"/>
            <a:ext cx="1807920" cy="926280"/>
            <a:chOff x="6575400" y="5931000"/>
            <a:chExt cx="1807920" cy="926280"/>
          </a:xfrm>
        </p:grpSpPr>
        <p:grpSp>
          <p:nvGrpSpPr>
            <p:cNvPr id="390" name=""/>
            <p:cNvGrpSpPr/>
            <p:nvPr/>
          </p:nvGrpSpPr>
          <p:grpSpPr>
            <a:xfrm>
              <a:off x="6843600" y="5931000"/>
              <a:ext cx="1539720" cy="733320"/>
              <a:chOff x="6843600" y="5931000"/>
              <a:chExt cx="1539720" cy="733320"/>
            </a:xfrm>
          </p:grpSpPr>
          <p:sp>
            <p:nvSpPr>
              <p:cNvPr id="391" name=""/>
              <p:cNvSpPr/>
              <p:nvPr/>
            </p:nvSpPr>
            <p:spPr>
              <a:xfrm>
                <a:off x="6843600" y="59310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843600" y="62326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6850080" y="61358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843600" y="63230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0080" y="60451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54760" y="64198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940440" y="59594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940440" y="63514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6940440" y="64483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6940440" y="62611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6945120" y="61642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6945120" y="60739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6980040" y="62658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6980040" y="61754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84720" y="63626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84720" y="60786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991200" y="64533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991200" y="59641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542000" y="59706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548480" y="62722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553160" y="60850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7548480" y="63691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7548480" y="64594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570800" y="61819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008840" y="59770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7002360" y="62895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7008840" y="63802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08840" y="61754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002360" y="64771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19640" y="65739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423200" y="59882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416720" y="59817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5560" y="59770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429320" y="61754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429320" y="65739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429320" y="64771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429320" y="62895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29320" y="63802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23200" y="61754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423200" y="64771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423200" y="65739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423200" y="62895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423200" y="63802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405560" y="61754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462800" y="62895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3960" y="64771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468920" y="63802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473960" y="65739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400880" y="64771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400880" y="65739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405560" y="63802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400880" y="62895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6575400" y="5951520"/>
              <a:ext cx="509040" cy="786600"/>
              <a:chOff x="6575400" y="5951520"/>
              <a:chExt cx="509040" cy="786600"/>
            </a:xfrm>
          </p:grpSpPr>
          <p:grpSp>
            <p:nvGrpSpPr>
              <p:cNvPr id="444" name=""/>
              <p:cNvGrpSpPr/>
              <p:nvPr/>
            </p:nvGrpSpPr>
            <p:grpSpPr>
              <a:xfrm>
                <a:off x="6632640" y="6495840"/>
                <a:ext cx="439920" cy="242280"/>
                <a:chOff x="6632640" y="6495840"/>
                <a:chExt cx="439920" cy="24228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633360" y="653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632640" y="649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6633360" y="66078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6767640" y="669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855480" y="67042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936480" y="66985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7022880" y="666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7071840" y="66016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3" name=""/>
                <p:cNvSpPr/>
                <p:nvPr/>
              </p:nvSpPr>
              <p:spPr>
                <a:xfrm>
                  <a:off x="6690960" y="6673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>
                  <a:off x="6736680" y="65289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672960" y="65109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75400" y="6424200"/>
                <a:ext cx="439200" cy="242280"/>
                <a:chOff x="6575400" y="6424200"/>
                <a:chExt cx="439200" cy="2422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75400" y="64605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75400" y="64242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6575400" y="65361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6710760" y="66254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797160" y="6632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6877440" y="66268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963840" y="65937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7013880" y="65300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6633720" y="66009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6678360" y="64584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613920" y="64393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643800" y="6381720"/>
                <a:ext cx="440640" cy="242640"/>
                <a:chOff x="6643800" y="6381720"/>
                <a:chExt cx="440640" cy="24264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644880" y="64191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643800" y="63817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6644880" y="64947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6778080" y="65833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6865560" y="65905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4" name=""/>
                <p:cNvSpPr/>
                <p:nvPr/>
              </p:nvSpPr>
              <p:spPr>
                <a:xfrm>
                  <a:off x="6945840" y="65844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7033320" y="65527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7083360" y="64875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6702120" y="65595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746760" y="64159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682320" y="63972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627600" y="6328440"/>
                <a:ext cx="439920" cy="242280"/>
                <a:chOff x="6627600" y="6328440"/>
                <a:chExt cx="439920" cy="242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628320" y="63648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627600" y="6328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6628320" y="64404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6762600" y="65286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6849000" y="65358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6930360" y="65296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7017840" y="64980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7066800" y="64342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6686640" y="6503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6730200" y="63626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667920" y="634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" name=""/>
              <p:cNvGrpSpPr/>
              <p:nvPr/>
            </p:nvGrpSpPr>
            <p:grpSpPr>
              <a:xfrm>
                <a:off x="6611760" y="6249600"/>
                <a:ext cx="439920" cy="242640"/>
                <a:chOff x="6611760" y="6249600"/>
                <a:chExt cx="439920" cy="242640"/>
              </a:xfrm>
            </p:grpSpPr>
            <p:sp>
              <p:nvSpPr>
                <p:cNvPr id="493" name=""/>
                <p:cNvSpPr/>
                <p:nvPr/>
              </p:nvSpPr>
              <p:spPr>
                <a:xfrm>
                  <a:off x="6612480" y="62874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6611760" y="62496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6612480" y="63626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6746040" y="64512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6833160" y="6458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6914520" y="64522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7002000" y="6420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7050960" y="6355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6670800" y="64274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6714360" y="6283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6652080" y="62650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6606720" y="6189480"/>
                <a:ext cx="439920" cy="242280"/>
                <a:chOff x="6606720" y="6189480"/>
                <a:chExt cx="439920" cy="24228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6607440" y="62254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6606720" y="61894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6607440" y="63010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6741000" y="63896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6828120" y="63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6909480" y="63907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6996960" y="63590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7045920" y="629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6665760" y="63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6709320" y="62233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6647040" y="62046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"/>
              <p:cNvGrpSpPr/>
              <p:nvPr/>
            </p:nvGrpSpPr>
            <p:grpSpPr>
              <a:xfrm>
                <a:off x="6575400" y="6105600"/>
                <a:ext cx="439200" cy="243720"/>
                <a:chOff x="6575400" y="6105600"/>
                <a:chExt cx="439200" cy="243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6575400" y="61434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6575400" y="6105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6575400" y="6217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710760" y="63072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797160" y="63144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6877440" y="63072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963840" y="6276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7013880" y="62114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6633720" y="6282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6678360" y="6139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6613920" y="61210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8" name=""/>
              <p:cNvGrpSpPr/>
              <p:nvPr/>
            </p:nvGrpSpPr>
            <p:grpSpPr>
              <a:xfrm>
                <a:off x="6627600" y="6021000"/>
                <a:ext cx="439920" cy="243720"/>
                <a:chOff x="6627600" y="6021000"/>
                <a:chExt cx="439920" cy="243720"/>
              </a:xfrm>
            </p:grpSpPr>
            <p:sp>
              <p:nvSpPr>
                <p:cNvPr id="529" name=""/>
                <p:cNvSpPr/>
                <p:nvPr/>
              </p:nvSpPr>
              <p:spPr>
                <a:xfrm>
                  <a:off x="6628320" y="60584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6627600" y="6021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6628320" y="61340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76260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49000" y="62294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6930360" y="62226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17840" y="6191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7066800" y="61279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6686640" y="6198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6730200" y="60552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667920" y="60375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632640" y="5951520"/>
                <a:ext cx="439920" cy="239760"/>
                <a:chOff x="6632640" y="5951520"/>
                <a:chExt cx="439920" cy="2397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633360" y="59864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632640" y="59515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633360" y="60609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6767640" y="61491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6855480" y="61585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936480" y="6150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7022880" y="61196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7071840" y="6054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690960" y="6126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736680" y="59842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672960" y="59655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7078320" y="6473880"/>
              <a:ext cx="620640" cy="383400"/>
              <a:chOff x="7078320" y="6473880"/>
              <a:chExt cx="620640" cy="38340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7078320" y="6546240"/>
                <a:ext cx="536760" cy="311040"/>
                <a:chOff x="7078320" y="6546240"/>
                <a:chExt cx="536760" cy="311040"/>
              </a:xfrm>
            </p:grpSpPr>
            <p:sp>
              <p:nvSpPr>
                <p:cNvPr id="554" name=""/>
                <p:cNvSpPr/>
                <p:nvPr/>
              </p:nvSpPr>
              <p:spPr>
                <a:xfrm>
                  <a:off x="7078320" y="65934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7078320" y="65462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078320" y="66891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7242120" y="68043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349040" y="68119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46960" y="68058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53880" y="67633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7613640" y="6681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149240" y="67723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7204320" y="65887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7125120" y="65642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" name=""/>
              <p:cNvGrpSpPr/>
              <p:nvPr/>
            </p:nvGrpSpPr>
            <p:grpSpPr>
              <a:xfrm>
                <a:off x="7161120" y="6473880"/>
                <a:ext cx="537840" cy="313560"/>
                <a:chOff x="7161120" y="6473880"/>
                <a:chExt cx="537840" cy="31356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7163640" y="65221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7161120" y="64738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7162200" y="66193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7327440" y="67345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431840" y="67435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7531200" y="67359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7638120" y="66938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7697880" y="66132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7232400" y="67042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7288200" y="65192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7209000" y="64947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Kredit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2057400" y="533520"/>
            <a:ext cx="5943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82680" y="3395520"/>
            <a:ext cx="7846920" cy="25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luste werden vorgetragen, bis ein positiver Saldo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rbleibt. Auf den positiven Saldo wird pauschal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25 % Steuer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abgeführt und am Jahresende verrechn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buClr>
                <a:srgbClr val="3333cc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Gewinnverwendung ist keine Entscheidungsgröße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Aktuell werden </a:t>
            </a:r>
            <a:r>
              <a:rPr b="1" lang="de-DE" sz="2000" spc="-1" strike="noStrike">
                <a:solidFill>
                  <a:srgbClr val="000000"/>
                </a:solidFill>
                <a:latin typeface="Verdana"/>
              </a:rPr>
              <a:t>50 %</a:t>
            </a: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 des Periodenüberschusses n.St.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in der Folgeperiode an die Gesellschafter ausgeschütt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190440" y="2138400"/>
            <a:ext cx="1807920" cy="926280"/>
            <a:chOff x="190440" y="2138400"/>
            <a:chExt cx="1807920" cy="926280"/>
          </a:xfrm>
        </p:grpSpPr>
        <p:grpSp>
          <p:nvGrpSpPr>
            <p:cNvPr id="581" name=""/>
            <p:cNvGrpSpPr/>
            <p:nvPr/>
          </p:nvGrpSpPr>
          <p:grpSpPr>
            <a:xfrm>
              <a:off x="458640" y="2138400"/>
              <a:ext cx="1539720" cy="733320"/>
              <a:chOff x="458640" y="2138400"/>
              <a:chExt cx="1539720" cy="733320"/>
            </a:xfrm>
          </p:grpSpPr>
          <p:sp>
            <p:nvSpPr>
              <p:cNvPr id="582" name=""/>
              <p:cNvSpPr/>
              <p:nvPr/>
            </p:nvSpPr>
            <p:spPr>
              <a:xfrm>
                <a:off x="458640" y="213840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55" y="75"/>
                    </a:moveTo>
                    <a:lnTo>
                      <a:pt x="970" y="0"/>
                    </a:lnTo>
                    <a:lnTo>
                      <a:pt x="909" y="18"/>
                    </a:lnTo>
                    <a:lnTo>
                      <a:pt x="712" y="136"/>
                    </a:lnTo>
                    <a:lnTo>
                      <a:pt x="61" y="136"/>
                    </a:lnTo>
                    <a:lnTo>
                      <a:pt x="254" y="18"/>
                    </a:lnTo>
                    <a:lnTo>
                      <a:pt x="909" y="18"/>
                    </a:lnTo>
                    <a:lnTo>
                      <a:pt x="970" y="0"/>
                    </a:lnTo>
                    <a:lnTo>
                      <a:pt x="250" y="0"/>
                    </a:lnTo>
                    <a:lnTo>
                      <a:pt x="0" y="154"/>
                    </a:lnTo>
                    <a:lnTo>
                      <a:pt x="115" y="154"/>
                    </a:lnTo>
                    <a:lnTo>
                      <a:pt x="576" y="154"/>
                    </a:lnTo>
                    <a:lnTo>
                      <a:pt x="716" y="154"/>
                    </a:lnTo>
                    <a:lnTo>
                      <a:pt x="812" y="97"/>
                    </a:lnTo>
                    <a:lnTo>
                      <a:pt x="816" y="93"/>
                    </a:lnTo>
                    <a:lnTo>
                      <a:pt x="827" y="90"/>
                    </a:lnTo>
                    <a:lnTo>
                      <a:pt x="855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458640" y="2440080"/>
                <a:ext cx="1539720" cy="244440"/>
              </a:xfrm>
              <a:custGeom>
                <a:avLst/>
                <a:gdLst/>
                <a:ahLst/>
                <a:rect l="l" t="t" r="r" b="b"/>
                <a:pathLst>
                  <a:path w="970" h="154">
                    <a:moveTo>
                      <a:pt x="873" y="0"/>
                    </a:moveTo>
                    <a:lnTo>
                      <a:pt x="844" y="18"/>
                    </a:lnTo>
                    <a:lnTo>
                      <a:pt x="909" y="18"/>
                    </a:lnTo>
                    <a:lnTo>
                      <a:pt x="712" y="139"/>
                    </a:lnTo>
                    <a:lnTo>
                      <a:pt x="61" y="139"/>
                    </a:lnTo>
                    <a:lnTo>
                      <a:pt x="129" y="93"/>
                    </a:lnTo>
                    <a:lnTo>
                      <a:pt x="93" y="93"/>
                    </a:lnTo>
                    <a:lnTo>
                      <a:pt x="0" y="154"/>
                    </a:lnTo>
                    <a:lnTo>
                      <a:pt x="716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8" y="75"/>
                    </a:lnTo>
                    <a:lnTo>
                      <a:pt x="880" y="57"/>
                    </a:lnTo>
                    <a:lnTo>
                      <a:pt x="970" y="0"/>
                    </a:lnTo>
                    <a:lnTo>
                      <a:pt x="87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5120" y="2343240"/>
                <a:ext cx="1533240" cy="244440"/>
              </a:xfrm>
              <a:custGeom>
                <a:avLst/>
                <a:gdLst/>
                <a:ahLst/>
                <a:rect l="l" t="t" r="r" b="b"/>
                <a:pathLst>
                  <a:path w="966" h="154">
                    <a:moveTo>
                      <a:pt x="869" y="0"/>
                    </a:moveTo>
                    <a:lnTo>
                      <a:pt x="844" y="18"/>
                    </a:lnTo>
                    <a:lnTo>
                      <a:pt x="905" y="18"/>
                    </a:lnTo>
                    <a:lnTo>
                      <a:pt x="704" y="140"/>
                    </a:lnTo>
                    <a:lnTo>
                      <a:pt x="60" y="140"/>
                    </a:lnTo>
                    <a:lnTo>
                      <a:pt x="125" y="97"/>
                    </a:lnTo>
                    <a:lnTo>
                      <a:pt x="89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3" y="82"/>
                    </a:lnTo>
                    <a:lnTo>
                      <a:pt x="840" y="79"/>
                    </a:lnTo>
                    <a:lnTo>
                      <a:pt x="869" y="61"/>
                    </a:lnTo>
                    <a:lnTo>
                      <a:pt x="966" y="3"/>
                    </a:lnTo>
                    <a:lnTo>
                      <a:pt x="869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458640" y="2530440"/>
                <a:ext cx="1539720" cy="250920"/>
              </a:xfrm>
              <a:custGeom>
                <a:avLst/>
                <a:gdLst/>
                <a:ahLst/>
                <a:rect l="l" t="t" r="r" b="b"/>
                <a:pathLst>
                  <a:path w="970" h="158">
                    <a:moveTo>
                      <a:pt x="880" y="0"/>
                    </a:moveTo>
                    <a:lnTo>
                      <a:pt x="848" y="18"/>
                    </a:lnTo>
                    <a:lnTo>
                      <a:pt x="909" y="18"/>
                    </a:lnTo>
                    <a:lnTo>
                      <a:pt x="712" y="140"/>
                    </a:lnTo>
                    <a:lnTo>
                      <a:pt x="61" y="140"/>
                    </a:lnTo>
                    <a:lnTo>
                      <a:pt x="129" y="97"/>
                    </a:lnTo>
                    <a:lnTo>
                      <a:pt x="97" y="97"/>
                    </a:lnTo>
                    <a:lnTo>
                      <a:pt x="0" y="154"/>
                    </a:lnTo>
                    <a:lnTo>
                      <a:pt x="93" y="158"/>
                    </a:lnTo>
                    <a:lnTo>
                      <a:pt x="716" y="158"/>
                    </a:lnTo>
                    <a:lnTo>
                      <a:pt x="834" y="86"/>
                    </a:lnTo>
                    <a:lnTo>
                      <a:pt x="841" y="82"/>
                    </a:lnTo>
                    <a:lnTo>
                      <a:pt x="848" y="79"/>
                    </a:lnTo>
                    <a:lnTo>
                      <a:pt x="873" y="61"/>
                    </a:lnTo>
                    <a:lnTo>
                      <a:pt x="970" y="4"/>
                    </a:lnTo>
                    <a:lnTo>
                      <a:pt x="88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65120" y="2252520"/>
                <a:ext cx="1527120" cy="244440"/>
              </a:xfrm>
              <a:custGeom>
                <a:avLst/>
                <a:gdLst/>
                <a:ahLst/>
                <a:rect l="l" t="t" r="r" b="b"/>
                <a:pathLst>
                  <a:path w="962" h="154">
                    <a:moveTo>
                      <a:pt x="851" y="3"/>
                    </a:moveTo>
                    <a:lnTo>
                      <a:pt x="823" y="18"/>
                    </a:lnTo>
                    <a:lnTo>
                      <a:pt x="905" y="18"/>
                    </a:lnTo>
                    <a:lnTo>
                      <a:pt x="708" y="139"/>
                    </a:lnTo>
                    <a:lnTo>
                      <a:pt x="60" y="139"/>
                    </a:lnTo>
                    <a:lnTo>
                      <a:pt x="146" y="82"/>
                    </a:lnTo>
                    <a:lnTo>
                      <a:pt x="111" y="82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830" y="86"/>
                    </a:lnTo>
                    <a:lnTo>
                      <a:pt x="837" y="82"/>
                    </a:lnTo>
                    <a:lnTo>
                      <a:pt x="844" y="75"/>
                    </a:lnTo>
                    <a:lnTo>
                      <a:pt x="869" y="57"/>
                    </a:lnTo>
                    <a:lnTo>
                      <a:pt x="962" y="0"/>
                    </a:lnTo>
                    <a:lnTo>
                      <a:pt x="851" y="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69800" y="2627280"/>
                <a:ext cx="1522440" cy="244440"/>
              </a:xfrm>
              <a:custGeom>
                <a:avLst/>
                <a:gdLst/>
                <a:ahLst/>
                <a:rect l="l" t="t" r="r" b="b"/>
                <a:pathLst>
                  <a:path w="959" h="154">
                    <a:moveTo>
                      <a:pt x="866" y="0"/>
                    </a:moveTo>
                    <a:lnTo>
                      <a:pt x="841" y="18"/>
                    </a:lnTo>
                    <a:lnTo>
                      <a:pt x="902" y="18"/>
                    </a:lnTo>
                    <a:lnTo>
                      <a:pt x="705" y="136"/>
                    </a:lnTo>
                    <a:lnTo>
                      <a:pt x="54" y="136"/>
                    </a:lnTo>
                    <a:lnTo>
                      <a:pt x="122" y="97"/>
                    </a:lnTo>
                    <a:lnTo>
                      <a:pt x="86" y="97"/>
                    </a:lnTo>
                    <a:lnTo>
                      <a:pt x="0" y="154"/>
                    </a:lnTo>
                    <a:lnTo>
                      <a:pt x="712" y="154"/>
                    </a:lnTo>
                    <a:lnTo>
                      <a:pt x="959" y="0"/>
                    </a:lnTo>
                    <a:lnTo>
                      <a:pt x="86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55480" y="216684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848" y="0"/>
                    </a:moveTo>
                    <a:lnTo>
                      <a:pt x="651" y="118"/>
                    </a:lnTo>
                    <a:lnTo>
                      <a:pt x="0" y="118"/>
                    </a:lnTo>
                    <a:lnTo>
                      <a:pt x="193" y="0"/>
                    </a:lnTo>
                    <a:lnTo>
                      <a:pt x="848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55480" y="2558880"/>
                <a:ext cx="1346040" cy="193680"/>
              </a:xfrm>
              <a:custGeom>
                <a:avLst/>
                <a:gdLst/>
                <a:ahLst/>
                <a:rect l="l" t="t" r="r" b="b"/>
                <a:pathLst>
                  <a:path w="848" h="122">
                    <a:moveTo>
                      <a:pt x="68" y="79"/>
                    </a:moveTo>
                    <a:lnTo>
                      <a:pt x="0" y="122"/>
                    </a:lnTo>
                    <a:lnTo>
                      <a:pt x="651" y="122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76" y="7"/>
                    </a:lnTo>
                    <a:lnTo>
                      <a:pt x="830" y="7"/>
                    </a:lnTo>
                    <a:lnTo>
                      <a:pt x="647" y="115"/>
                    </a:lnTo>
                    <a:lnTo>
                      <a:pt x="28" y="115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55480" y="2655720"/>
                <a:ext cx="1346040" cy="187560"/>
              </a:xfrm>
              <a:custGeom>
                <a:avLst/>
                <a:gdLst/>
                <a:ahLst/>
                <a:rect l="l" t="t" r="r" b="b"/>
                <a:pathLst>
                  <a:path w="848" h="118">
                    <a:moveTo>
                      <a:pt x="68" y="79"/>
                    </a:moveTo>
                    <a:lnTo>
                      <a:pt x="0" y="118"/>
                    </a:lnTo>
                    <a:lnTo>
                      <a:pt x="651" y="118"/>
                    </a:lnTo>
                    <a:lnTo>
                      <a:pt x="848" y="0"/>
                    </a:lnTo>
                    <a:lnTo>
                      <a:pt x="787" y="0"/>
                    </a:lnTo>
                    <a:lnTo>
                      <a:pt x="780" y="3"/>
                    </a:lnTo>
                    <a:lnTo>
                      <a:pt x="830" y="3"/>
                    </a:lnTo>
                    <a:lnTo>
                      <a:pt x="647" y="111"/>
                    </a:lnTo>
                    <a:lnTo>
                      <a:pt x="32" y="111"/>
                    </a:lnTo>
                    <a:lnTo>
                      <a:pt x="82" y="79"/>
                    </a:lnTo>
                    <a:lnTo>
                      <a:pt x="68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55480" y="2468520"/>
                <a:ext cx="1346040" cy="192240"/>
              </a:xfrm>
              <a:custGeom>
                <a:avLst/>
                <a:gdLst/>
                <a:ahLst/>
                <a:rect l="l" t="t" r="r" b="b"/>
                <a:pathLst>
                  <a:path w="848" h="121">
                    <a:moveTo>
                      <a:pt x="68" y="75"/>
                    </a:moveTo>
                    <a:lnTo>
                      <a:pt x="0" y="121"/>
                    </a:lnTo>
                    <a:lnTo>
                      <a:pt x="651" y="121"/>
                    </a:lnTo>
                    <a:lnTo>
                      <a:pt x="848" y="0"/>
                    </a:lnTo>
                    <a:lnTo>
                      <a:pt x="783" y="0"/>
                    </a:lnTo>
                    <a:lnTo>
                      <a:pt x="776" y="3"/>
                    </a:lnTo>
                    <a:lnTo>
                      <a:pt x="830" y="3"/>
                    </a:lnTo>
                    <a:lnTo>
                      <a:pt x="647" y="118"/>
                    </a:lnTo>
                    <a:lnTo>
                      <a:pt x="25" y="118"/>
                    </a:lnTo>
                    <a:lnTo>
                      <a:pt x="82" y="75"/>
                    </a:lnTo>
                    <a:lnTo>
                      <a:pt x="68" y="7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0160" y="2371680"/>
                <a:ext cx="1341360" cy="193680"/>
              </a:xfrm>
              <a:custGeom>
                <a:avLst/>
                <a:gdLst/>
                <a:ahLst/>
                <a:rect l="l" t="t" r="r" b="b"/>
                <a:pathLst>
                  <a:path w="845" h="122">
                    <a:moveTo>
                      <a:pt x="65" y="79"/>
                    </a:moveTo>
                    <a:lnTo>
                      <a:pt x="0" y="122"/>
                    </a:lnTo>
                    <a:lnTo>
                      <a:pt x="644" y="122"/>
                    </a:lnTo>
                    <a:lnTo>
                      <a:pt x="845" y="0"/>
                    </a:lnTo>
                    <a:lnTo>
                      <a:pt x="784" y="0"/>
                    </a:lnTo>
                    <a:lnTo>
                      <a:pt x="777" y="7"/>
                    </a:lnTo>
                    <a:lnTo>
                      <a:pt x="827" y="7"/>
                    </a:lnTo>
                    <a:lnTo>
                      <a:pt x="644" y="118"/>
                    </a:lnTo>
                    <a:lnTo>
                      <a:pt x="22" y="114"/>
                    </a:lnTo>
                    <a:lnTo>
                      <a:pt x="79" y="79"/>
                    </a:lnTo>
                    <a:lnTo>
                      <a:pt x="65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60160" y="2281320"/>
                <a:ext cx="1341360" cy="191880"/>
              </a:xfrm>
              <a:custGeom>
                <a:avLst/>
                <a:gdLst/>
                <a:ahLst/>
                <a:rect l="l" t="t" r="r" b="b"/>
                <a:pathLst>
                  <a:path w="845" h="121">
                    <a:moveTo>
                      <a:pt x="763" y="0"/>
                    </a:moveTo>
                    <a:lnTo>
                      <a:pt x="752" y="3"/>
                    </a:lnTo>
                    <a:lnTo>
                      <a:pt x="827" y="3"/>
                    </a:lnTo>
                    <a:lnTo>
                      <a:pt x="644" y="111"/>
                    </a:lnTo>
                    <a:lnTo>
                      <a:pt x="25" y="111"/>
                    </a:lnTo>
                    <a:lnTo>
                      <a:pt x="101" y="64"/>
                    </a:lnTo>
                    <a:lnTo>
                      <a:pt x="86" y="64"/>
                    </a:lnTo>
                    <a:lnTo>
                      <a:pt x="0" y="121"/>
                    </a:lnTo>
                    <a:lnTo>
                      <a:pt x="648" y="121"/>
                    </a:lnTo>
                    <a:lnTo>
                      <a:pt x="845" y="0"/>
                    </a:lnTo>
                    <a:lnTo>
                      <a:pt x="76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95080" y="2473200"/>
                <a:ext cx="1278000" cy="182520"/>
              </a:xfrm>
              <a:custGeom>
                <a:avLst/>
                <a:gdLst/>
                <a:ahLst/>
                <a:rect l="l" t="t" r="r" b="b"/>
                <a:pathLst>
                  <a:path w="805" h="115">
                    <a:moveTo>
                      <a:pt x="57" y="72"/>
                    </a:moveTo>
                    <a:lnTo>
                      <a:pt x="0" y="115"/>
                    </a:lnTo>
                    <a:lnTo>
                      <a:pt x="622" y="115"/>
                    </a:lnTo>
                    <a:lnTo>
                      <a:pt x="805" y="0"/>
                    </a:lnTo>
                    <a:lnTo>
                      <a:pt x="751" y="0"/>
                    </a:lnTo>
                    <a:lnTo>
                      <a:pt x="748" y="4"/>
                    </a:lnTo>
                    <a:lnTo>
                      <a:pt x="794" y="4"/>
                    </a:lnTo>
                    <a:lnTo>
                      <a:pt x="622" y="108"/>
                    </a:lnTo>
                    <a:lnTo>
                      <a:pt x="358" y="108"/>
                    </a:lnTo>
                    <a:lnTo>
                      <a:pt x="333" y="104"/>
                    </a:lnTo>
                    <a:lnTo>
                      <a:pt x="18" y="104"/>
                    </a:lnTo>
                    <a:lnTo>
                      <a:pt x="68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95080" y="2382840"/>
                <a:ext cx="1278000" cy="176040"/>
              </a:xfrm>
              <a:custGeom>
                <a:avLst/>
                <a:gdLst/>
                <a:ahLst/>
                <a:rect l="l" t="t" r="r" b="b"/>
                <a:pathLst>
                  <a:path w="805" h="111">
                    <a:moveTo>
                      <a:pt x="57" y="72"/>
                    </a:moveTo>
                    <a:lnTo>
                      <a:pt x="0" y="107"/>
                    </a:lnTo>
                    <a:lnTo>
                      <a:pt x="622" y="111"/>
                    </a:lnTo>
                    <a:lnTo>
                      <a:pt x="805" y="0"/>
                    </a:lnTo>
                    <a:lnTo>
                      <a:pt x="755" y="0"/>
                    </a:lnTo>
                    <a:lnTo>
                      <a:pt x="748" y="4"/>
                    </a:lnTo>
                    <a:lnTo>
                      <a:pt x="787" y="4"/>
                    </a:lnTo>
                    <a:lnTo>
                      <a:pt x="622" y="104"/>
                    </a:lnTo>
                    <a:lnTo>
                      <a:pt x="372" y="104"/>
                    </a:lnTo>
                    <a:lnTo>
                      <a:pt x="333" y="104"/>
                    </a:lnTo>
                    <a:lnTo>
                      <a:pt x="14" y="104"/>
                    </a:lnTo>
                    <a:lnTo>
                      <a:pt x="64" y="72"/>
                    </a:lnTo>
                    <a:lnTo>
                      <a:pt x="57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99760" y="2570040"/>
                <a:ext cx="1273320" cy="17172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54" y="72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8" y="4"/>
                    </a:lnTo>
                    <a:lnTo>
                      <a:pt x="619" y="104"/>
                    </a:lnTo>
                    <a:lnTo>
                      <a:pt x="326" y="104"/>
                    </a:lnTo>
                    <a:lnTo>
                      <a:pt x="11" y="104"/>
                    </a:lnTo>
                    <a:lnTo>
                      <a:pt x="61" y="72"/>
                    </a:lnTo>
                    <a:lnTo>
                      <a:pt x="54" y="7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99760" y="2286000"/>
                <a:ext cx="1273320" cy="171360"/>
              </a:xfrm>
              <a:custGeom>
                <a:avLst/>
                <a:gdLst/>
                <a:ahLst/>
                <a:rect l="l" t="t" r="r" b="b"/>
                <a:pathLst>
                  <a:path w="802" h="108">
                    <a:moveTo>
                      <a:pt x="76" y="61"/>
                    </a:moveTo>
                    <a:lnTo>
                      <a:pt x="0" y="108"/>
                    </a:lnTo>
                    <a:lnTo>
                      <a:pt x="619" y="108"/>
                    </a:lnTo>
                    <a:lnTo>
                      <a:pt x="802" y="0"/>
                    </a:lnTo>
                    <a:lnTo>
                      <a:pt x="727" y="0"/>
                    </a:lnTo>
                    <a:lnTo>
                      <a:pt x="723" y="4"/>
                    </a:lnTo>
                    <a:lnTo>
                      <a:pt x="791" y="4"/>
                    </a:lnTo>
                    <a:lnTo>
                      <a:pt x="619" y="104"/>
                    </a:lnTo>
                    <a:lnTo>
                      <a:pt x="15" y="104"/>
                    </a:lnTo>
                    <a:lnTo>
                      <a:pt x="83" y="61"/>
                    </a:lnTo>
                    <a:lnTo>
                      <a:pt x="76" y="61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06240" y="2660760"/>
                <a:ext cx="1266840" cy="171360"/>
              </a:xfrm>
              <a:custGeom>
                <a:avLst/>
                <a:gdLst/>
                <a:ahLst/>
                <a:rect l="l" t="t" r="r" b="b"/>
                <a:pathLst>
                  <a:path w="798" h="108">
                    <a:moveTo>
                      <a:pt x="50" y="76"/>
                    </a:moveTo>
                    <a:lnTo>
                      <a:pt x="0" y="108"/>
                    </a:lnTo>
                    <a:lnTo>
                      <a:pt x="615" y="108"/>
                    </a:lnTo>
                    <a:lnTo>
                      <a:pt x="798" y="0"/>
                    </a:lnTo>
                    <a:lnTo>
                      <a:pt x="748" y="0"/>
                    </a:lnTo>
                    <a:lnTo>
                      <a:pt x="741" y="4"/>
                    </a:lnTo>
                    <a:lnTo>
                      <a:pt x="784" y="4"/>
                    </a:lnTo>
                    <a:lnTo>
                      <a:pt x="615" y="101"/>
                    </a:lnTo>
                    <a:lnTo>
                      <a:pt x="322" y="101"/>
                    </a:lnTo>
                    <a:lnTo>
                      <a:pt x="18" y="104"/>
                    </a:lnTo>
                    <a:lnTo>
                      <a:pt x="61" y="76"/>
                    </a:lnTo>
                    <a:lnTo>
                      <a:pt x="50" y="7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606240" y="2171520"/>
                <a:ext cx="1266840" cy="176400"/>
              </a:xfrm>
              <a:custGeom>
                <a:avLst/>
                <a:gdLst/>
                <a:ahLst/>
                <a:rect l="l" t="t" r="r" b="b"/>
                <a:pathLst>
                  <a:path w="798" h="111">
                    <a:moveTo>
                      <a:pt x="361" y="8"/>
                    </a:moveTo>
                    <a:lnTo>
                      <a:pt x="451" y="8"/>
                    </a:lnTo>
                    <a:lnTo>
                      <a:pt x="787" y="4"/>
                    </a:lnTo>
                    <a:lnTo>
                      <a:pt x="619" y="108"/>
                    </a:lnTo>
                    <a:lnTo>
                      <a:pt x="347" y="108"/>
                    </a:lnTo>
                    <a:lnTo>
                      <a:pt x="336" y="108"/>
                    </a:lnTo>
                    <a:lnTo>
                      <a:pt x="11" y="108"/>
                    </a:lnTo>
                    <a:lnTo>
                      <a:pt x="175" y="8"/>
                    </a:lnTo>
                    <a:lnTo>
                      <a:pt x="168" y="0"/>
                    </a:lnTo>
                    <a:lnTo>
                      <a:pt x="0" y="108"/>
                    </a:lnTo>
                    <a:lnTo>
                      <a:pt x="615" y="111"/>
                    </a:lnTo>
                    <a:lnTo>
                      <a:pt x="798" y="0"/>
                    </a:lnTo>
                    <a:lnTo>
                      <a:pt x="168" y="0"/>
                    </a:lnTo>
                    <a:lnTo>
                      <a:pt x="175" y="8"/>
                    </a:lnTo>
                    <a:lnTo>
                      <a:pt x="361" y="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1157040" y="2178000"/>
                <a:ext cx="698760" cy="165240"/>
              </a:xfrm>
              <a:custGeom>
                <a:avLst/>
                <a:gdLst/>
                <a:ahLst/>
                <a:rect l="l" t="t" r="r" b="b"/>
                <a:pathLst>
                  <a:path w="440" h="104">
                    <a:moveTo>
                      <a:pt x="122" y="7"/>
                    </a:moveTo>
                    <a:lnTo>
                      <a:pt x="129" y="11"/>
                    </a:lnTo>
                    <a:lnTo>
                      <a:pt x="140" y="18"/>
                    </a:lnTo>
                    <a:lnTo>
                      <a:pt x="143" y="25"/>
                    </a:lnTo>
                    <a:lnTo>
                      <a:pt x="147" y="39"/>
                    </a:lnTo>
                    <a:lnTo>
                      <a:pt x="140" y="54"/>
                    </a:lnTo>
                    <a:lnTo>
                      <a:pt x="122" y="68"/>
                    </a:lnTo>
                    <a:lnTo>
                      <a:pt x="93" y="86"/>
                    </a:lnTo>
                    <a:lnTo>
                      <a:pt x="75" y="93"/>
                    </a:lnTo>
                    <a:lnTo>
                      <a:pt x="61" y="97"/>
                    </a:lnTo>
                    <a:lnTo>
                      <a:pt x="0" y="104"/>
                    </a:lnTo>
                    <a:lnTo>
                      <a:pt x="272" y="104"/>
                    </a:lnTo>
                    <a:lnTo>
                      <a:pt x="440" y="0"/>
                    </a:lnTo>
                    <a:lnTo>
                      <a:pt x="104" y="4"/>
                    </a:lnTo>
                    <a:lnTo>
                      <a:pt x="122" y="7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1163520" y="2479680"/>
                <a:ext cx="692280" cy="165240"/>
              </a:xfrm>
              <a:custGeom>
                <a:avLst/>
                <a:gdLst/>
                <a:ahLst/>
                <a:rect l="l" t="t" r="r" b="b"/>
                <a:pathLst>
                  <a:path w="436" h="104">
                    <a:moveTo>
                      <a:pt x="390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103" y="79"/>
                    </a:lnTo>
                    <a:lnTo>
                      <a:pt x="86" y="86"/>
                    </a:lnTo>
                    <a:lnTo>
                      <a:pt x="50" y="97"/>
                    </a:lnTo>
                    <a:lnTo>
                      <a:pt x="0" y="104"/>
                    </a:lnTo>
                    <a:lnTo>
                      <a:pt x="264" y="104"/>
                    </a:lnTo>
                    <a:lnTo>
                      <a:pt x="436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1168200" y="2292480"/>
                <a:ext cx="68760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0" y="100"/>
                    </a:moveTo>
                    <a:lnTo>
                      <a:pt x="261" y="100"/>
                    </a:lnTo>
                    <a:lnTo>
                      <a:pt x="433" y="0"/>
                    </a:lnTo>
                    <a:lnTo>
                      <a:pt x="365" y="0"/>
                    </a:lnTo>
                    <a:lnTo>
                      <a:pt x="269" y="57"/>
                    </a:lnTo>
                    <a:lnTo>
                      <a:pt x="129" y="57"/>
                    </a:lnTo>
                    <a:lnTo>
                      <a:pt x="111" y="71"/>
                    </a:lnTo>
                    <a:lnTo>
                      <a:pt x="97" y="82"/>
                    </a:lnTo>
                    <a:lnTo>
                      <a:pt x="75" y="89"/>
                    </a:lnTo>
                    <a:lnTo>
                      <a:pt x="58" y="93"/>
                    </a:lnTo>
                    <a:lnTo>
                      <a:pt x="43" y="96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1163520" y="2576520"/>
                <a:ext cx="687240" cy="158760"/>
              </a:xfrm>
              <a:custGeom>
                <a:avLst/>
                <a:gdLst/>
                <a:ahLst/>
                <a:rect l="l" t="t" r="r" b="b"/>
                <a:pathLst>
                  <a:path w="433" h="100">
                    <a:moveTo>
                      <a:pt x="386" y="0"/>
                    </a:moveTo>
                    <a:lnTo>
                      <a:pt x="272" y="68"/>
                    </a:lnTo>
                    <a:lnTo>
                      <a:pt x="114" y="68"/>
                    </a:lnTo>
                    <a:lnTo>
                      <a:pt x="86" y="86"/>
                    </a:lnTo>
                    <a:lnTo>
                      <a:pt x="43" y="96"/>
                    </a:lnTo>
                    <a:lnTo>
                      <a:pt x="0" y="100"/>
                    </a:lnTo>
                    <a:lnTo>
                      <a:pt x="264" y="100"/>
                    </a:lnTo>
                    <a:lnTo>
                      <a:pt x="433" y="0"/>
                    </a:lnTo>
                    <a:lnTo>
                      <a:pt x="38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1163520" y="2666880"/>
                <a:ext cx="687240" cy="154080"/>
              </a:xfrm>
              <a:custGeom>
                <a:avLst/>
                <a:gdLst/>
                <a:ahLst/>
                <a:rect l="l" t="t" r="r" b="b"/>
                <a:pathLst>
                  <a:path w="433" h="97">
                    <a:moveTo>
                      <a:pt x="390" y="0"/>
                    </a:moveTo>
                    <a:lnTo>
                      <a:pt x="272" y="72"/>
                    </a:lnTo>
                    <a:lnTo>
                      <a:pt x="114" y="72"/>
                    </a:lnTo>
                    <a:lnTo>
                      <a:pt x="100" y="79"/>
                    </a:lnTo>
                    <a:lnTo>
                      <a:pt x="82" y="86"/>
                    </a:lnTo>
                    <a:lnTo>
                      <a:pt x="57" y="93"/>
                    </a:lnTo>
                    <a:lnTo>
                      <a:pt x="0" y="97"/>
                    </a:lnTo>
                    <a:lnTo>
                      <a:pt x="264" y="97"/>
                    </a:lnTo>
                    <a:lnTo>
                      <a:pt x="433" y="0"/>
                    </a:lnTo>
                    <a:lnTo>
                      <a:pt x="39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185840" y="2389320"/>
                <a:ext cx="658800" cy="158760"/>
              </a:xfrm>
              <a:custGeom>
                <a:avLst/>
                <a:gdLst/>
                <a:ahLst/>
                <a:rect l="l" t="t" r="r" b="b"/>
                <a:pathLst>
                  <a:path w="415" h="100">
                    <a:moveTo>
                      <a:pt x="376" y="0"/>
                    </a:moveTo>
                    <a:lnTo>
                      <a:pt x="258" y="68"/>
                    </a:lnTo>
                    <a:lnTo>
                      <a:pt x="100" y="68"/>
                    </a:lnTo>
                    <a:lnTo>
                      <a:pt x="82" y="78"/>
                    </a:lnTo>
                    <a:lnTo>
                      <a:pt x="61" y="86"/>
                    </a:lnTo>
                    <a:lnTo>
                      <a:pt x="32" y="96"/>
                    </a:lnTo>
                    <a:lnTo>
                      <a:pt x="0" y="100"/>
                    </a:lnTo>
                    <a:lnTo>
                      <a:pt x="250" y="100"/>
                    </a:lnTo>
                    <a:lnTo>
                      <a:pt x="415" y="0"/>
                    </a:lnTo>
                    <a:lnTo>
                      <a:pt x="376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3880" y="2184480"/>
                <a:ext cx="555480" cy="158760"/>
              </a:xfrm>
              <a:custGeom>
                <a:avLst/>
                <a:gdLst/>
                <a:ahLst/>
                <a:rect l="l" t="t" r="r" b="b"/>
                <a:pathLst>
                  <a:path w="350" h="100">
                    <a:moveTo>
                      <a:pt x="350" y="0"/>
                    </a:moveTo>
                    <a:lnTo>
                      <a:pt x="164" y="0"/>
                    </a:lnTo>
                    <a:lnTo>
                      <a:pt x="0" y="100"/>
                    </a:lnTo>
                    <a:lnTo>
                      <a:pt x="325" y="100"/>
                    </a:lnTo>
                    <a:lnTo>
                      <a:pt x="297" y="96"/>
                    </a:lnTo>
                    <a:lnTo>
                      <a:pt x="279" y="93"/>
                    </a:lnTo>
                    <a:lnTo>
                      <a:pt x="261" y="86"/>
                    </a:lnTo>
                    <a:lnTo>
                      <a:pt x="257" y="82"/>
                    </a:lnTo>
                    <a:lnTo>
                      <a:pt x="254" y="75"/>
                    </a:lnTo>
                    <a:lnTo>
                      <a:pt x="250" y="64"/>
                    </a:lnTo>
                    <a:lnTo>
                      <a:pt x="250" y="53"/>
                    </a:lnTo>
                    <a:lnTo>
                      <a:pt x="257" y="43"/>
                    </a:lnTo>
                    <a:lnTo>
                      <a:pt x="265" y="32"/>
                    </a:lnTo>
                    <a:lnTo>
                      <a:pt x="275" y="28"/>
                    </a:lnTo>
                    <a:lnTo>
                      <a:pt x="297" y="14"/>
                    </a:lnTo>
                    <a:lnTo>
                      <a:pt x="318" y="7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617400" y="2496960"/>
                <a:ext cx="506520" cy="51120"/>
              </a:xfrm>
              <a:custGeom>
                <a:avLst/>
                <a:gdLst/>
                <a:ahLst/>
                <a:rect l="l" t="t" r="r" b="b"/>
                <a:pathLst>
                  <a:path w="319" h="32">
                    <a:moveTo>
                      <a:pt x="251" y="0"/>
                    </a:moveTo>
                    <a:lnTo>
                      <a:pt x="50" y="0"/>
                    </a:lnTo>
                    <a:lnTo>
                      <a:pt x="0" y="32"/>
                    </a:lnTo>
                    <a:lnTo>
                      <a:pt x="319" y="32"/>
                    </a:lnTo>
                    <a:lnTo>
                      <a:pt x="286" y="28"/>
                    </a:lnTo>
                    <a:lnTo>
                      <a:pt x="279" y="25"/>
                    </a:lnTo>
                    <a:lnTo>
                      <a:pt x="276" y="25"/>
                    </a:lnTo>
                    <a:lnTo>
                      <a:pt x="269" y="18"/>
                    </a:lnTo>
                    <a:lnTo>
                      <a:pt x="265" y="14"/>
                    </a:lnTo>
                    <a:lnTo>
                      <a:pt x="258" y="7"/>
                    </a:lnTo>
                    <a:lnTo>
                      <a:pt x="251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23880" y="258768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82" y="32"/>
                    </a:lnTo>
                    <a:lnTo>
                      <a:pt x="279" y="29"/>
                    </a:lnTo>
                    <a:lnTo>
                      <a:pt x="268" y="25"/>
                    </a:lnTo>
                    <a:lnTo>
                      <a:pt x="265" y="21"/>
                    </a:lnTo>
                    <a:lnTo>
                      <a:pt x="261" y="18"/>
                    </a:lnTo>
                    <a:lnTo>
                      <a:pt x="254" y="11"/>
                    </a:lnTo>
                    <a:lnTo>
                      <a:pt x="2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23880" y="2382840"/>
                <a:ext cx="500040" cy="68400"/>
              </a:xfrm>
              <a:custGeom>
                <a:avLst/>
                <a:gdLst/>
                <a:ahLst/>
                <a:rect l="l" t="t" r="r" b="b"/>
                <a:pathLst>
                  <a:path w="315" h="43">
                    <a:moveTo>
                      <a:pt x="250" y="0"/>
                    </a:moveTo>
                    <a:lnTo>
                      <a:pt x="68" y="0"/>
                    </a:lnTo>
                    <a:lnTo>
                      <a:pt x="0" y="43"/>
                    </a:lnTo>
                    <a:lnTo>
                      <a:pt x="315" y="43"/>
                    </a:lnTo>
                    <a:lnTo>
                      <a:pt x="290" y="43"/>
                    </a:lnTo>
                    <a:lnTo>
                      <a:pt x="279" y="39"/>
                    </a:lnTo>
                    <a:lnTo>
                      <a:pt x="272" y="39"/>
                    </a:lnTo>
                    <a:lnTo>
                      <a:pt x="268" y="36"/>
                    </a:lnTo>
                    <a:lnTo>
                      <a:pt x="265" y="32"/>
                    </a:lnTo>
                    <a:lnTo>
                      <a:pt x="261" y="29"/>
                    </a:lnTo>
                    <a:lnTo>
                      <a:pt x="250" y="18"/>
                    </a:lnTo>
                    <a:lnTo>
                      <a:pt x="2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17400" y="2684520"/>
                <a:ext cx="500040" cy="50760"/>
              </a:xfrm>
              <a:custGeom>
                <a:avLst/>
                <a:gdLst/>
                <a:ahLst/>
                <a:rect l="l" t="t" r="r" b="b"/>
                <a:pathLst>
                  <a:path w="315" h="32">
                    <a:moveTo>
                      <a:pt x="50" y="0"/>
                    </a:moveTo>
                    <a:lnTo>
                      <a:pt x="0" y="32"/>
                    </a:lnTo>
                    <a:lnTo>
                      <a:pt x="315" y="32"/>
                    </a:lnTo>
                    <a:lnTo>
                      <a:pt x="290" y="28"/>
                    </a:lnTo>
                    <a:lnTo>
                      <a:pt x="279" y="25"/>
                    </a:lnTo>
                    <a:lnTo>
                      <a:pt x="269" y="21"/>
                    </a:lnTo>
                    <a:lnTo>
                      <a:pt x="265" y="18"/>
                    </a:lnTo>
                    <a:lnTo>
                      <a:pt x="258" y="11"/>
                    </a:lnTo>
                    <a:lnTo>
                      <a:pt x="254" y="7"/>
                    </a:lnTo>
                    <a:lnTo>
                      <a:pt x="251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634680" y="2781360"/>
                <a:ext cx="482760" cy="44280"/>
              </a:xfrm>
              <a:custGeom>
                <a:avLst/>
                <a:gdLst/>
                <a:ahLst/>
                <a:rect l="l" t="t" r="r" b="b"/>
                <a:pathLst>
                  <a:path w="304" h="28">
                    <a:moveTo>
                      <a:pt x="43" y="0"/>
                    </a:moveTo>
                    <a:lnTo>
                      <a:pt x="0" y="28"/>
                    </a:lnTo>
                    <a:lnTo>
                      <a:pt x="304" y="25"/>
                    </a:lnTo>
                    <a:lnTo>
                      <a:pt x="275" y="25"/>
                    </a:lnTo>
                    <a:lnTo>
                      <a:pt x="265" y="21"/>
                    </a:lnTo>
                    <a:lnTo>
                      <a:pt x="258" y="18"/>
                    </a:lnTo>
                    <a:lnTo>
                      <a:pt x="254" y="10"/>
                    </a:lnTo>
                    <a:lnTo>
                      <a:pt x="247" y="7"/>
                    </a:lnTo>
                    <a:lnTo>
                      <a:pt x="240" y="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038240" y="2195640"/>
                <a:ext cx="352080" cy="147600"/>
              </a:xfrm>
              <a:custGeom>
                <a:avLst/>
                <a:gdLst/>
                <a:ahLst/>
                <a:rect l="l" t="t" r="r" b="b"/>
                <a:pathLst>
                  <a:path w="222" h="93">
                    <a:moveTo>
                      <a:pt x="75" y="93"/>
                    </a:moveTo>
                    <a:lnTo>
                      <a:pt x="136" y="86"/>
                    </a:lnTo>
                    <a:lnTo>
                      <a:pt x="150" y="82"/>
                    </a:lnTo>
                    <a:lnTo>
                      <a:pt x="168" y="75"/>
                    </a:lnTo>
                    <a:lnTo>
                      <a:pt x="197" y="57"/>
                    </a:lnTo>
                    <a:lnTo>
                      <a:pt x="215" y="43"/>
                    </a:lnTo>
                    <a:lnTo>
                      <a:pt x="222" y="28"/>
                    </a:lnTo>
                    <a:lnTo>
                      <a:pt x="218" y="14"/>
                    </a:lnTo>
                    <a:lnTo>
                      <a:pt x="215" y="7"/>
                    </a:lnTo>
                    <a:lnTo>
                      <a:pt x="204" y="0"/>
                    </a:lnTo>
                    <a:lnTo>
                      <a:pt x="168" y="21"/>
                    </a:lnTo>
                    <a:lnTo>
                      <a:pt x="165" y="21"/>
                    </a:lnTo>
                    <a:lnTo>
                      <a:pt x="172" y="11"/>
                    </a:lnTo>
                    <a:lnTo>
                      <a:pt x="172" y="3"/>
                    </a:lnTo>
                    <a:lnTo>
                      <a:pt x="168" y="0"/>
                    </a:lnTo>
                    <a:lnTo>
                      <a:pt x="147" y="0"/>
                    </a:lnTo>
                    <a:lnTo>
                      <a:pt x="143" y="3"/>
                    </a:lnTo>
                    <a:lnTo>
                      <a:pt x="140" y="3"/>
                    </a:lnTo>
                    <a:lnTo>
                      <a:pt x="132" y="7"/>
                    </a:lnTo>
                    <a:lnTo>
                      <a:pt x="129" y="7"/>
                    </a:lnTo>
                    <a:lnTo>
                      <a:pt x="129" y="14"/>
                    </a:lnTo>
                    <a:lnTo>
                      <a:pt x="129" y="18"/>
                    </a:lnTo>
                    <a:lnTo>
                      <a:pt x="140" y="21"/>
                    </a:lnTo>
                    <a:lnTo>
                      <a:pt x="147" y="28"/>
                    </a:lnTo>
                    <a:lnTo>
                      <a:pt x="147" y="36"/>
                    </a:lnTo>
                    <a:lnTo>
                      <a:pt x="143" y="43"/>
                    </a:lnTo>
                    <a:lnTo>
                      <a:pt x="136" y="50"/>
                    </a:lnTo>
                    <a:lnTo>
                      <a:pt x="129" y="54"/>
                    </a:lnTo>
                    <a:lnTo>
                      <a:pt x="111" y="64"/>
                    </a:lnTo>
                    <a:lnTo>
                      <a:pt x="93" y="71"/>
                    </a:lnTo>
                    <a:lnTo>
                      <a:pt x="86" y="75"/>
                    </a:lnTo>
                    <a:lnTo>
                      <a:pt x="79" y="75"/>
                    </a:lnTo>
                    <a:lnTo>
                      <a:pt x="64" y="79"/>
                    </a:lnTo>
                    <a:lnTo>
                      <a:pt x="43" y="82"/>
                    </a:lnTo>
                    <a:lnTo>
                      <a:pt x="29" y="79"/>
                    </a:lnTo>
                    <a:lnTo>
                      <a:pt x="21" y="75"/>
                    </a:lnTo>
                    <a:lnTo>
                      <a:pt x="0" y="79"/>
                    </a:lnTo>
                    <a:lnTo>
                      <a:pt x="18" y="86"/>
                    </a:lnTo>
                    <a:lnTo>
                      <a:pt x="36" y="89"/>
                    </a:lnTo>
                    <a:lnTo>
                      <a:pt x="64" y="93"/>
                    </a:lnTo>
                    <a:lnTo>
                      <a:pt x="75" y="9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031760" y="2189160"/>
                <a:ext cx="330120" cy="136440"/>
              </a:xfrm>
              <a:custGeom>
                <a:avLst/>
                <a:gdLst/>
                <a:ahLst/>
                <a:rect l="l" t="t" r="r" b="b"/>
                <a:pathLst>
                  <a:path w="208" h="86">
                    <a:moveTo>
                      <a:pt x="0" y="79"/>
                    </a:moveTo>
                    <a:lnTo>
                      <a:pt x="4" y="83"/>
                    </a:lnTo>
                    <a:lnTo>
                      <a:pt x="25" y="79"/>
                    </a:lnTo>
                    <a:lnTo>
                      <a:pt x="33" y="83"/>
                    </a:lnTo>
                    <a:lnTo>
                      <a:pt x="47" y="86"/>
                    </a:lnTo>
                    <a:lnTo>
                      <a:pt x="68" y="83"/>
                    </a:lnTo>
                    <a:lnTo>
                      <a:pt x="83" y="79"/>
                    </a:lnTo>
                    <a:lnTo>
                      <a:pt x="90" y="79"/>
                    </a:lnTo>
                    <a:lnTo>
                      <a:pt x="97" y="75"/>
                    </a:lnTo>
                    <a:lnTo>
                      <a:pt x="115" y="68"/>
                    </a:lnTo>
                    <a:lnTo>
                      <a:pt x="133" y="58"/>
                    </a:lnTo>
                    <a:lnTo>
                      <a:pt x="140" y="54"/>
                    </a:lnTo>
                    <a:lnTo>
                      <a:pt x="147" y="47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4" y="25"/>
                    </a:lnTo>
                    <a:lnTo>
                      <a:pt x="133" y="22"/>
                    </a:lnTo>
                    <a:lnTo>
                      <a:pt x="133" y="18"/>
                    </a:lnTo>
                    <a:lnTo>
                      <a:pt x="133" y="11"/>
                    </a:lnTo>
                    <a:lnTo>
                      <a:pt x="136" y="11"/>
                    </a:lnTo>
                    <a:lnTo>
                      <a:pt x="144" y="7"/>
                    </a:lnTo>
                    <a:lnTo>
                      <a:pt x="147" y="7"/>
                    </a:lnTo>
                    <a:lnTo>
                      <a:pt x="151" y="4"/>
                    </a:lnTo>
                    <a:lnTo>
                      <a:pt x="172" y="4"/>
                    </a:lnTo>
                    <a:lnTo>
                      <a:pt x="176" y="7"/>
                    </a:lnTo>
                    <a:lnTo>
                      <a:pt x="176" y="15"/>
                    </a:lnTo>
                    <a:lnTo>
                      <a:pt x="169" y="25"/>
                    </a:lnTo>
                    <a:lnTo>
                      <a:pt x="172" y="25"/>
                    </a:lnTo>
                    <a:lnTo>
                      <a:pt x="208" y="4"/>
                    </a:lnTo>
                    <a:lnTo>
                      <a:pt x="201" y="0"/>
                    </a:lnTo>
                    <a:lnTo>
                      <a:pt x="186" y="4"/>
                    </a:lnTo>
                    <a:lnTo>
                      <a:pt x="172" y="0"/>
                    </a:lnTo>
                    <a:lnTo>
                      <a:pt x="158" y="0"/>
                    </a:lnTo>
                    <a:lnTo>
                      <a:pt x="144" y="4"/>
                    </a:lnTo>
                    <a:lnTo>
                      <a:pt x="108" y="11"/>
                    </a:lnTo>
                    <a:lnTo>
                      <a:pt x="86" y="25"/>
                    </a:lnTo>
                    <a:lnTo>
                      <a:pt x="76" y="32"/>
                    </a:lnTo>
                    <a:lnTo>
                      <a:pt x="68" y="40"/>
                    </a:lnTo>
                    <a:lnTo>
                      <a:pt x="65" y="43"/>
                    </a:lnTo>
                    <a:lnTo>
                      <a:pt x="65" y="47"/>
                    </a:lnTo>
                    <a:lnTo>
                      <a:pt x="72" y="58"/>
                    </a:lnTo>
                    <a:lnTo>
                      <a:pt x="79" y="65"/>
                    </a:lnTo>
                    <a:lnTo>
                      <a:pt x="79" y="68"/>
                    </a:lnTo>
                    <a:lnTo>
                      <a:pt x="79" y="75"/>
                    </a:lnTo>
                    <a:lnTo>
                      <a:pt x="72" y="75"/>
                    </a:lnTo>
                    <a:lnTo>
                      <a:pt x="61" y="79"/>
                    </a:lnTo>
                    <a:lnTo>
                      <a:pt x="54" y="79"/>
                    </a:lnTo>
                    <a:lnTo>
                      <a:pt x="43" y="79"/>
                    </a:lnTo>
                    <a:lnTo>
                      <a:pt x="40" y="79"/>
                    </a:lnTo>
                    <a:lnTo>
                      <a:pt x="36" y="75"/>
                    </a:lnTo>
                    <a:lnTo>
                      <a:pt x="33" y="72"/>
                    </a:lnTo>
                    <a:lnTo>
                      <a:pt x="43" y="54"/>
                    </a:lnTo>
                    <a:lnTo>
                      <a:pt x="40" y="54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020600" y="2184480"/>
                <a:ext cx="330120" cy="129960"/>
              </a:xfrm>
              <a:custGeom>
                <a:avLst/>
                <a:gdLst/>
                <a:ahLst/>
                <a:rect l="l" t="t" r="r" b="b"/>
                <a:pathLst>
                  <a:path w="208" h="82">
                    <a:moveTo>
                      <a:pt x="100" y="0"/>
                    </a:moveTo>
                    <a:lnTo>
                      <a:pt x="68" y="7"/>
                    </a:lnTo>
                    <a:lnTo>
                      <a:pt x="47" y="14"/>
                    </a:lnTo>
                    <a:lnTo>
                      <a:pt x="25" y="28"/>
                    </a:lnTo>
                    <a:lnTo>
                      <a:pt x="15" y="32"/>
                    </a:lnTo>
                    <a:lnTo>
                      <a:pt x="7" y="43"/>
                    </a:lnTo>
                    <a:lnTo>
                      <a:pt x="0" y="53"/>
                    </a:lnTo>
                    <a:lnTo>
                      <a:pt x="0" y="64"/>
                    </a:lnTo>
                    <a:lnTo>
                      <a:pt x="4" y="75"/>
                    </a:lnTo>
                    <a:lnTo>
                      <a:pt x="7" y="82"/>
                    </a:lnTo>
                    <a:lnTo>
                      <a:pt x="47" y="57"/>
                    </a:lnTo>
                    <a:lnTo>
                      <a:pt x="50" y="57"/>
                    </a:lnTo>
                    <a:lnTo>
                      <a:pt x="40" y="75"/>
                    </a:lnTo>
                    <a:lnTo>
                      <a:pt x="43" y="78"/>
                    </a:lnTo>
                    <a:lnTo>
                      <a:pt x="47" y="82"/>
                    </a:lnTo>
                    <a:lnTo>
                      <a:pt x="50" y="82"/>
                    </a:lnTo>
                    <a:lnTo>
                      <a:pt x="61" y="82"/>
                    </a:lnTo>
                    <a:lnTo>
                      <a:pt x="68" y="82"/>
                    </a:lnTo>
                    <a:lnTo>
                      <a:pt x="79" y="78"/>
                    </a:lnTo>
                    <a:lnTo>
                      <a:pt x="86" y="78"/>
                    </a:lnTo>
                    <a:lnTo>
                      <a:pt x="86" y="71"/>
                    </a:lnTo>
                    <a:lnTo>
                      <a:pt x="86" y="68"/>
                    </a:lnTo>
                    <a:lnTo>
                      <a:pt x="79" y="61"/>
                    </a:lnTo>
                    <a:lnTo>
                      <a:pt x="72" y="50"/>
                    </a:lnTo>
                    <a:lnTo>
                      <a:pt x="72" y="46"/>
                    </a:lnTo>
                    <a:lnTo>
                      <a:pt x="75" y="43"/>
                    </a:lnTo>
                    <a:lnTo>
                      <a:pt x="83" y="35"/>
                    </a:lnTo>
                    <a:lnTo>
                      <a:pt x="93" y="28"/>
                    </a:lnTo>
                    <a:lnTo>
                      <a:pt x="115" y="14"/>
                    </a:lnTo>
                    <a:lnTo>
                      <a:pt x="151" y="7"/>
                    </a:lnTo>
                    <a:lnTo>
                      <a:pt x="165" y="3"/>
                    </a:lnTo>
                    <a:lnTo>
                      <a:pt x="179" y="3"/>
                    </a:lnTo>
                    <a:lnTo>
                      <a:pt x="193" y="7"/>
                    </a:lnTo>
                    <a:lnTo>
                      <a:pt x="208" y="3"/>
                    </a:lnTo>
                    <a:lnTo>
                      <a:pt x="19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044360" y="2382840"/>
                <a:ext cx="328680" cy="68400"/>
              </a:xfrm>
              <a:custGeom>
                <a:avLst/>
                <a:gdLst/>
                <a:ahLst/>
                <a:rect l="l" t="t" r="r" b="b"/>
                <a:pathLst>
                  <a:path w="207" h="43">
                    <a:moveTo>
                      <a:pt x="78" y="43"/>
                    </a:moveTo>
                    <a:lnTo>
                      <a:pt x="121" y="39"/>
                    </a:lnTo>
                    <a:lnTo>
                      <a:pt x="136" y="36"/>
                    </a:lnTo>
                    <a:lnTo>
                      <a:pt x="153" y="32"/>
                    </a:lnTo>
                    <a:lnTo>
                      <a:pt x="175" y="25"/>
                    </a:lnTo>
                    <a:lnTo>
                      <a:pt x="189" y="14"/>
                    </a:lnTo>
                    <a:lnTo>
                      <a:pt x="207" y="0"/>
                    </a:lnTo>
                    <a:lnTo>
                      <a:pt x="132" y="0"/>
                    </a:lnTo>
                    <a:lnTo>
                      <a:pt x="125" y="7"/>
                    </a:lnTo>
                    <a:lnTo>
                      <a:pt x="110" y="18"/>
                    </a:lnTo>
                    <a:lnTo>
                      <a:pt x="89" y="25"/>
                    </a:lnTo>
                    <a:lnTo>
                      <a:pt x="75" y="29"/>
                    </a:lnTo>
                    <a:lnTo>
                      <a:pt x="60" y="32"/>
                    </a:lnTo>
                    <a:lnTo>
                      <a:pt x="46" y="32"/>
                    </a:lnTo>
                    <a:lnTo>
                      <a:pt x="32" y="36"/>
                    </a:lnTo>
                    <a:lnTo>
                      <a:pt x="21" y="32"/>
                    </a:lnTo>
                    <a:lnTo>
                      <a:pt x="17" y="29"/>
                    </a:lnTo>
                    <a:lnTo>
                      <a:pt x="0" y="32"/>
                    </a:lnTo>
                    <a:lnTo>
                      <a:pt x="3" y="36"/>
                    </a:lnTo>
                    <a:lnTo>
                      <a:pt x="7" y="39"/>
                    </a:lnTo>
                    <a:lnTo>
                      <a:pt x="14" y="39"/>
                    </a:lnTo>
                    <a:lnTo>
                      <a:pt x="25" y="43"/>
                    </a:lnTo>
                    <a:lnTo>
                      <a:pt x="50" y="43"/>
                    </a:lnTo>
                    <a:lnTo>
                      <a:pt x="78" y="43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044360" y="2781360"/>
                <a:ext cx="300240" cy="39600"/>
              </a:xfrm>
              <a:custGeom>
                <a:avLst/>
                <a:gdLst/>
                <a:ahLst/>
                <a:rect l="l" t="t" r="r" b="b"/>
                <a:pathLst>
                  <a:path w="189" h="25">
                    <a:moveTo>
                      <a:pt x="75" y="25"/>
                    </a:moveTo>
                    <a:lnTo>
                      <a:pt x="132" y="21"/>
                    </a:lnTo>
                    <a:lnTo>
                      <a:pt x="157" y="14"/>
                    </a:lnTo>
                    <a:lnTo>
                      <a:pt x="175" y="7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3"/>
                    </a:lnTo>
                    <a:lnTo>
                      <a:pt x="93" y="7"/>
                    </a:lnTo>
                    <a:lnTo>
                      <a:pt x="78" y="14"/>
                    </a:lnTo>
                    <a:lnTo>
                      <a:pt x="68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9" y="21"/>
                    </a:lnTo>
                    <a:lnTo>
                      <a:pt x="32" y="18"/>
                    </a:lnTo>
                    <a:lnTo>
                      <a:pt x="25" y="18"/>
                    </a:lnTo>
                    <a:lnTo>
                      <a:pt x="17" y="14"/>
                    </a:lnTo>
                    <a:lnTo>
                      <a:pt x="0" y="18"/>
                    </a:lnTo>
                    <a:lnTo>
                      <a:pt x="7" y="21"/>
                    </a:lnTo>
                    <a:lnTo>
                      <a:pt x="17" y="25"/>
                    </a:lnTo>
                    <a:lnTo>
                      <a:pt x="46" y="25"/>
                    </a:lnTo>
                    <a:lnTo>
                      <a:pt x="75" y="25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044360" y="2684520"/>
                <a:ext cx="300240" cy="5076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75" y="32"/>
                    </a:moveTo>
                    <a:lnTo>
                      <a:pt x="118" y="28"/>
                    </a:lnTo>
                    <a:lnTo>
                      <a:pt x="161" y="18"/>
                    </a:lnTo>
                    <a:lnTo>
                      <a:pt x="189" y="0"/>
                    </a:lnTo>
                    <a:lnTo>
                      <a:pt x="114" y="0"/>
                    </a:lnTo>
                    <a:lnTo>
                      <a:pt x="103" y="7"/>
                    </a:lnTo>
                    <a:lnTo>
                      <a:pt x="96" y="11"/>
                    </a:lnTo>
                    <a:lnTo>
                      <a:pt x="89" y="14"/>
                    </a:lnTo>
                    <a:lnTo>
                      <a:pt x="78" y="18"/>
                    </a:lnTo>
                    <a:lnTo>
                      <a:pt x="68" y="18"/>
                    </a:lnTo>
                    <a:lnTo>
                      <a:pt x="57" y="21"/>
                    </a:lnTo>
                    <a:lnTo>
                      <a:pt x="50" y="21"/>
                    </a:lnTo>
                    <a:lnTo>
                      <a:pt x="39" y="21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10" y="25"/>
                    </a:lnTo>
                    <a:lnTo>
                      <a:pt x="21" y="28"/>
                    </a:lnTo>
                    <a:lnTo>
                      <a:pt x="46" y="32"/>
                    </a:lnTo>
                    <a:lnTo>
                      <a:pt x="75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044360" y="2496960"/>
                <a:ext cx="300240" cy="51120"/>
              </a:xfrm>
              <a:custGeom>
                <a:avLst/>
                <a:gdLst/>
                <a:ahLst/>
                <a:rect l="l" t="t" r="r" b="b"/>
                <a:pathLst>
                  <a:path w="189" h="32">
                    <a:moveTo>
                      <a:pt x="89" y="32"/>
                    </a:moveTo>
                    <a:lnTo>
                      <a:pt x="121" y="28"/>
                    </a:lnTo>
                    <a:lnTo>
                      <a:pt x="150" y="18"/>
                    </a:lnTo>
                    <a:lnTo>
                      <a:pt x="171" y="10"/>
                    </a:lnTo>
                    <a:lnTo>
                      <a:pt x="189" y="0"/>
                    </a:lnTo>
                    <a:lnTo>
                      <a:pt x="110" y="0"/>
                    </a:lnTo>
                    <a:lnTo>
                      <a:pt x="103" y="7"/>
                    </a:lnTo>
                    <a:lnTo>
                      <a:pt x="96" y="10"/>
                    </a:lnTo>
                    <a:lnTo>
                      <a:pt x="85" y="14"/>
                    </a:lnTo>
                    <a:lnTo>
                      <a:pt x="82" y="14"/>
                    </a:lnTo>
                    <a:lnTo>
                      <a:pt x="68" y="18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32" y="21"/>
                    </a:lnTo>
                    <a:lnTo>
                      <a:pt x="25" y="21"/>
                    </a:lnTo>
                    <a:lnTo>
                      <a:pt x="14" y="18"/>
                    </a:lnTo>
                    <a:lnTo>
                      <a:pt x="0" y="18"/>
                    </a:lnTo>
                    <a:lnTo>
                      <a:pt x="7" y="25"/>
                    </a:lnTo>
                    <a:lnTo>
                      <a:pt x="10" y="25"/>
                    </a:lnTo>
                    <a:lnTo>
                      <a:pt x="17" y="28"/>
                    </a:lnTo>
                    <a:lnTo>
                      <a:pt x="50" y="32"/>
                    </a:lnTo>
                    <a:lnTo>
                      <a:pt x="89" y="32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044360" y="2587680"/>
                <a:ext cx="300240" cy="57240"/>
              </a:xfrm>
              <a:custGeom>
                <a:avLst/>
                <a:gdLst/>
                <a:ahLst/>
                <a:rect l="l" t="t" r="r" b="b"/>
                <a:pathLst>
                  <a:path w="189" h="36">
                    <a:moveTo>
                      <a:pt x="75" y="36"/>
                    </a:moveTo>
                    <a:lnTo>
                      <a:pt x="125" y="29"/>
                    </a:lnTo>
                    <a:lnTo>
                      <a:pt x="161" y="18"/>
                    </a:lnTo>
                    <a:lnTo>
                      <a:pt x="178" y="11"/>
                    </a:lnTo>
                    <a:lnTo>
                      <a:pt x="189" y="0"/>
                    </a:lnTo>
                    <a:lnTo>
                      <a:pt x="107" y="0"/>
                    </a:lnTo>
                    <a:lnTo>
                      <a:pt x="103" y="11"/>
                    </a:lnTo>
                    <a:lnTo>
                      <a:pt x="89" y="14"/>
                    </a:lnTo>
                    <a:lnTo>
                      <a:pt x="82" y="18"/>
                    </a:lnTo>
                    <a:lnTo>
                      <a:pt x="71" y="21"/>
                    </a:lnTo>
                    <a:lnTo>
                      <a:pt x="53" y="25"/>
                    </a:lnTo>
                    <a:lnTo>
                      <a:pt x="39" y="25"/>
                    </a:lnTo>
                    <a:lnTo>
                      <a:pt x="21" y="21"/>
                    </a:lnTo>
                    <a:lnTo>
                      <a:pt x="17" y="18"/>
                    </a:lnTo>
                    <a:lnTo>
                      <a:pt x="0" y="21"/>
                    </a:lnTo>
                    <a:lnTo>
                      <a:pt x="3" y="25"/>
                    </a:lnTo>
                    <a:lnTo>
                      <a:pt x="14" y="29"/>
                    </a:lnTo>
                    <a:lnTo>
                      <a:pt x="17" y="32"/>
                    </a:lnTo>
                    <a:lnTo>
                      <a:pt x="50" y="32"/>
                    </a:lnTo>
                    <a:lnTo>
                      <a:pt x="75" y="36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038240" y="2382840"/>
                <a:ext cx="215640" cy="57240"/>
              </a:xfrm>
              <a:custGeom>
                <a:avLst/>
                <a:gdLst/>
                <a:ahLst/>
                <a:rect l="l" t="t" r="r" b="b"/>
                <a:pathLst>
                  <a:path w="136" h="36">
                    <a:moveTo>
                      <a:pt x="0" y="29"/>
                    </a:moveTo>
                    <a:lnTo>
                      <a:pt x="4" y="32"/>
                    </a:lnTo>
                    <a:lnTo>
                      <a:pt x="21" y="29"/>
                    </a:lnTo>
                    <a:lnTo>
                      <a:pt x="25" y="32"/>
                    </a:lnTo>
                    <a:lnTo>
                      <a:pt x="36" y="36"/>
                    </a:lnTo>
                    <a:lnTo>
                      <a:pt x="50" y="32"/>
                    </a:lnTo>
                    <a:lnTo>
                      <a:pt x="64" y="32"/>
                    </a:lnTo>
                    <a:lnTo>
                      <a:pt x="79" y="29"/>
                    </a:lnTo>
                    <a:lnTo>
                      <a:pt x="93" y="25"/>
                    </a:lnTo>
                    <a:lnTo>
                      <a:pt x="114" y="18"/>
                    </a:lnTo>
                    <a:lnTo>
                      <a:pt x="129" y="7"/>
                    </a:lnTo>
                    <a:lnTo>
                      <a:pt x="136" y="0"/>
                    </a:lnTo>
                    <a:lnTo>
                      <a:pt x="64" y="0"/>
                    </a:lnTo>
                    <a:lnTo>
                      <a:pt x="79" y="18"/>
                    </a:lnTo>
                    <a:lnTo>
                      <a:pt x="79" y="18"/>
                    </a:lnTo>
                    <a:lnTo>
                      <a:pt x="72" y="25"/>
                    </a:lnTo>
                    <a:lnTo>
                      <a:pt x="61" y="29"/>
                    </a:lnTo>
                    <a:lnTo>
                      <a:pt x="50" y="32"/>
                    </a:lnTo>
                    <a:lnTo>
                      <a:pt x="43" y="29"/>
                    </a:lnTo>
                    <a:lnTo>
                      <a:pt x="32" y="25"/>
                    </a:lnTo>
                    <a:lnTo>
                      <a:pt x="29" y="25"/>
                    </a:lnTo>
                    <a:lnTo>
                      <a:pt x="32" y="18"/>
                    </a:lnTo>
                    <a:lnTo>
                      <a:pt x="36" y="11"/>
                    </a:lnTo>
                    <a:lnTo>
                      <a:pt x="39" y="4"/>
                    </a:lnTo>
                    <a:lnTo>
                      <a:pt x="32" y="4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1038240" y="2684520"/>
                <a:ext cx="187200" cy="33120"/>
              </a:xfrm>
              <a:custGeom>
                <a:avLst/>
                <a:gdLst/>
                <a:ahLst/>
                <a:rect l="l" t="t" r="r" b="b"/>
                <a:pathLst>
                  <a:path w="118" h="21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9" y="18"/>
                    </a:lnTo>
                    <a:lnTo>
                      <a:pt x="43" y="21"/>
                    </a:lnTo>
                    <a:lnTo>
                      <a:pt x="54" y="21"/>
                    </a:lnTo>
                    <a:lnTo>
                      <a:pt x="61" y="21"/>
                    </a:lnTo>
                    <a:lnTo>
                      <a:pt x="72" y="18"/>
                    </a:lnTo>
                    <a:lnTo>
                      <a:pt x="82" y="18"/>
                    </a:lnTo>
                    <a:lnTo>
                      <a:pt x="93" y="14"/>
                    </a:lnTo>
                    <a:lnTo>
                      <a:pt x="100" y="11"/>
                    </a:lnTo>
                    <a:lnTo>
                      <a:pt x="107" y="7"/>
                    </a:lnTo>
                    <a:lnTo>
                      <a:pt x="118" y="0"/>
                    </a:lnTo>
                    <a:lnTo>
                      <a:pt x="86" y="0"/>
                    </a:lnTo>
                    <a:lnTo>
                      <a:pt x="82" y="3"/>
                    </a:lnTo>
                    <a:lnTo>
                      <a:pt x="79" y="7"/>
                    </a:lnTo>
                    <a:lnTo>
                      <a:pt x="72" y="11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50" y="18"/>
                    </a:lnTo>
                    <a:lnTo>
                      <a:pt x="39" y="14"/>
                    </a:lnTo>
                    <a:lnTo>
                      <a:pt x="32" y="11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1038240" y="2781360"/>
                <a:ext cx="180720" cy="3312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0"/>
                    </a:moveTo>
                    <a:lnTo>
                      <a:pt x="4" y="18"/>
                    </a:lnTo>
                    <a:lnTo>
                      <a:pt x="21" y="14"/>
                    </a:lnTo>
                    <a:lnTo>
                      <a:pt x="29" y="18"/>
                    </a:lnTo>
                    <a:lnTo>
                      <a:pt x="36" y="18"/>
                    </a:lnTo>
                    <a:lnTo>
                      <a:pt x="43" y="21"/>
                    </a:lnTo>
                    <a:lnTo>
                      <a:pt x="50" y="18"/>
                    </a:lnTo>
                    <a:lnTo>
                      <a:pt x="61" y="18"/>
                    </a:lnTo>
                    <a:lnTo>
                      <a:pt x="72" y="18"/>
                    </a:lnTo>
                    <a:lnTo>
                      <a:pt x="82" y="14"/>
                    </a:lnTo>
                    <a:lnTo>
                      <a:pt x="97" y="7"/>
                    </a:lnTo>
                    <a:lnTo>
                      <a:pt x="107" y="3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68" y="10"/>
                    </a:lnTo>
                    <a:lnTo>
                      <a:pt x="57" y="14"/>
                    </a:lnTo>
                    <a:lnTo>
                      <a:pt x="46" y="14"/>
                    </a:lnTo>
                    <a:lnTo>
                      <a:pt x="36" y="14"/>
                    </a:lnTo>
                    <a:lnTo>
                      <a:pt x="32" y="7"/>
                    </a:lnTo>
                    <a:lnTo>
                      <a:pt x="32" y="0"/>
                    </a:lnTo>
                    <a:lnTo>
                      <a:pt x="21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038240" y="2496960"/>
                <a:ext cx="180720" cy="33480"/>
              </a:xfrm>
              <a:custGeom>
                <a:avLst/>
                <a:gdLst/>
                <a:ahLst/>
                <a:rect l="l" t="t" r="r" b="b"/>
                <a:pathLst>
                  <a:path w="114" h="21">
                    <a:moveTo>
                      <a:pt x="0" y="14"/>
                    </a:moveTo>
                    <a:lnTo>
                      <a:pt x="4" y="18"/>
                    </a:lnTo>
                    <a:lnTo>
                      <a:pt x="18" y="18"/>
                    </a:lnTo>
                    <a:lnTo>
                      <a:pt x="29" y="21"/>
                    </a:lnTo>
                    <a:lnTo>
                      <a:pt x="36" y="21"/>
                    </a:lnTo>
                    <a:lnTo>
                      <a:pt x="43" y="21"/>
                    </a:lnTo>
                    <a:lnTo>
                      <a:pt x="57" y="21"/>
                    </a:lnTo>
                    <a:lnTo>
                      <a:pt x="72" y="18"/>
                    </a:lnTo>
                    <a:lnTo>
                      <a:pt x="86" y="14"/>
                    </a:lnTo>
                    <a:lnTo>
                      <a:pt x="89" y="14"/>
                    </a:lnTo>
                    <a:lnTo>
                      <a:pt x="100" y="10"/>
                    </a:lnTo>
                    <a:lnTo>
                      <a:pt x="107" y="7"/>
                    </a:lnTo>
                    <a:lnTo>
                      <a:pt x="114" y="0"/>
                    </a:lnTo>
                    <a:lnTo>
                      <a:pt x="79" y="0"/>
                    </a:lnTo>
                    <a:lnTo>
                      <a:pt x="75" y="10"/>
                    </a:lnTo>
                    <a:lnTo>
                      <a:pt x="68" y="14"/>
                    </a:lnTo>
                    <a:lnTo>
                      <a:pt x="57" y="18"/>
                    </a:lnTo>
                    <a:lnTo>
                      <a:pt x="32" y="18"/>
                    </a:lnTo>
                    <a:lnTo>
                      <a:pt x="25" y="14"/>
                    </a:lnTo>
                    <a:lnTo>
                      <a:pt x="25" y="10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038240" y="2587680"/>
                <a:ext cx="176040" cy="39600"/>
              </a:xfrm>
              <a:custGeom>
                <a:avLst/>
                <a:gdLst/>
                <a:ahLst/>
                <a:rect l="l" t="t" r="r" b="b"/>
                <a:pathLst>
                  <a:path w="111" h="25">
                    <a:moveTo>
                      <a:pt x="0" y="18"/>
                    </a:moveTo>
                    <a:lnTo>
                      <a:pt x="4" y="21"/>
                    </a:lnTo>
                    <a:lnTo>
                      <a:pt x="21" y="18"/>
                    </a:lnTo>
                    <a:lnTo>
                      <a:pt x="25" y="21"/>
                    </a:lnTo>
                    <a:lnTo>
                      <a:pt x="43" y="25"/>
                    </a:lnTo>
                    <a:lnTo>
                      <a:pt x="57" y="25"/>
                    </a:lnTo>
                    <a:lnTo>
                      <a:pt x="75" y="21"/>
                    </a:lnTo>
                    <a:lnTo>
                      <a:pt x="86" y="18"/>
                    </a:lnTo>
                    <a:lnTo>
                      <a:pt x="93" y="14"/>
                    </a:lnTo>
                    <a:lnTo>
                      <a:pt x="107" y="11"/>
                    </a:lnTo>
                    <a:lnTo>
                      <a:pt x="111" y="0"/>
                    </a:lnTo>
                    <a:lnTo>
                      <a:pt x="79" y="0"/>
                    </a:lnTo>
                    <a:lnTo>
                      <a:pt x="79" y="7"/>
                    </a:lnTo>
                    <a:lnTo>
                      <a:pt x="79" y="11"/>
                    </a:lnTo>
                    <a:lnTo>
                      <a:pt x="72" y="14"/>
                    </a:lnTo>
                    <a:lnTo>
                      <a:pt x="64" y="18"/>
                    </a:lnTo>
                    <a:lnTo>
                      <a:pt x="57" y="18"/>
                    </a:lnTo>
                    <a:lnTo>
                      <a:pt x="46" y="18"/>
                    </a:lnTo>
                    <a:lnTo>
                      <a:pt x="36" y="18"/>
                    </a:lnTo>
                    <a:lnTo>
                      <a:pt x="32" y="14"/>
                    </a:lnTo>
                    <a:lnTo>
                      <a:pt x="29" y="11"/>
                    </a:lnTo>
                    <a:lnTo>
                      <a:pt x="29" y="0"/>
                    </a:lnTo>
                    <a:lnTo>
                      <a:pt x="21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020600" y="2382840"/>
                <a:ext cx="142920" cy="50760"/>
              </a:xfrm>
              <a:custGeom>
                <a:avLst/>
                <a:gdLst/>
                <a:ahLst/>
                <a:rect l="l" t="t" r="r" b="b"/>
                <a:pathLst>
                  <a:path w="90" h="32">
                    <a:moveTo>
                      <a:pt x="0" y="0"/>
                    </a:moveTo>
                    <a:lnTo>
                      <a:pt x="0" y="18"/>
                    </a:lnTo>
                    <a:lnTo>
                      <a:pt x="11" y="29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47" y="11"/>
                    </a:lnTo>
                    <a:lnTo>
                      <a:pt x="43" y="18"/>
                    </a:lnTo>
                    <a:lnTo>
                      <a:pt x="40" y="25"/>
                    </a:lnTo>
                    <a:lnTo>
                      <a:pt x="43" y="25"/>
                    </a:lnTo>
                    <a:lnTo>
                      <a:pt x="54" y="29"/>
                    </a:lnTo>
                    <a:lnTo>
                      <a:pt x="61" y="32"/>
                    </a:lnTo>
                    <a:lnTo>
                      <a:pt x="72" y="29"/>
                    </a:lnTo>
                    <a:lnTo>
                      <a:pt x="83" y="25"/>
                    </a:lnTo>
                    <a:lnTo>
                      <a:pt x="90" y="18"/>
                    </a:lnTo>
                    <a:lnTo>
                      <a:pt x="90" y="18"/>
                    </a:lnTo>
                    <a:lnTo>
                      <a:pt x="7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77840" y="2496960"/>
                <a:ext cx="85680" cy="2880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4" y="0"/>
                    </a:moveTo>
                    <a:lnTo>
                      <a:pt x="0" y="10"/>
                    </a:lnTo>
                    <a:lnTo>
                      <a:pt x="0" y="14"/>
                    </a:lnTo>
                    <a:lnTo>
                      <a:pt x="7" y="18"/>
                    </a:lnTo>
                    <a:lnTo>
                      <a:pt x="32" y="18"/>
                    </a:lnTo>
                    <a:lnTo>
                      <a:pt x="43" y="14"/>
                    </a:lnTo>
                    <a:lnTo>
                      <a:pt x="50" y="10"/>
                    </a:lnTo>
                    <a:lnTo>
                      <a:pt x="5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089000" y="2684520"/>
                <a:ext cx="85680" cy="28440"/>
              </a:xfrm>
              <a:custGeom>
                <a:avLst/>
                <a:gdLst/>
                <a:ahLst/>
                <a:rect l="l" t="t" r="r" b="b"/>
                <a:pathLst>
                  <a:path w="54" h="18">
                    <a:moveTo>
                      <a:pt x="0" y="0"/>
                    </a:moveTo>
                    <a:lnTo>
                      <a:pt x="0" y="11"/>
                    </a:lnTo>
                    <a:lnTo>
                      <a:pt x="7" y="14"/>
                    </a:lnTo>
                    <a:lnTo>
                      <a:pt x="18" y="18"/>
                    </a:lnTo>
                    <a:lnTo>
                      <a:pt x="25" y="18"/>
                    </a:lnTo>
                    <a:lnTo>
                      <a:pt x="36" y="14"/>
                    </a:lnTo>
                    <a:lnTo>
                      <a:pt x="40" y="11"/>
                    </a:lnTo>
                    <a:lnTo>
                      <a:pt x="47" y="7"/>
                    </a:lnTo>
                    <a:lnTo>
                      <a:pt x="50" y="3"/>
                    </a:lnTo>
                    <a:lnTo>
                      <a:pt x="5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083960" y="2587680"/>
                <a:ext cx="79560" cy="28440"/>
              </a:xfrm>
              <a:custGeom>
                <a:avLst/>
                <a:gdLst/>
                <a:ahLst/>
                <a:rect l="l" t="t" r="r" b="b"/>
                <a:pathLst>
                  <a:path w="50" h="18">
                    <a:moveTo>
                      <a:pt x="0" y="0"/>
                    </a:moveTo>
                    <a:lnTo>
                      <a:pt x="0" y="11"/>
                    </a:lnTo>
                    <a:lnTo>
                      <a:pt x="3" y="14"/>
                    </a:lnTo>
                    <a:lnTo>
                      <a:pt x="7" y="18"/>
                    </a:lnTo>
                    <a:lnTo>
                      <a:pt x="17" y="18"/>
                    </a:lnTo>
                    <a:lnTo>
                      <a:pt x="28" y="18"/>
                    </a:lnTo>
                    <a:lnTo>
                      <a:pt x="35" y="18"/>
                    </a:lnTo>
                    <a:lnTo>
                      <a:pt x="43" y="14"/>
                    </a:lnTo>
                    <a:lnTo>
                      <a:pt x="50" y="11"/>
                    </a:lnTo>
                    <a:lnTo>
                      <a:pt x="50" y="7"/>
                    </a:lnTo>
                    <a:lnTo>
                      <a:pt x="5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089000" y="2781360"/>
                <a:ext cx="74520" cy="22320"/>
              </a:xfrm>
              <a:custGeom>
                <a:avLst/>
                <a:gdLst/>
                <a:ahLst/>
                <a:rect l="l" t="t" r="r" b="b"/>
                <a:pathLst>
                  <a:path w="47" h="14">
                    <a:moveTo>
                      <a:pt x="0" y="0"/>
                    </a:moveTo>
                    <a:lnTo>
                      <a:pt x="0" y="7"/>
                    </a:lnTo>
                    <a:lnTo>
                      <a:pt x="4" y="14"/>
                    </a:lnTo>
                    <a:lnTo>
                      <a:pt x="14" y="14"/>
                    </a:lnTo>
                    <a:lnTo>
                      <a:pt x="25" y="14"/>
                    </a:lnTo>
                    <a:lnTo>
                      <a:pt x="36" y="10"/>
                    </a:lnTo>
                    <a:lnTo>
                      <a:pt x="47" y="7"/>
                    </a:lnTo>
                    <a:lnTo>
                      <a:pt x="47" y="0"/>
                    </a:lnTo>
                    <a:lnTo>
                      <a:pt x="4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1015920" y="2684520"/>
                <a:ext cx="55440" cy="28440"/>
              </a:xfrm>
              <a:custGeom>
                <a:avLst/>
                <a:gdLst/>
                <a:ahLst/>
                <a:rect l="l" t="t" r="r" b="b"/>
                <a:pathLst>
                  <a:path w="35" h="18">
                    <a:moveTo>
                      <a:pt x="0" y="0"/>
                    </a:moveTo>
                    <a:lnTo>
                      <a:pt x="3" y="7"/>
                    </a:lnTo>
                    <a:lnTo>
                      <a:pt x="7" y="11"/>
                    </a:lnTo>
                    <a:lnTo>
                      <a:pt x="14" y="18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015920" y="2781360"/>
                <a:ext cx="55440" cy="15840"/>
              </a:xfrm>
              <a:custGeom>
                <a:avLst/>
                <a:gdLst/>
                <a:ahLst/>
                <a:rect l="l" t="t" r="r" b="b"/>
                <a:pathLst>
                  <a:path w="35" h="10">
                    <a:moveTo>
                      <a:pt x="0" y="0"/>
                    </a:moveTo>
                    <a:lnTo>
                      <a:pt x="7" y="7"/>
                    </a:lnTo>
                    <a:lnTo>
                      <a:pt x="14" y="10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020600" y="2587680"/>
                <a:ext cx="50760" cy="28440"/>
              </a:xfrm>
              <a:custGeom>
                <a:avLst/>
                <a:gdLst/>
                <a:ahLst/>
                <a:rect l="l" t="t" r="r" b="b"/>
                <a:pathLst>
                  <a:path w="32" h="18">
                    <a:moveTo>
                      <a:pt x="0" y="0"/>
                    </a:moveTo>
                    <a:lnTo>
                      <a:pt x="4" y="11"/>
                    </a:lnTo>
                    <a:lnTo>
                      <a:pt x="11" y="18"/>
                    </a:lnTo>
                    <a:lnTo>
                      <a:pt x="3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1015920" y="2496960"/>
                <a:ext cx="55440" cy="2232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0" y="0"/>
                    </a:moveTo>
                    <a:lnTo>
                      <a:pt x="7" y="7"/>
                    </a:lnTo>
                    <a:lnTo>
                      <a:pt x="14" y="14"/>
                    </a:lnTo>
                    <a:lnTo>
                      <a:pt x="3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aeaea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190440" y="2158920"/>
              <a:ext cx="509040" cy="786600"/>
              <a:chOff x="190440" y="2158920"/>
              <a:chExt cx="509040" cy="786600"/>
            </a:xfrm>
          </p:grpSpPr>
          <p:grpSp>
            <p:nvGrpSpPr>
              <p:cNvPr id="635" name=""/>
              <p:cNvGrpSpPr/>
              <p:nvPr/>
            </p:nvGrpSpPr>
            <p:grpSpPr>
              <a:xfrm>
                <a:off x="247680" y="2703240"/>
                <a:ext cx="439920" cy="242280"/>
                <a:chOff x="247680" y="2703240"/>
                <a:chExt cx="439920" cy="242280"/>
              </a:xfrm>
            </p:grpSpPr>
            <p:sp>
              <p:nvSpPr>
                <p:cNvPr id="636" name=""/>
                <p:cNvSpPr/>
                <p:nvPr/>
              </p:nvSpPr>
              <p:spPr>
                <a:xfrm>
                  <a:off x="248400" y="27396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247680" y="27032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248400" y="281520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82680" y="29034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470520" y="291168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551520" y="2905920"/>
                  <a:ext cx="72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37920" y="28728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86880" y="280908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306000" y="28810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351720" y="2736360"/>
                  <a:ext cx="231120" cy="132840"/>
                </a:xfrm>
                <a:custGeom>
                  <a:avLst/>
                  <a:gdLst/>
                  <a:ahLst/>
                  <a:rect l="l" t="t" r="r" b="b"/>
                  <a:pathLst>
                    <a:path w="445" h="226">
                      <a:moveTo>
                        <a:pt x="247" y="27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2"/>
                      </a:lnTo>
                      <a:lnTo>
                        <a:pt x="0" y="117"/>
                      </a:lnTo>
                      <a:lnTo>
                        <a:pt x="21" y="159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1" y="221"/>
                      </a:lnTo>
                      <a:lnTo>
                        <a:pt x="142" y="191"/>
                      </a:lnTo>
                      <a:lnTo>
                        <a:pt x="178" y="209"/>
                      </a:lnTo>
                      <a:lnTo>
                        <a:pt x="231" y="196"/>
                      </a:lnTo>
                      <a:lnTo>
                        <a:pt x="238" y="151"/>
                      </a:lnTo>
                      <a:lnTo>
                        <a:pt x="280" y="166"/>
                      </a:lnTo>
                      <a:lnTo>
                        <a:pt x="291" y="196"/>
                      </a:lnTo>
                      <a:lnTo>
                        <a:pt x="325" y="226"/>
                      </a:lnTo>
                      <a:lnTo>
                        <a:pt x="396" y="200"/>
                      </a:lnTo>
                      <a:lnTo>
                        <a:pt x="440" y="160"/>
                      </a:lnTo>
                      <a:lnTo>
                        <a:pt x="445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6" y="34"/>
                      </a:lnTo>
                      <a:lnTo>
                        <a:pt x="308" y="70"/>
                      </a:lnTo>
                      <a:lnTo>
                        <a:pt x="361" y="36"/>
                      </a:lnTo>
                      <a:lnTo>
                        <a:pt x="381" y="27"/>
                      </a:lnTo>
                      <a:lnTo>
                        <a:pt x="349" y="0"/>
                      </a:lnTo>
                      <a:lnTo>
                        <a:pt x="291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288000" y="2718360"/>
                  <a:ext cx="36756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7" name=""/>
              <p:cNvGrpSpPr/>
              <p:nvPr/>
            </p:nvGrpSpPr>
            <p:grpSpPr>
              <a:xfrm>
                <a:off x="190440" y="2631600"/>
                <a:ext cx="439200" cy="242280"/>
                <a:chOff x="190440" y="2631600"/>
                <a:chExt cx="439200" cy="24228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190440" y="266796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190440" y="26316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90440" y="27435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325800" y="28328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412200" y="28400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492480" y="2834280"/>
                  <a:ext cx="1080" cy="277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78880" y="28011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28920" y="273744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48760" y="28083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93400" y="26658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4" y="188"/>
                      </a:lnTo>
                      <a:lnTo>
                        <a:pt x="179" y="207"/>
                      </a:lnTo>
                      <a:lnTo>
                        <a:pt x="228" y="194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4"/>
                      </a:lnTo>
                      <a:lnTo>
                        <a:pt x="325" y="224"/>
                      </a:lnTo>
                      <a:lnTo>
                        <a:pt x="394" y="199"/>
                      </a:lnTo>
                      <a:lnTo>
                        <a:pt x="440" y="158"/>
                      </a:lnTo>
                      <a:lnTo>
                        <a:pt x="445" y="103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89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228960" y="264672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258840" y="2589120"/>
                <a:ext cx="440640" cy="242640"/>
                <a:chOff x="258840" y="2589120"/>
                <a:chExt cx="440640" cy="24264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259920" y="2626560"/>
                  <a:ext cx="438120" cy="2052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258840" y="2589120"/>
                  <a:ext cx="4374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>
                  <a:off x="259920" y="2702160"/>
                  <a:ext cx="72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93120" y="279072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480600" y="27979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560880" y="27918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648360" y="27601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698400" y="2694960"/>
                  <a:ext cx="1080" cy="352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317160" y="27669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9" name=""/>
                <p:cNvSpPr/>
                <p:nvPr/>
              </p:nvSpPr>
              <p:spPr>
                <a:xfrm>
                  <a:off x="361800" y="2623320"/>
                  <a:ext cx="23184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5" y="25"/>
                      </a:moveTo>
                      <a:lnTo>
                        <a:pt x="140" y="13"/>
                      </a:lnTo>
                      <a:lnTo>
                        <a:pt x="53" y="32"/>
                      </a:lnTo>
                      <a:lnTo>
                        <a:pt x="6" y="70"/>
                      </a:lnTo>
                      <a:lnTo>
                        <a:pt x="0" y="115"/>
                      </a:lnTo>
                      <a:lnTo>
                        <a:pt x="21" y="157"/>
                      </a:lnTo>
                      <a:lnTo>
                        <a:pt x="51" y="183"/>
                      </a:lnTo>
                      <a:lnTo>
                        <a:pt x="66" y="181"/>
                      </a:lnTo>
                      <a:lnTo>
                        <a:pt x="128" y="219"/>
                      </a:lnTo>
                      <a:lnTo>
                        <a:pt x="142" y="189"/>
                      </a:lnTo>
                      <a:lnTo>
                        <a:pt x="177" y="207"/>
                      </a:lnTo>
                      <a:lnTo>
                        <a:pt x="230" y="194"/>
                      </a:lnTo>
                      <a:lnTo>
                        <a:pt x="238" y="149"/>
                      </a:lnTo>
                      <a:lnTo>
                        <a:pt x="277" y="166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58"/>
                      </a:lnTo>
                      <a:lnTo>
                        <a:pt x="445" y="104"/>
                      </a:lnTo>
                      <a:lnTo>
                        <a:pt x="402" y="66"/>
                      </a:lnTo>
                      <a:lnTo>
                        <a:pt x="281" y="68"/>
                      </a:lnTo>
                      <a:lnTo>
                        <a:pt x="266" y="32"/>
                      </a:lnTo>
                      <a:lnTo>
                        <a:pt x="306" y="68"/>
                      </a:lnTo>
                      <a:lnTo>
                        <a:pt x="360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91" y="8"/>
                      </a:lnTo>
                      <a:lnTo>
                        <a:pt x="245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297360" y="2604600"/>
                  <a:ext cx="36864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242640" y="2535840"/>
                <a:ext cx="439920" cy="242280"/>
                <a:chOff x="242640" y="2535840"/>
                <a:chExt cx="439920" cy="242280"/>
              </a:xfrm>
            </p:grpSpPr>
            <p:sp>
              <p:nvSpPr>
                <p:cNvPr id="672" name=""/>
                <p:cNvSpPr/>
                <p:nvPr/>
              </p:nvSpPr>
              <p:spPr>
                <a:xfrm>
                  <a:off x="243360" y="257220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242640" y="2535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243360" y="2647800"/>
                  <a:ext cx="1080" cy="244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377640" y="273600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464040" y="2743200"/>
                  <a:ext cx="108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45400" y="273708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632880" y="27054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681840" y="2641680"/>
                  <a:ext cx="720" cy="327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301680" y="27111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45240" y="2570040"/>
                  <a:ext cx="233280" cy="130680"/>
                </a:xfrm>
                <a:custGeom>
                  <a:avLst/>
                  <a:gdLst/>
                  <a:ahLst/>
                  <a:rect l="l" t="t" r="r" b="b"/>
                  <a:pathLst>
                    <a:path w="447" h="222">
                      <a:moveTo>
                        <a:pt x="247" y="22"/>
                      </a:moveTo>
                      <a:lnTo>
                        <a:pt x="142" y="11"/>
                      </a:lnTo>
                      <a:lnTo>
                        <a:pt x="53" y="30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4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8"/>
                      </a:lnTo>
                      <a:lnTo>
                        <a:pt x="143" y="186"/>
                      </a:lnTo>
                      <a:lnTo>
                        <a:pt x="179" y="205"/>
                      </a:lnTo>
                      <a:lnTo>
                        <a:pt x="230" y="194"/>
                      </a:lnTo>
                      <a:lnTo>
                        <a:pt x="240" y="149"/>
                      </a:lnTo>
                      <a:lnTo>
                        <a:pt x="279" y="164"/>
                      </a:lnTo>
                      <a:lnTo>
                        <a:pt x="292" y="194"/>
                      </a:lnTo>
                      <a:lnTo>
                        <a:pt x="324" y="222"/>
                      </a:lnTo>
                      <a:lnTo>
                        <a:pt x="396" y="198"/>
                      </a:lnTo>
                      <a:lnTo>
                        <a:pt x="441" y="158"/>
                      </a:lnTo>
                      <a:lnTo>
                        <a:pt x="447" y="102"/>
                      </a:lnTo>
                      <a:lnTo>
                        <a:pt x="404" y="64"/>
                      </a:lnTo>
                      <a:lnTo>
                        <a:pt x="283" y="66"/>
                      </a:lnTo>
                      <a:lnTo>
                        <a:pt x="268" y="30"/>
                      </a:lnTo>
                      <a:lnTo>
                        <a:pt x="307" y="66"/>
                      </a:lnTo>
                      <a:lnTo>
                        <a:pt x="362" y="34"/>
                      </a:lnTo>
                      <a:lnTo>
                        <a:pt x="383" y="22"/>
                      </a:lnTo>
                      <a:lnTo>
                        <a:pt x="351" y="0"/>
                      </a:lnTo>
                      <a:lnTo>
                        <a:pt x="292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282960" y="25498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3" name=""/>
              <p:cNvGrpSpPr/>
              <p:nvPr/>
            </p:nvGrpSpPr>
            <p:grpSpPr>
              <a:xfrm>
                <a:off x="226800" y="2457000"/>
                <a:ext cx="439920" cy="242640"/>
                <a:chOff x="226800" y="2457000"/>
                <a:chExt cx="439920" cy="24264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227520" y="2494800"/>
                  <a:ext cx="43848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226800" y="24570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227520" y="2570040"/>
                  <a:ext cx="1080" cy="234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61080" y="26586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48200" y="2665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29560" y="265968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617040" y="2628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66000" y="2562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85840" y="26348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29400" y="2491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5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3" y="183"/>
                      </a:lnTo>
                      <a:lnTo>
                        <a:pt x="68" y="179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51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3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5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267120" y="2472480"/>
                  <a:ext cx="36648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221760" y="2396880"/>
                <a:ext cx="439920" cy="242280"/>
                <a:chOff x="221760" y="2396880"/>
                <a:chExt cx="439920" cy="24228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222480" y="243288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221760" y="2396880"/>
                  <a:ext cx="43920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222480" y="250848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356040" y="2597040"/>
                  <a:ext cx="720" cy="30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443160" y="26053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24520" y="259812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612000" y="256644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660960" y="25027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280800" y="257436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24360" y="2430720"/>
                  <a:ext cx="233280" cy="131760"/>
                </a:xfrm>
                <a:custGeom>
                  <a:avLst/>
                  <a:gdLst/>
                  <a:ahLst/>
                  <a:rect l="l" t="t" r="r" b="b"/>
                  <a:pathLst>
                    <a:path w="446" h="224">
                      <a:moveTo>
                        <a:pt x="247" y="22"/>
                      </a:moveTo>
                      <a:lnTo>
                        <a:pt x="139" y="13"/>
                      </a:lnTo>
                      <a:lnTo>
                        <a:pt x="52" y="32"/>
                      </a:lnTo>
                      <a:lnTo>
                        <a:pt x="7" y="69"/>
                      </a:lnTo>
                      <a:lnTo>
                        <a:pt x="0" y="114"/>
                      </a:lnTo>
                      <a:lnTo>
                        <a:pt x="22" y="154"/>
                      </a:lnTo>
                      <a:lnTo>
                        <a:pt x="50" y="182"/>
                      </a:lnTo>
                      <a:lnTo>
                        <a:pt x="67" y="180"/>
                      </a:lnTo>
                      <a:lnTo>
                        <a:pt x="130" y="218"/>
                      </a:lnTo>
                      <a:lnTo>
                        <a:pt x="143" y="188"/>
                      </a:lnTo>
                      <a:lnTo>
                        <a:pt x="179" y="207"/>
                      </a:lnTo>
                      <a:lnTo>
                        <a:pt x="228" y="195"/>
                      </a:lnTo>
                      <a:lnTo>
                        <a:pt x="239" y="148"/>
                      </a:lnTo>
                      <a:lnTo>
                        <a:pt x="279" y="163"/>
                      </a:lnTo>
                      <a:lnTo>
                        <a:pt x="290" y="195"/>
                      </a:lnTo>
                      <a:lnTo>
                        <a:pt x="324" y="224"/>
                      </a:lnTo>
                      <a:lnTo>
                        <a:pt x="396" y="199"/>
                      </a:lnTo>
                      <a:lnTo>
                        <a:pt x="439" y="160"/>
                      </a:lnTo>
                      <a:lnTo>
                        <a:pt x="446" y="103"/>
                      </a:lnTo>
                      <a:lnTo>
                        <a:pt x="403" y="65"/>
                      </a:lnTo>
                      <a:lnTo>
                        <a:pt x="281" y="67"/>
                      </a:lnTo>
                      <a:lnTo>
                        <a:pt x="267" y="32"/>
                      </a:lnTo>
                      <a:lnTo>
                        <a:pt x="307" y="67"/>
                      </a:lnTo>
                      <a:lnTo>
                        <a:pt x="362" y="33"/>
                      </a:lnTo>
                      <a:lnTo>
                        <a:pt x="380" y="22"/>
                      </a:lnTo>
                      <a:lnTo>
                        <a:pt x="348" y="0"/>
                      </a:lnTo>
                      <a:lnTo>
                        <a:pt x="290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262080" y="2412000"/>
                  <a:ext cx="365400" cy="1731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190440" y="2313000"/>
                <a:ext cx="439200" cy="243720"/>
                <a:chOff x="190440" y="2313000"/>
                <a:chExt cx="439200" cy="243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190440" y="2350800"/>
                  <a:ext cx="438480" cy="2059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90440" y="2313000"/>
                  <a:ext cx="43776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190440" y="2424960"/>
                  <a:ext cx="1080" cy="248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1" name=""/>
                <p:cNvSpPr/>
                <p:nvPr/>
              </p:nvSpPr>
              <p:spPr>
                <a:xfrm>
                  <a:off x="325800" y="251460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412200" y="252180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492480" y="25146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578880" y="248400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628920" y="24188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48760" y="248976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7" name=""/>
                <p:cNvSpPr/>
                <p:nvPr/>
              </p:nvSpPr>
              <p:spPr>
                <a:xfrm>
                  <a:off x="293400" y="2347200"/>
                  <a:ext cx="23220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5"/>
                      </a:moveTo>
                      <a:lnTo>
                        <a:pt x="140" y="15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4" y="189"/>
                      </a:lnTo>
                      <a:lnTo>
                        <a:pt x="179" y="208"/>
                      </a:lnTo>
                      <a:lnTo>
                        <a:pt x="228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89" y="196"/>
                      </a:lnTo>
                      <a:lnTo>
                        <a:pt x="325" y="224"/>
                      </a:lnTo>
                      <a:lnTo>
                        <a:pt x="394" y="200"/>
                      </a:lnTo>
                      <a:lnTo>
                        <a:pt x="440" y="160"/>
                      </a:lnTo>
                      <a:lnTo>
                        <a:pt x="445" y="104"/>
                      </a:lnTo>
                      <a:lnTo>
                        <a:pt x="404" y="68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8" y="68"/>
                      </a:lnTo>
                      <a:lnTo>
                        <a:pt x="362" y="34"/>
                      </a:lnTo>
                      <a:lnTo>
                        <a:pt x="381" y="25"/>
                      </a:lnTo>
                      <a:lnTo>
                        <a:pt x="349" y="0"/>
                      </a:lnTo>
                      <a:lnTo>
                        <a:pt x="289" y="10"/>
                      </a:lnTo>
                      <a:lnTo>
                        <a:pt x="247" y="25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228960" y="2328480"/>
                  <a:ext cx="36864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242640" y="2228400"/>
                <a:ext cx="439920" cy="243720"/>
                <a:chOff x="242640" y="2228400"/>
                <a:chExt cx="439920" cy="24372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243360" y="226584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242640" y="2228400"/>
                  <a:ext cx="439200" cy="2062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43360" y="2341440"/>
                  <a:ext cx="1080" cy="25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7764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464040" y="2436840"/>
                  <a:ext cx="1080" cy="295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545400" y="2430000"/>
                  <a:ext cx="108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632880" y="2399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681840" y="233532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301680" y="2406240"/>
                  <a:ext cx="108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345240" y="2262600"/>
                  <a:ext cx="233280" cy="132840"/>
                </a:xfrm>
                <a:custGeom>
                  <a:avLst/>
                  <a:gdLst/>
                  <a:ahLst/>
                  <a:rect l="l" t="t" r="r" b="b"/>
                  <a:pathLst>
                    <a:path w="447" h="226">
                      <a:moveTo>
                        <a:pt x="247" y="27"/>
                      </a:moveTo>
                      <a:lnTo>
                        <a:pt x="142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7"/>
                      </a:lnTo>
                      <a:lnTo>
                        <a:pt x="23" y="158"/>
                      </a:lnTo>
                      <a:lnTo>
                        <a:pt x="53" y="185"/>
                      </a:lnTo>
                      <a:lnTo>
                        <a:pt x="68" y="181"/>
                      </a:lnTo>
                      <a:lnTo>
                        <a:pt x="130" y="221"/>
                      </a:lnTo>
                      <a:lnTo>
                        <a:pt x="143" y="190"/>
                      </a:lnTo>
                      <a:lnTo>
                        <a:pt x="179" y="209"/>
                      </a:lnTo>
                      <a:lnTo>
                        <a:pt x="230" y="196"/>
                      </a:lnTo>
                      <a:lnTo>
                        <a:pt x="240" y="149"/>
                      </a:lnTo>
                      <a:lnTo>
                        <a:pt x="279" y="166"/>
                      </a:lnTo>
                      <a:lnTo>
                        <a:pt x="292" y="196"/>
                      </a:lnTo>
                      <a:lnTo>
                        <a:pt x="324" y="226"/>
                      </a:lnTo>
                      <a:lnTo>
                        <a:pt x="396" y="200"/>
                      </a:lnTo>
                      <a:lnTo>
                        <a:pt x="441" y="160"/>
                      </a:lnTo>
                      <a:lnTo>
                        <a:pt x="447" y="106"/>
                      </a:lnTo>
                      <a:lnTo>
                        <a:pt x="404" y="68"/>
                      </a:lnTo>
                      <a:lnTo>
                        <a:pt x="283" y="70"/>
                      </a:lnTo>
                      <a:lnTo>
                        <a:pt x="268" y="34"/>
                      </a:lnTo>
                      <a:lnTo>
                        <a:pt x="307" y="70"/>
                      </a:lnTo>
                      <a:lnTo>
                        <a:pt x="362" y="34"/>
                      </a:lnTo>
                      <a:lnTo>
                        <a:pt x="383" y="27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7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82960" y="2244960"/>
                  <a:ext cx="366480" cy="1720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247680" y="2158920"/>
                <a:ext cx="439920" cy="239760"/>
                <a:chOff x="247680" y="2158920"/>
                <a:chExt cx="439920" cy="2397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248400" y="2193840"/>
                  <a:ext cx="439200" cy="20484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47680" y="2158920"/>
                  <a:ext cx="439200" cy="203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48400" y="2268360"/>
                  <a:ext cx="1080" cy="25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82680" y="2356560"/>
                  <a:ext cx="1080" cy="30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470520" y="236592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551520" y="23576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637920" y="2327040"/>
                  <a:ext cx="720" cy="280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686880" y="2262240"/>
                  <a:ext cx="720" cy="342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306000" y="2334240"/>
                  <a:ext cx="720" cy="291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351720" y="2191680"/>
                  <a:ext cx="231120" cy="13176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2"/>
                      </a:moveTo>
                      <a:lnTo>
                        <a:pt x="140" y="13"/>
                      </a:lnTo>
                      <a:lnTo>
                        <a:pt x="53" y="30"/>
                      </a:lnTo>
                      <a:lnTo>
                        <a:pt x="8" y="68"/>
                      </a:lnTo>
                      <a:lnTo>
                        <a:pt x="0" y="115"/>
                      </a:lnTo>
                      <a:lnTo>
                        <a:pt x="21" y="154"/>
                      </a:lnTo>
                      <a:lnTo>
                        <a:pt x="51" y="182"/>
                      </a:lnTo>
                      <a:lnTo>
                        <a:pt x="68" y="179"/>
                      </a:lnTo>
                      <a:lnTo>
                        <a:pt x="131" y="218"/>
                      </a:lnTo>
                      <a:lnTo>
                        <a:pt x="142" y="188"/>
                      </a:lnTo>
                      <a:lnTo>
                        <a:pt x="178" y="207"/>
                      </a:lnTo>
                      <a:lnTo>
                        <a:pt x="231" y="194"/>
                      </a:lnTo>
                      <a:lnTo>
                        <a:pt x="238" y="149"/>
                      </a:lnTo>
                      <a:lnTo>
                        <a:pt x="280" y="164"/>
                      </a:lnTo>
                      <a:lnTo>
                        <a:pt x="291" y="194"/>
                      </a:lnTo>
                      <a:lnTo>
                        <a:pt x="325" y="224"/>
                      </a:lnTo>
                      <a:lnTo>
                        <a:pt x="396" y="198"/>
                      </a:lnTo>
                      <a:lnTo>
                        <a:pt x="440" y="158"/>
                      </a:lnTo>
                      <a:lnTo>
                        <a:pt x="445" y="101"/>
                      </a:lnTo>
                      <a:lnTo>
                        <a:pt x="404" y="66"/>
                      </a:lnTo>
                      <a:lnTo>
                        <a:pt x="283" y="66"/>
                      </a:lnTo>
                      <a:lnTo>
                        <a:pt x="266" y="30"/>
                      </a:lnTo>
                      <a:lnTo>
                        <a:pt x="308" y="66"/>
                      </a:lnTo>
                      <a:lnTo>
                        <a:pt x="361" y="32"/>
                      </a:lnTo>
                      <a:lnTo>
                        <a:pt x="381" y="22"/>
                      </a:lnTo>
                      <a:lnTo>
                        <a:pt x="349" y="0"/>
                      </a:lnTo>
                      <a:lnTo>
                        <a:pt x="291" y="7"/>
                      </a:lnTo>
                      <a:lnTo>
                        <a:pt x="247" y="22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288000" y="2172960"/>
                  <a:ext cx="367560" cy="1717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3" name=""/>
            <p:cNvGrpSpPr/>
            <p:nvPr/>
          </p:nvGrpSpPr>
          <p:grpSpPr>
            <a:xfrm>
              <a:off x="693360" y="2681280"/>
              <a:ext cx="620640" cy="383400"/>
              <a:chOff x="693360" y="2681280"/>
              <a:chExt cx="620640" cy="383400"/>
            </a:xfrm>
          </p:grpSpPr>
          <p:grpSp>
            <p:nvGrpSpPr>
              <p:cNvPr id="744" name=""/>
              <p:cNvGrpSpPr/>
              <p:nvPr/>
            </p:nvGrpSpPr>
            <p:grpSpPr>
              <a:xfrm>
                <a:off x="693360" y="2753640"/>
                <a:ext cx="536760" cy="311040"/>
                <a:chOff x="693360" y="2753640"/>
                <a:chExt cx="536760" cy="31104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93360" y="2800800"/>
                  <a:ext cx="53676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93360" y="2753640"/>
                  <a:ext cx="535320" cy="26388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693360" y="2896560"/>
                  <a:ext cx="1080" cy="3168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857160" y="3011760"/>
                  <a:ext cx="108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964080" y="3019320"/>
                  <a:ext cx="144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1062000" y="301320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1168920" y="297072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228680" y="28890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764280" y="2979720"/>
                  <a:ext cx="1080" cy="396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819360" y="2796120"/>
                  <a:ext cx="283320" cy="169920"/>
                </a:xfrm>
                <a:custGeom>
                  <a:avLst/>
                  <a:gdLst/>
                  <a:ahLst/>
                  <a:rect l="l" t="t" r="r" b="b"/>
                  <a:pathLst>
                    <a:path w="447" h="224">
                      <a:moveTo>
                        <a:pt x="247" y="23"/>
                      </a:moveTo>
                      <a:lnTo>
                        <a:pt x="141" y="13"/>
                      </a:lnTo>
                      <a:lnTo>
                        <a:pt x="53" y="32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7"/>
                      </a:lnTo>
                      <a:lnTo>
                        <a:pt x="51" y="183"/>
                      </a:lnTo>
                      <a:lnTo>
                        <a:pt x="68" y="181"/>
                      </a:lnTo>
                      <a:lnTo>
                        <a:pt x="130" y="219"/>
                      </a:lnTo>
                      <a:lnTo>
                        <a:pt x="143" y="189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9" y="149"/>
                      </a:lnTo>
                      <a:lnTo>
                        <a:pt x="279" y="164"/>
                      </a:lnTo>
                      <a:lnTo>
                        <a:pt x="292" y="196"/>
                      </a:lnTo>
                      <a:lnTo>
                        <a:pt x="324" y="224"/>
                      </a:lnTo>
                      <a:lnTo>
                        <a:pt x="396" y="198"/>
                      </a:lnTo>
                      <a:lnTo>
                        <a:pt x="441" y="160"/>
                      </a:lnTo>
                      <a:lnTo>
                        <a:pt x="447" y="104"/>
                      </a:lnTo>
                      <a:lnTo>
                        <a:pt x="404" y="66"/>
                      </a:lnTo>
                      <a:lnTo>
                        <a:pt x="281" y="68"/>
                      </a:lnTo>
                      <a:lnTo>
                        <a:pt x="268" y="32"/>
                      </a:lnTo>
                      <a:lnTo>
                        <a:pt x="307" y="68"/>
                      </a:lnTo>
                      <a:lnTo>
                        <a:pt x="362" y="34"/>
                      </a:lnTo>
                      <a:lnTo>
                        <a:pt x="383" y="23"/>
                      </a:lnTo>
                      <a:lnTo>
                        <a:pt x="351" y="0"/>
                      </a:lnTo>
                      <a:lnTo>
                        <a:pt x="292" y="10"/>
                      </a:lnTo>
                      <a:lnTo>
                        <a:pt x="247" y="23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740160" y="2771640"/>
                  <a:ext cx="450000" cy="22176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776160" y="2681280"/>
                <a:ext cx="537840" cy="313560"/>
                <a:chOff x="776160" y="2681280"/>
                <a:chExt cx="537840" cy="31356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778680" y="2729520"/>
                  <a:ext cx="53424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776160" y="2681280"/>
                  <a:ext cx="536760" cy="26532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777240" y="2826720"/>
                  <a:ext cx="1440" cy="331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942480" y="2941920"/>
                  <a:ext cx="1440" cy="363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1046880" y="2950920"/>
                  <a:ext cx="1080" cy="3924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1146240" y="2943360"/>
                  <a:ext cx="1080" cy="34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1253160" y="2901240"/>
                  <a:ext cx="1440" cy="3780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312920" y="2820600"/>
                  <a:ext cx="1080" cy="4392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847440" y="2911680"/>
                  <a:ext cx="1080" cy="34560"/>
                </a:xfrm>
                <a:prstGeom prst="line">
                  <a:avLst/>
                </a:prstGeom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903240" y="2726640"/>
                  <a:ext cx="282240" cy="169920"/>
                </a:xfrm>
                <a:custGeom>
                  <a:avLst/>
                  <a:gdLst/>
                  <a:ahLst/>
                  <a:rect l="l" t="t" r="r" b="b"/>
                  <a:pathLst>
                    <a:path w="445" h="224">
                      <a:moveTo>
                        <a:pt x="247" y="24"/>
                      </a:moveTo>
                      <a:lnTo>
                        <a:pt x="140" y="15"/>
                      </a:lnTo>
                      <a:lnTo>
                        <a:pt x="53" y="34"/>
                      </a:lnTo>
                      <a:lnTo>
                        <a:pt x="8" y="70"/>
                      </a:lnTo>
                      <a:lnTo>
                        <a:pt x="0" y="115"/>
                      </a:lnTo>
                      <a:lnTo>
                        <a:pt x="23" y="156"/>
                      </a:lnTo>
                      <a:lnTo>
                        <a:pt x="51" y="185"/>
                      </a:lnTo>
                      <a:lnTo>
                        <a:pt x="68" y="181"/>
                      </a:lnTo>
                      <a:lnTo>
                        <a:pt x="130" y="218"/>
                      </a:lnTo>
                      <a:lnTo>
                        <a:pt x="141" y="188"/>
                      </a:lnTo>
                      <a:lnTo>
                        <a:pt x="179" y="207"/>
                      </a:lnTo>
                      <a:lnTo>
                        <a:pt x="230" y="196"/>
                      </a:lnTo>
                      <a:lnTo>
                        <a:pt x="238" y="149"/>
                      </a:lnTo>
                      <a:lnTo>
                        <a:pt x="279" y="166"/>
                      </a:lnTo>
                      <a:lnTo>
                        <a:pt x="290" y="196"/>
                      </a:lnTo>
                      <a:lnTo>
                        <a:pt x="324" y="224"/>
                      </a:lnTo>
                      <a:lnTo>
                        <a:pt x="394" y="200"/>
                      </a:lnTo>
                      <a:lnTo>
                        <a:pt x="441" y="160"/>
                      </a:lnTo>
                      <a:lnTo>
                        <a:pt x="445" y="104"/>
                      </a:lnTo>
                      <a:lnTo>
                        <a:pt x="403" y="68"/>
                      </a:lnTo>
                      <a:lnTo>
                        <a:pt x="283" y="68"/>
                      </a:lnTo>
                      <a:lnTo>
                        <a:pt x="266" y="34"/>
                      </a:lnTo>
                      <a:lnTo>
                        <a:pt x="307" y="68"/>
                      </a:lnTo>
                      <a:lnTo>
                        <a:pt x="360" y="34"/>
                      </a:lnTo>
                      <a:lnTo>
                        <a:pt x="381" y="24"/>
                      </a:lnTo>
                      <a:lnTo>
                        <a:pt x="349" y="0"/>
                      </a:lnTo>
                      <a:lnTo>
                        <a:pt x="290" y="9"/>
                      </a:lnTo>
                      <a:lnTo>
                        <a:pt x="247" y="24"/>
                      </a:lnTo>
                    </a:path>
                  </a:pathLst>
                </a:custGeom>
                <a:solidFill>
                  <a:srgbClr val="b2b2b2"/>
                </a:solidFill>
                <a:ln w="792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824040" y="2702160"/>
                  <a:ext cx="449280" cy="221400"/>
                </a:xfrm>
                <a:prstGeom prst="ellipse">
                  <a:avLst/>
                </a:prstGeom>
                <a:solidFill>
                  <a:srgbClr val="b2b2b2"/>
                </a:solidFill>
                <a:ln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Finanzwesen: Steuern und Gewinn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… </a:t>
            </a: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d jetzt sind SIE dran …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6931080" y="5064120"/>
          <a:ext cx="1606320" cy="15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31080" y="5064120"/>
                    <a:ext cx="1606320" cy="15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2" name="" descr=""/>
          <p:cNvPicPr/>
          <p:nvPr/>
        </p:nvPicPr>
        <p:blipFill>
          <a:blip r:embed="rId3"/>
          <a:stretch/>
        </p:blipFill>
        <p:spPr>
          <a:xfrm>
            <a:off x="415800" y="2104920"/>
            <a:ext cx="5700960" cy="432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ichtweisen auf ein Unternehm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15800" y="2065320"/>
            <a:ext cx="6010560" cy="45561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116760" y="5756400"/>
            <a:ext cx="2506680" cy="71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Hilfsmittel und Regeln im Planspiel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zen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Berich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Entscheidungsformu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Teilnehmerhandbu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Z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Gruppendynamik und Arbeitsmethodik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66680" y="1971720"/>
            <a:ext cx="8551800" cy="4749840"/>
            <a:chOff x="166680" y="1971720"/>
            <a:chExt cx="8551800" cy="4749840"/>
          </a:xfrm>
        </p:grpSpPr>
        <p:sp>
          <p:nvSpPr>
            <p:cNvPr id="777" name=""/>
            <p:cNvSpPr/>
            <p:nvPr/>
          </p:nvSpPr>
          <p:spPr>
            <a:xfrm>
              <a:off x="291960" y="1971720"/>
              <a:ext cx="8207640" cy="3301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rgebnisse der Periode 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91960" y="6391440"/>
              <a:ext cx="8207640" cy="3301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Verdana"/>
                </a:rPr>
                <a:t>Entscheidungen der Periode x +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rot="5400000">
              <a:off x="2464920" y="3951000"/>
              <a:ext cx="3155760" cy="584280"/>
            </a:xfrm>
            <a:prstGeom prst="rightArrow">
              <a:avLst>
                <a:gd name="adj1" fmla="val 50000"/>
                <a:gd name="adj2" fmla="val 13502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lang="de-DE" sz="1400" spc="-1" strike="noStrike">
                  <a:solidFill>
                    <a:srgbClr val="000000"/>
                  </a:solidFill>
                  <a:latin typeface="Verdana"/>
                </a:rPr>
                <a:t>Vorgehensweise in der Grup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384200" y="2459160"/>
              <a:ext cx="2457720" cy="38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lles wird gleichzeitig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diskutier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Konzentration auf irrelevante Teilproblem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Unbehagen bei Komplexitä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Hektischer Aktionismu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insatz von alten Handlungsplän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Verdan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Prinzip Hoffnung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259240" y="2467080"/>
              <a:ext cx="3459240" cy="379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Soll-Ist Vergleic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Marktsituation (Werte und Trends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Analyse der Konkurrenz (Entscheidungen,Trends und Handlungsspielräu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Eventuelle Anpassung der Ziele und Strategi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Testen von Entscheidungen</a:t>
              </a:r>
              <a:br>
                <a:rPr sz="1700"/>
              </a:b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(Simulation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89080" indent="-289080">
                <a:lnSpc>
                  <a:spcPct val="100000"/>
                </a:lnSpc>
                <a:spcBef>
                  <a:spcPts val="425"/>
                </a:spcBef>
                <a:buClr>
                  <a:srgbClr val="ff9900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0000"/>
                  </a:solidFill>
                  <a:latin typeface="Verdana"/>
                </a:rPr>
                <a:t>Festlegung der Entscheidunge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2" name=""/>
            <p:cNvGrpSpPr/>
            <p:nvPr/>
          </p:nvGrpSpPr>
          <p:grpSpPr>
            <a:xfrm>
              <a:off x="4646520" y="2508120"/>
              <a:ext cx="374400" cy="3665520"/>
              <a:chOff x="4646520" y="2508120"/>
              <a:chExt cx="374400" cy="3665520"/>
            </a:xfrm>
          </p:grpSpPr>
          <p:sp>
            <p:nvSpPr>
              <p:cNvPr id="783" name=""/>
              <p:cNvSpPr/>
              <p:nvPr/>
            </p:nvSpPr>
            <p:spPr>
              <a:xfrm>
                <a:off x="4684680" y="2508120"/>
                <a:ext cx="302760" cy="3665520"/>
              </a:xfrm>
              <a:custGeom>
                <a:avLst/>
                <a:gdLst/>
                <a:ahLst/>
                <a:rect l="l" t="t" r="r" b="b"/>
                <a:pathLst>
                  <a:path w="495" h="5846">
                    <a:moveTo>
                      <a:pt x="383" y="0"/>
                    </a:moveTo>
                    <a:lnTo>
                      <a:pt x="379" y="40"/>
                    </a:lnTo>
                    <a:lnTo>
                      <a:pt x="375" y="82"/>
                    </a:lnTo>
                    <a:lnTo>
                      <a:pt x="368" y="173"/>
                    </a:lnTo>
                    <a:lnTo>
                      <a:pt x="366" y="222"/>
                    </a:lnTo>
                    <a:lnTo>
                      <a:pt x="365" y="271"/>
                    </a:lnTo>
                    <a:lnTo>
                      <a:pt x="365" y="372"/>
                    </a:lnTo>
                    <a:lnTo>
                      <a:pt x="369" y="471"/>
                    </a:lnTo>
                    <a:lnTo>
                      <a:pt x="373" y="520"/>
                    </a:lnTo>
                    <a:lnTo>
                      <a:pt x="378" y="566"/>
                    </a:lnTo>
                    <a:lnTo>
                      <a:pt x="383" y="611"/>
                    </a:lnTo>
                    <a:lnTo>
                      <a:pt x="388" y="632"/>
                    </a:lnTo>
                    <a:lnTo>
                      <a:pt x="391" y="653"/>
                    </a:lnTo>
                    <a:lnTo>
                      <a:pt x="401" y="692"/>
                    </a:lnTo>
                    <a:lnTo>
                      <a:pt x="411" y="727"/>
                    </a:lnTo>
                    <a:lnTo>
                      <a:pt x="431" y="792"/>
                    </a:lnTo>
                    <a:lnTo>
                      <a:pt x="440" y="826"/>
                    </a:lnTo>
                    <a:lnTo>
                      <a:pt x="449" y="859"/>
                    </a:lnTo>
                    <a:lnTo>
                      <a:pt x="457" y="894"/>
                    </a:lnTo>
                    <a:lnTo>
                      <a:pt x="464" y="929"/>
                    </a:lnTo>
                    <a:lnTo>
                      <a:pt x="473" y="963"/>
                    </a:lnTo>
                    <a:lnTo>
                      <a:pt x="477" y="999"/>
                    </a:lnTo>
                    <a:lnTo>
                      <a:pt x="488" y="1069"/>
                    </a:lnTo>
                    <a:lnTo>
                      <a:pt x="491" y="1106"/>
                    </a:lnTo>
                    <a:lnTo>
                      <a:pt x="493" y="1142"/>
                    </a:lnTo>
                    <a:lnTo>
                      <a:pt x="495" y="1178"/>
                    </a:lnTo>
                    <a:lnTo>
                      <a:pt x="495" y="1213"/>
                    </a:lnTo>
                    <a:lnTo>
                      <a:pt x="493" y="1250"/>
                    </a:lnTo>
                    <a:lnTo>
                      <a:pt x="491" y="1286"/>
                    </a:lnTo>
                    <a:lnTo>
                      <a:pt x="489" y="1317"/>
                    </a:lnTo>
                    <a:lnTo>
                      <a:pt x="485" y="1348"/>
                    </a:lnTo>
                    <a:lnTo>
                      <a:pt x="481" y="1376"/>
                    </a:lnTo>
                    <a:lnTo>
                      <a:pt x="475" y="1404"/>
                    </a:lnTo>
                    <a:lnTo>
                      <a:pt x="469" y="1430"/>
                    </a:lnTo>
                    <a:lnTo>
                      <a:pt x="462" y="1455"/>
                    </a:lnTo>
                    <a:lnTo>
                      <a:pt x="455" y="1481"/>
                    </a:lnTo>
                    <a:lnTo>
                      <a:pt x="448" y="1505"/>
                    </a:lnTo>
                    <a:lnTo>
                      <a:pt x="439" y="1528"/>
                    </a:lnTo>
                    <a:lnTo>
                      <a:pt x="431" y="1551"/>
                    </a:lnTo>
                    <a:lnTo>
                      <a:pt x="412" y="1595"/>
                    </a:lnTo>
                    <a:lnTo>
                      <a:pt x="371" y="1681"/>
                    </a:lnTo>
                    <a:lnTo>
                      <a:pt x="326" y="1768"/>
                    </a:lnTo>
                    <a:lnTo>
                      <a:pt x="302" y="1814"/>
                    </a:lnTo>
                    <a:lnTo>
                      <a:pt x="280" y="1862"/>
                    </a:lnTo>
                    <a:lnTo>
                      <a:pt x="257" y="1914"/>
                    </a:lnTo>
                    <a:lnTo>
                      <a:pt x="236" y="1970"/>
                    </a:lnTo>
                    <a:lnTo>
                      <a:pt x="216" y="2031"/>
                    </a:lnTo>
                    <a:lnTo>
                      <a:pt x="196" y="2096"/>
                    </a:lnTo>
                    <a:lnTo>
                      <a:pt x="184" y="2148"/>
                    </a:lnTo>
                    <a:lnTo>
                      <a:pt x="174" y="2200"/>
                    </a:lnTo>
                    <a:lnTo>
                      <a:pt x="168" y="2254"/>
                    </a:lnTo>
                    <a:lnTo>
                      <a:pt x="163" y="2310"/>
                    </a:lnTo>
                    <a:lnTo>
                      <a:pt x="162" y="2337"/>
                    </a:lnTo>
                    <a:lnTo>
                      <a:pt x="162" y="2365"/>
                    </a:lnTo>
                    <a:lnTo>
                      <a:pt x="161" y="2422"/>
                    </a:lnTo>
                    <a:lnTo>
                      <a:pt x="162" y="2478"/>
                    </a:lnTo>
                    <a:lnTo>
                      <a:pt x="165" y="2535"/>
                    </a:lnTo>
                    <a:lnTo>
                      <a:pt x="168" y="2591"/>
                    </a:lnTo>
                    <a:lnTo>
                      <a:pt x="172" y="2648"/>
                    </a:lnTo>
                    <a:lnTo>
                      <a:pt x="180" y="2757"/>
                    </a:lnTo>
                    <a:lnTo>
                      <a:pt x="187" y="2863"/>
                    </a:lnTo>
                    <a:lnTo>
                      <a:pt x="188" y="2913"/>
                    </a:lnTo>
                    <a:lnTo>
                      <a:pt x="189" y="2962"/>
                    </a:lnTo>
                    <a:lnTo>
                      <a:pt x="189" y="2974"/>
                    </a:lnTo>
                    <a:lnTo>
                      <a:pt x="190" y="2985"/>
                    </a:lnTo>
                    <a:lnTo>
                      <a:pt x="192" y="2998"/>
                    </a:lnTo>
                    <a:lnTo>
                      <a:pt x="196" y="3010"/>
                    </a:lnTo>
                    <a:lnTo>
                      <a:pt x="204" y="3036"/>
                    </a:lnTo>
                    <a:lnTo>
                      <a:pt x="214" y="3063"/>
                    </a:lnTo>
                    <a:lnTo>
                      <a:pt x="227" y="3089"/>
                    </a:lnTo>
                    <a:lnTo>
                      <a:pt x="241" y="3117"/>
                    </a:lnTo>
                    <a:lnTo>
                      <a:pt x="272" y="3172"/>
                    </a:lnTo>
                    <a:lnTo>
                      <a:pt x="302" y="3227"/>
                    </a:lnTo>
                    <a:lnTo>
                      <a:pt x="317" y="3255"/>
                    </a:lnTo>
                    <a:lnTo>
                      <a:pt x="330" y="3282"/>
                    </a:lnTo>
                    <a:lnTo>
                      <a:pt x="341" y="3308"/>
                    </a:lnTo>
                    <a:lnTo>
                      <a:pt x="349" y="3334"/>
                    </a:lnTo>
                    <a:lnTo>
                      <a:pt x="354" y="3358"/>
                    </a:lnTo>
                    <a:lnTo>
                      <a:pt x="357" y="3370"/>
                    </a:lnTo>
                    <a:lnTo>
                      <a:pt x="357" y="3381"/>
                    </a:lnTo>
                    <a:lnTo>
                      <a:pt x="357" y="3417"/>
                    </a:lnTo>
                    <a:lnTo>
                      <a:pt x="354" y="3451"/>
                    </a:lnTo>
                    <a:lnTo>
                      <a:pt x="351" y="3486"/>
                    </a:lnTo>
                    <a:lnTo>
                      <a:pt x="345" y="3519"/>
                    </a:lnTo>
                    <a:lnTo>
                      <a:pt x="338" y="3554"/>
                    </a:lnTo>
                    <a:lnTo>
                      <a:pt x="330" y="3587"/>
                    </a:lnTo>
                    <a:lnTo>
                      <a:pt x="321" y="3621"/>
                    </a:lnTo>
                    <a:lnTo>
                      <a:pt x="310" y="3653"/>
                    </a:lnTo>
                    <a:lnTo>
                      <a:pt x="287" y="3720"/>
                    </a:lnTo>
                    <a:lnTo>
                      <a:pt x="275" y="3752"/>
                    </a:lnTo>
                    <a:lnTo>
                      <a:pt x="261" y="3784"/>
                    </a:lnTo>
                    <a:lnTo>
                      <a:pt x="231" y="3850"/>
                    </a:lnTo>
                    <a:lnTo>
                      <a:pt x="202" y="3913"/>
                    </a:lnTo>
                    <a:lnTo>
                      <a:pt x="139" y="4044"/>
                    </a:lnTo>
                    <a:lnTo>
                      <a:pt x="109" y="4108"/>
                    </a:lnTo>
                    <a:lnTo>
                      <a:pt x="81" y="4174"/>
                    </a:lnTo>
                    <a:lnTo>
                      <a:pt x="56" y="4240"/>
                    </a:lnTo>
                    <a:lnTo>
                      <a:pt x="45" y="4273"/>
                    </a:lnTo>
                    <a:lnTo>
                      <a:pt x="35" y="4307"/>
                    </a:lnTo>
                    <a:lnTo>
                      <a:pt x="27" y="4341"/>
                    </a:lnTo>
                    <a:lnTo>
                      <a:pt x="19" y="4375"/>
                    </a:lnTo>
                    <a:lnTo>
                      <a:pt x="13" y="4409"/>
                    </a:lnTo>
                    <a:lnTo>
                      <a:pt x="7" y="4444"/>
                    </a:lnTo>
                    <a:lnTo>
                      <a:pt x="5" y="4467"/>
                    </a:lnTo>
                    <a:lnTo>
                      <a:pt x="3" y="4490"/>
                    </a:lnTo>
                    <a:lnTo>
                      <a:pt x="0" y="4537"/>
                    </a:lnTo>
                    <a:lnTo>
                      <a:pt x="0" y="4560"/>
                    </a:lnTo>
                    <a:lnTo>
                      <a:pt x="1" y="4583"/>
                    </a:lnTo>
                    <a:lnTo>
                      <a:pt x="3" y="4606"/>
                    </a:lnTo>
                    <a:lnTo>
                      <a:pt x="4" y="4631"/>
                    </a:lnTo>
                    <a:lnTo>
                      <a:pt x="8" y="4677"/>
                    </a:lnTo>
                    <a:lnTo>
                      <a:pt x="14" y="4724"/>
                    </a:lnTo>
                    <a:lnTo>
                      <a:pt x="22" y="4770"/>
                    </a:lnTo>
                    <a:lnTo>
                      <a:pt x="31" y="4816"/>
                    </a:lnTo>
                    <a:lnTo>
                      <a:pt x="43" y="4863"/>
                    </a:lnTo>
                    <a:lnTo>
                      <a:pt x="55" y="4910"/>
                    </a:lnTo>
                    <a:lnTo>
                      <a:pt x="84" y="5003"/>
                    </a:lnTo>
                    <a:lnTo>
                      <a:pt x="115" y="5095"/>
                    </a:lnTo>
                    <a:lnTo>
                      <a:pt x="148" y="5187"/>
                    </a:lnTo>
                    <a:lnTo>
                      <a:pt x="220" y="5372"/>
                    </a:lnTo>
                    <a:lnTo>
                      <a:pt x="255" y="5464"/>
                    </a:lnTo>
                    <a:lnTo>
                      <a:pt x="288" y="5556"/>
                    </a:lnTo>
                    <a:lnTo>
                      <a:pt x="320" y="5649"/>
                    </a:lnTo>
                    <a:lnTo>
                      <a:pt x="334" y="5695"/>
                    </a:lnTo>
                    <a:lnTo>
                      <a:pt x="346" y="5741"/>
                    </a:lnTo>
                    <a:lnTo>
                      <a:pt x="358" y="5787"/>
                    </a:lnTo>
                    <a:lnTo>
                      <a:pt x="367" y="5833"/>
                    </a:lnTo>
                    <a:lnTo>
                      <a:pt x="369" y="5846"/>
                    </a:lnTo>
                  </a:path>
                </a:pathLst>
              </a:custGeom>
              <a:noFill/>
              <a:ln w="13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646520" y="53946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4825440" y="5958360"/>
                <a:ext cx="8244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840560" y="4726440"/>
                <a:ext cx="7920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4747320" y="4233240"/>
                <a:ext cx="81000" cy="8748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4798080" y="3664800"/>
                <a:ext cx="806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4938480" y="3119400"/>
                <a:ext cx="82440" cy="8604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4867920" y="2680200"/>
                <a:ext cx="82800" cy="87120"/>
              </a:xfrm>
              <a:prstGeom prst="ellipse">
                <a:avLst/>
              </a:prstGeom>
              <a:solidFill>
                <a:srgbClr val="000000"/>
              </a:solidFill>
              <a:ln w="7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1" name=""/>
            <p:cNvSpPr/>
            <p:nvPr/>
          </p:nvSpPr>
          <p:spPr>
            <a:xfrm>
              <a:off x="166680" y="2505240"/>
              <a:ext cx="1074600" cy="3668400"/>
            </a:xfrm>
            <a:custGeom>
              <a:avLst/>
              <a:gdLst/>
              <a:ahLst/>
              <a:rect l="l" t="t" r="r" b="b"/>
              <a:pathLst>
                <a:path w="2130" h="5901">
                  <a:moveTo>
                    <a:pt x="1769" y="0"/>
                  </a:moveTo>
                  <a:lnTo>
                    <a:pt x="1764" y="33"/>
                  </a:lnTo>
                  <a:lnTo>
                    <a:pt x="1759" y="75"/>
                  </a:lnTo>
                  <a:lnTo>
                    <a:pt x="1758" y="101"/>
                  </a:lnTo>
                  <a:lnTo>
                    <a:pt x="1756" y="128"/>
                  </a:lnTo>
                  <a:lnTo>
                    <a:pt x="1756" y="157"/>
                  </a:lnTo>
                  <a:lnTo>
                    <a:pt x="1755" y="188"/>
                  </a:lnTo>
                  <a:lnTo>
                    <a:pt x="1755" y="219"/>
                  </a:lnTo>
                  <a:lnTo>
                    <a:pt x="1756" y="253"/>
                  </a:lnTo>
                  <a:lnTo>
                    <a:pt x="1757" y="286"/>
                  </a:lnTo>
                  <a:lnTo>
                    <a:pt x="1759" y="320"/>
                  </a:lnTo>
                  <a:lnTo>
                    <a:pt x="1763" y="353"/>
                  </a:lnTo>
                  <a:lnTo>
                    <a:pt x="1766" y="387"/>
                  </a:lnTo>
                  <a:lnTo>
                    <a:pt x="1771" y="420"/>
                  </a:lnTo>
                  <a:lnTo>
                    <a:pt x="1777" y="452"/>
                  </a:lnTo>
                  <a:lnTo>
                    <a:pt x="1783" y="483"/>
                  </a:lnTo>
                  <a:lnTo>
                    <a:pt x="1791" y="512"/>
                  </a:lnTo>
                  <a:lnTo>
                    <a:pt x="1801" y="541"/>
                  </a:lnTo>
                  <a:lnTo>
                    <a:pt x="1810" y="568"/>
                  </a:lnTo>
                  <a:lnTo>
                    <a:pt x="1822" y="591"/>
                  </a:lnTo>
                  <a:lnTo>
                    <a:pt x="1836" y="613"/>
                  </a:lnTo>
                  <a:lnTo>
                    <a:pt x="1850" y="631"/>
                  </a:lnTo>
                  <a:lnTo>
                    <a:pt x="1858" y="639"/>
                  </a:lnTo>
                  <a:lnTo>
                    <a:pt x="1866" y="646"/>
                  </a:lnTo>
                  <a:lnTo>
                    <a:pt x="1875" y="653"/>
                  </a:lnTo>
                  <a:lnTo>
                    <a:pt x="1883" y="659"/>
                  </a:lnTo>
                  <a:lnTo>
                    <a:pt x="1894" y="663"/>
                  </a:lnTo>
                  <a:lnTo>
                    <a:pt x="1903" y="667"/>
                  </a:lnTo>
                  <a:lnTo>
                    <a:pt x="1913" y="670"/>
                  </a:lnTo>
                  <a:lnTo>
                    <a:pt x="1924" y="671"/>
                  </a:lnTo>
                  <a:lnTo>
                    <a:pt x="1935" y="673"/>
                  </a:lnTo>
                  <a:lnTo>
                    <a:pt x="1947" y="673"/>
                  </a:lnTo>
                  <a:lnTo>
                    <a:pt x="1959" y="670"/>
                  </a:lnTo>
                  <a:lnTo>
                    <a:pt x="1971" y="668"/>
                  </a:lnTo>
                  <a:lnTo>
                    <a:pt x="1985" y="664"/>
                  </a:lnTo>
                  <a:lnTo>
                    <a:pt x="1998" y="659"/>
                  </a:lnTo>
                  <a:lnTo>
                    <a:pt x="2012" y="653"/>
                  </a:lnTo>
                  <a:lnTo>
                    <a:pt x="2027" y="645"/>
                  </a:lnTo>
                  <a:lnTo>
                    <a:pt x="2042" y="636"/>
                  </a:lnTo>
                  <a:lnTo>
                    <a:pt x="2058" y="625"/>
                  </a:lnTo>
                  <a:lnTo>
                    <a:pt x="2075" y="613"/>
                  </a:lnTo>
                  <a:lnTo>
                    <a:pt x="2089" y="599"/>
                  </a:lnTo>
                  <a:lnTo>
                    <a:pt x="2102" y="585"/>
                  </a:lnTo>
                  <a:lnTo>
                    <a:pt x="2112" y="571"/>
                  </a:lnTo>
                  <a:lnTo>
                    <a:pt x="2121" y="557"/>
                  </a:lnTo>
                  <a:lnTo>
                    <a:pt x="2125" y="543"/>
                  </a:lnTo>
                  <a:lnTo>
                    <a:pt x="2128" y="537"/>
                  </a:lnTo>
                  <a:lnTo>
                    <a:pt x="2129" y="528"/>
                  </a:lnTo>
                  <a:lnTo>
                    <a:pt x="2130" y="515"/>
                  </a:lnTo>
                  <a:lnTo>
                    <a:pt x="2130" y="508"/>
                  </a:lnTo>
                  <a:lnTo>
                    <a:pt x="2130" y="501"/>
                  </a:lnTo>
                  <a:lnTo>
                    <a:pt x="2128" y="486"/>
                  </a:lnTo>
                  <a:lnTo>
                    <a:pt x="2124" y="472"/>
                  </a:lnTo>
                  <a:lnTo>
                    <a:pt x="2118" y="459"/>
                  </a:lnTo>
                  <a:lnTo>
                    <a:pt x="2111" y="445"/>
                  </a:lnTo>
                  <a:lnTo>
                    <a:pt x="2103" y="432"/>
                  </a:lnTo>
                  <a:lnTo>
                    <a:pt x="2094" y="419"/>
                  </a:lnTo>
                  <a:lnTo>
                    <a:pt x="2084" y="407"/>
                  </a:lnTo>
                  <a:lnTo>
                    <a:pt x="2060" y="383"/>
                  </a:lnTo>
                  <a:lnTo>
                    <a:pt x="2033" y="361"/>
                  </a:lnTo>
                  <a:lnTo>
                    <a:pt x="2004" y="343"/>
                  </a:lnTo>
                  <a:lnTo>
                    <a:pt x="1990" y="335"/>
                  </a:lnTo>
                  <a:lnTo>
                    <a:pt x="1974" y="327"/>
                  </a:lnTo>
                  <a:lnTo>
                    <a:pt x="1959" y="320"/>
                  </a:lnTo>
                  <a:lnTo>
                    <a:pt x="1942" y="314"/>
                  </a:lnTo>
                  <a:lnTo>
                    <a:pt x="1927" y="308"/>
                  </a:lnTo>
                  <a:lnTo>
                    <a:pt x="1912" y="305"/>
                  </a:lnTo>
                  <a:lnTo>
                    <a:pt x="1882" y="299"/>
                  </a:lnTo>
                  <a:lnTo>
                    <a:pt x="1869" y="298"/>
                  </a:lnTo>
                  <a:lnTo>
                    <a:pt x="1855" y="298"/>
                  </a:lnTo>
                  <a:lnTo>
                    <a:pt x="1828" y="326"/>
                  </a:lnTo>
                  <a:lnTo>
                    <a:pt x="1806" y="352"/>
                  </a:lnTo>
                  <a:lnTo>
                    <a:pt x="1787" y="379"/>
                  </a:lnTo>
                  <a:lnTo>
                    <a:pt x="1779" y="391"/>
                  </a:lnTo>
                  <a:lnTo>
                    <a:pt x="1773" y="404"/>
                  </a:lnTo>
                  <a:lnTo>
                    <a:pt x="1762" y="430"/>
                  </a:lnTo>
                  <a:lnTo>
                    <a:pt x="1755" y="456"/>
                  </a:lnTo>
                  <a:lnTo>
                    <a:pt x="1752" y="468"/>
                  </a:lnTo>
                  <a:lnTo>
                    <a:pt x="1751" y="482"/>
                  </a:lnTo>
                  <a:lnTo>
                    <a:pt x="1750" y="508"/>
                  </a:lnTo>
                  <a:lnTo>
                    <a:pt x="1751" y="533"/>
                  </a:lnTo>
                  <a:lnTo>
                    <a:pt x="1756" y="558"/>
                  </a:lnTo>
                  <a:lnTo>
                    <a:pt x="1758" y="571"/>
                  </a:lnTo>
                  <a:lnTo>
                    <a:pt x="1762" y="584"/>
                  </a:lnTo>
                  <a:lnTo>
                    <a:pt x="1770" y="609"/>
                  </a:lnTo>
                  <a:lnTo>
                    <a:pt x="1780" y="635"/>
                  </a:lnTo>
                  <a:lnTo>
                    <a:pt x="1791" y="660"/>
                  </a:lnTo>
                  <a:lnTo>
                    <a:pt x="1803" y="685"/>
                  </a:lnTo>
                  <a:lnTo>
                    <a:pt x="1816" y="711"/>
                  </a:lnTo>
                  <a:lnTo>
                    <a:pt x="1845" y="761"/>
                  </a:lnTo>
                  <a:lnTo>
                    <a:pt x="1874" y="813"/>
                  </a:lnTo>
                  <a:lnTo>
                    <a:pt x="1888" y="839"/>
                  </a:lnTo>
                  <a:lnTo>
                    <a:pt x="1901" y="864"/>
                  </a:lnTo>
                  <a:lnTo>
                    <a:pt x="1913" y="889"/>
                  </a:lnTo>
                  <a:lnTo>
                    <a:pt x="1925" y="916"/>
                  </a:lnTo>
                  <a:lnTo>
                    <a:pt x="1934" y="942"/>
                  </a:lnTo>
                  <a:lnTo>
                    <a:pt x="1942" y="969"/>
                  </a:lnTo>
                  <a:lnTo>
                    <a:pt x="1946" y="982"/>
                  </a:lnTo>
                  <a:lnTo>
                    <a:pt x="1949" y="995"/>
                  </a:lnTo>
                  <a:lnTo>
                    <a:pt x="1953" y="1022"/>
                  </a:lnTo>
                  <a:lnTo>
                    <a:pt x="1954" y="1050"/>
                  </a:lnTo>
                  <a:lnTo>
                    <a:pt x="1954" y="1062"/>
                  </a:lnTo>
                  <a:lnTo>
                    <a:pt x="1953" y="1076"/>
                  </a:lnTo>
                  <a:lnTo>
                    <a:pt x="1949" y="1104"/>
                  </a:lnTo>
                  <a:lnTo>
                    <a:pt x="1942" y="1131"/>
                  </a:lnTo>
                  <a:lnTo>
                    <a:pt x="1934" y="1139"/>
                  </a:lnTo>
                  <a:lnTo>
                    <a:pt x="1926" y="1149"/>
                  </a:lnTo>
                  <a:lnTo>
                    <a:pt x="1906" y="1166"/>
                  </a:lnTo>
                  <a:lnTo>
                    <a:pt x="1881" y="1182"/>
                  </a:lnTo>
                  <a:lnTo>
                    <a:pt x="1853" y="1198"/>
                  </a:lnTo>
                  <a:lnTo>
                    <a:pt x="1820" y="1213"/>
                  </a:lnTo>
                  <a:lnTo>
                    <a:pt x="1785" y="1229"/>
                  </a:lnTo>
                  <a:lnTo>
                    <a:pt x="1745" y="1244"/>
                  </a:lnTo>
                  <a:lnTo>
                    <a:pt x="1704" y="1258"/>
                  </a:lnTo>
                  <a:lnTo>
                    <a:pt x="1659" y="1272"/>
                  </a:lnTo>
                  <a:lnTo>
                    <a:pt x="1612" y="1285"/>
                  </a:lnTo>
                  <a:lnTo>
                    <a:pt x="1565" y="1296"/>
                  </a:lnTo>
                  <a:lnTo>
                    <a:pt x="1515" y="1308"/>
                  </a:lnTo>
                  <a:lnTo>
                    <a:pt x="1464" y="1318"/>
                  </a:lnTo>
                  <a:lnTo>
                    <a:pt x="1412" y="1327"/>
                  </a:lnTo>
                  <a:lnTo>
                    <a:pt x="1360" y="1335"/>
                  </a:lnTo>
                  <a:lnTo>
                    <a:pt x="1308" y="1342"/>
                  </a:lnTo>
                  <a:lnTo>
                    <a:pt x="1255" y="1348"/>
                  </a:lnTo>
                  <a:lnTo>
                    <a:pt x="1203" y="1353"/>
                  </a:lnTo>
                  <a:lnTo>
                    <a:pt x="1153" y="1356"/>
                  </a:lnTo>
                  <a:lnTo>
                    <a:pt x="1102" y="1359"/>
                  </a:lnTo>
                  <a:lnTo>
                    <a:pt x="1053" y="1359"/>
                  </a:lnTo>
                  <a:lnTo>
                    <a:pt x="1006" y="1359"/>
                  </a:lnTo>
                  <a:lnTo>
                    <a:pt x="961" y="1355"/>
                  </a:lnTo>
                  <a:lnTo>
                    <a:pt x="918" y="1352"/>
                  </a:lnTo>
                  <a:lnTo>
                    <a:pt x="878" y="1346"/>
                  </a:lnTo>
                  <a:lnTo>
                    <a:pt x="841" y="1338"/>
                  </a:lnTo>
                  <a:lnTo>
                    <a:pt x="824" y="1333"/>
                  </a:lnTo>
                  <a:lnTo>
                    <a:pt x="808" y="1329"/>
                  </a:lnTo>
                  <a:lnTo>
                    <a:pt x="792" y="1323"/>
                  </a:lnTo>
                  <a:lnTo>
                    <a:pt x="778" y="1317"/>
                  </a:lnTo>
                  <a:lnTo>
                    <a:pt x="751" y="1303"/>
                  </a:lnTo>
                  <a:lnTo>
                    <a:pt x="739" y="1296"/>
                  </a:lnTo>
                  <a:lnTo>
                    <a:pt x="729" y="1288"/>
                  </a:lnTo>
                  <a:lnTo>
                    <a:pt x="720" y="1279"/>
                  </a:lnTo>
                  <a:lnTo>
                    <a:pt x="712" y="1271"/>
                  </a:lnTo>
                  <a:lnTo>
                    <a:pt x="705" y="1261"/>
                  </a:lnTo>
                  <a:lnTo>
                    <a:pt x="699" y="1251"/>
                  </a:lnTo>
                  <a:lnTo>
                    <a:pt x="722" y="1236"/>
                  </a:lnTo>
                  <a:lnTo>
                    <a:pt x="745" y="1225"/>
                  </a:lnTo>
                  <a:lnTo>
                    <a:pt x="767" y="1214"/>
                  </a:lnTo>
                  <a:lnTo>
                    <a:pt x="789" y="1206"/>
                  </a:lnTo>
                  <a:lnTo>
                    <a:pt x="809" y="1198"/>
                  </a:lnTo>
                  <a:lnTo>
                    <a:pt x="830" y="1194"/>
                  </a:lnTo>
                  <a:lnTo>
                    <a:pt x="848" y="1189"/>
                  </a:lnTo>
                  <a:lnTo>
                    <a:pt x="868" y="1187"/>
                  </a:lnTo>
                  <a:lnTo>
                    <a:pt x="885" y="1186"/>
                  </a:lnTo>
                  <a:lnTo>
                    <a:pt x="904" y="1186"/>
                  </a:lnTo>
                  <a:lnTo>
                    <a:pt x="920" y="1187"/>
                  </a:lnTo>
                  <a:lnTo>
                    <a:pt x="937" y="1189"/>
                  </a:lnTo>
                  <a:lnTo>
                    <a:pt x="954" y="1194"/>
                  </a:lnTo>
                  <a:lnTo>
                    <a:pt x="969" y="1198"/>
                  </a:lnTo>
                  <a:lnTo>
                    <a:pt x="983" y="1205"/>
                  </a:lnTo>
                  <a:lnTo>
                    <a:pt x="998" y="1212"/>
                  </a:lnTo>
                  <a:lnTo>
                    <a:pt x="1025" y="1229"/>
                  </a:lnTo>
                  <a:lnTo>
                    <a:pt x="1039" y="1240"/>
                  </a:lnTo>
                  <a:lnTo>
                    <a:pt x="1051" y="1251"/>
                  </a:lnTo>
                  <a:lnTo>
                    <a:pt x="1064" y="1263"/>
                  </a:lnTo>
                  <a:lnTo>
                    <a:pt x="1076" y="1276"/>
                  </a:lnTo>
                  <a:lnTo>
                    <a:pt x="1087" y="1291"/>
                  </a:lnTo>
                  <a:lnTo>
                    <a:pt x="1098" y="1304"/>
                  </a:lnTo>
                  <a:lnTo>
                    <a:pt x="1119" y="1335"/>
                  </a:lnTo>
                  <a:lnTo>
                    <a:pt x="1140" y="1369"/>
                  </a:lnTo>
                  <a:lnTo>
                    <a:pt x="1159" y="1404"/>
                  </a:lnTo>
                  <a:lnTo>
                    <a:pt x="1176" y="1440"/>
                  </a:lnTo>
                  <a:lnTo>
                    <a:pt x="1193" y="1480"/>
                  </a:lnTo>
                  <a:lnTo>
                    <a:pt x="1211" y="1519"/>
                  </a:lnTo>
                  <a:lnTo>
                    <a:pt x="1241" y="1598"/>
                  </a:lnTo>
                  <a:lnTo>
                    <a:pt x="1297" y="1753"/>
                  </a:lnTo>
                  <a:lnTo>
                    <a:pt x="1311" y="1789"/>
                  </a:lnTo>
                  <a:lnTo>
                    <a:pt x="1326" y="1823"/>
                  </a:lnTo>
                  <a:lnTo>
                    <a:pt x="1340" y="1854"/>
                  </a:lnTo>
                  <a:lnTo>
                    <a:pt x="1355" y="1883"/>
                  </a:lnTo>
                  <a:lnTo>
                    <a:pt x="1370" y="1908"/>
                  </a:lnTo>
                  <a:lnTo>
                    <a:pt x="1387" y="1932"/>
                  </a:lnTo>
                  <a:lnTo>
                    <a:pt x="1396" y="1942"/>
                  </a:lnTo>
                  <a:lnTo>
                    <a:pt x="1404" y="1950"/>
                  </a:lnTo>
                  <a:lnTo>
                    <a:pt x="1412" y="1958"/>
                  </a:lnTo>
                  <a:lnTo>
                    <a:pt x="1421" y="1965"/>
                  </a:lnTo>
                  <a:lnTo>
                    <a:pt x="1443" y="1979"/>
                  </a:lnTo>
                  <a:lnTo>
                    <a:pt x="1455" y="1986"/>
                  </a:lnTo>
                  <a:lnTo>
                    <a:pt x="1466" y="1992"/>
                  </a:lnTo>
                  <a:lnTo>
                    <a:pt x="1478" y="1998"/>
                  </a:lnTo>
                  <a:lnTo>
                    <a:pt x="1488" y="2003"/>
                  </a:lnTo>
                  <a:lnTo>
                    <a:pt x="1512" y="2013"/>
                  </a:lnTo>
                  <a:lnTo>
                    <a:pt x="1535" y="2023"/>
                  </a:lnTo>
                  <a:lnTo>
                    <a:pt x="1559" y="2031"/>
                  </a:lnTo>
                  <a:lnTo>
                    <a:pt x="1582" y="2036"/>
                  </a:lnTo>
                  <a:lnTo>
                    <a:pt x="1607" y="2041"/>
                  </a:lnTo>
                  <a:lnTo>
                    <a:pt x="1630" y="2045"/>
                  </a:lnTo>
                  <a:lnTo>
                    <a:pt x="1653" y="2048"/>
                  </a:lnTo>
                  <a:lnTo>
                    <a:pt x="1677" y="2048"/>
                  </a:lnTo>
                  <a:lnTo>
                    <a:pt x="1700" y="2048"/>
                  </a:lnTo>
                  <a:lnTo>
                    <a:pt x="1725" y="2047"/>
                  </a:lnTo>
                  <a:lnTo>
                    <a:pt x="1747" y="2045"/>
                  </a:lnTo>
                  <a:lnTo>
                    <a:pt x="1770" y="2040"/>
                  </a:lnTo>
                  <a:lnTo>
                    <a:pt x="1793" y="2035"/>
                  </a:lnTo>
                  <a:lnTo>
                    <a:pt x="1816" y="2028"/>
                  </a:lnTo>
                  <a:lnTo>
                    <a:pt x="1838" y="2020"/>
                  </a:lnTo>
                  <a:lnTo>
                    <a:pt x="1859" y="2012"/>
                  </a:lnTo>
                  <a:lnTo>
                    <a:pt x="1881" y="2002"/>
                  </a:lnTo>
                  <a:lnTo>
                    <a:pt x="1902" y="1990"/>
                  </a:lnTo>
                  <a:lnTo>
                    <a:pt x="1921" y="1978"/>
                  </a:lnTo>
                  <a:lnTo>
                    <a:pt x="1941" y="1964"/>
                  </a:lnTo>
                  <a:lnTo>
                    <a:pt x="1961" y="1949"/>
                  </a:lnTo>
                  <a:lnTo>
                    <a:pt x="1979" y="1933"/>
                  </a:lnTo>
                  <a:lnTo>
                    <a:pt x="1997" y="1915"/>
                  </a:lnTo>
                  <a:lnTo>
                    <a:pt x="2014" y="1897"/>
                  </a:lnTo>
                  <a:lnTo>
                    <a:pt x="2030" y="1876"/>
                  </a:lnTo>
                  <a:lnTo>
                    <a:pt x="2045" y="1855"/>
                  </a:lnTo>
                  <a:lnTo>
                    <a:pt x="2060" y="1834"/>
                  </a:lnTo>
                  <a:lnTo>
                    <a:pt x="2073" y="1810"/>
                  </a:lnTo>
                  <a:lnTo>
                    <a:pt x="2087" y="1785"/>
                  </a:lnTo>
                  <a:lnTo>
                    <a:pt x="2089" y="1776"/>
                  </a:lnTo>
                  <a:lnTo>
                    <a:pt x="2089" y="1771"/>
                  </a:lnTo>
                  <a:lnTo>
                    <a:pt x="2088" y="1767"/>
                  </a:lnTo>
                  <a:lnTo>
                    <a:pt x="2087" y="1762"/>
                  </a:lnTo>
                  <a:lnTo>
                    <a:pt x="2084" y="1759"/>
                  </a:lnTo>
                  <a:lnTo>
                    <a:pt x="2074" y="1751"/>
                  </a:lnTo>
                  <a:lnTo>
                    <a:pt x="2063" y="1745"/>
                  </a:lnTo>
                  <a:lnTo>
                    <a:pt x="2048" y="1739"/>
                  </a:lnTo>
                  <a:lnTo>
                    <a:pt x="2029" y="1734"/>
                  </a:lnTo>
                  <a:lnTo>
                    <a:pt x="2008" y="1730"/>
                  </a:lnTo>
                  <a:lnTo>
                    <a:pt x="1985" y="1727"/>
                  </a:lnTo>
                  <a:lnTo>
                    <a:pt x="1972" y="1725"/>
                  </a:lnTo>
                  <a:lnTo>
                    <a:pt x="1960" y="1725"/>
                  </a:lnTo>
                  <a:lnTo>
                    <a:pt x="1932" y="1723"/>
                  </a:lnTo>
                  <a:lnTo>
                    <a:pt x="1903" y="1722"/>
                  </a:lnTo>
                  <a:lnTo>
                    <a:pt x="1874" y="1721"/>
                  </a:lnTo>
                  <a:lnTo>
                    <a:pt x="1843" y="1721"/>
                  </a:lnTo>
                  <a:lnTo>
                    <a:pt x="1810" y="1721"/>
                  </a:lnTo>
                  <a:lnTo>
                    <a:pt x="1778" y="1722"/>
                  </a:lnTo>
                  <a:lnTo>
                    <a:pt x="1712" y="1724"/>
                  </a:lnTo>
                  <a:lnTo>
                    <a:pt x="1648" y="1727"/>
                  </a:lnTo>
                  <a:lnTo>
                    <a:pt x="1586" y="1732"/>
                  </a:lnTo>
                  <a:lnTo>
                    <a:pt x="1529" y="1737"/>
                  </a:lnTo>
                  <a:lnTo>
                    <a:pt x="1479" y="1742"/>
                  </a:lnTo>
                  <a:lnTo>
                    <a:pt x="1457" y="1745"/>
                  </a:lnTo>
                  <a:lnTo>
                    <a:pt x="1439" y="1748"/>
                  </a:lnTo>
                  <a:lnTo>
                    <a:pt x="1410" y="1753"/>
                  </a:lnTo>
                  <a:lnTo>
                    <a:pt x="1394" y="1756"/>
                  </a:lnTo>
                  <a:lnTo>
                    <a:pt x="1359" y="1772"/>
                  </a:lnTo>
                  <a:lnTo>
                    <a:pt x="1329" y="1789"/>
                  </a:lnTo>
                  <a:lnTo>
                    <a:pt x="1301" y="1806"/>
                  </a:lnTo>
                  <a:lnTo>
                    <a:pt x="1275" y="1825"/>
                  </a:lnTo>
                  <a:lnTo>
                    <a:pt x="1253" y="1845"/>
                  </a:lnTo>
                  <a:lnTo>
                    <a:pt x="1234" y="1866"/>
                  </a:lnTo>
                  <a:lnTo>
                    <a:pt x="1218" y="1888"/>
                  </a:lnTo>
                  <a:lnTo>
                    <a:pt x="1203" y="1911"/>
                  </a:lnTo>
                  <a:lnTo>
                    <a:pt x="1189" y="1934"/>
                  </a:lnTo>
                  <a:lnTo>
                    <a:pt x="1183" y="1945"/>
                  </a:lnTo>
                  <a:lnTo>
                    <a:pt x="1177" y="1958"/>
                  </a:lnTo>
                  <a:lnTo>
                    <a:pt x="1172" y="1970"/>
                  </a:lnTo>
                  <a:lnTo>
                    <a:pt x="1167" y="1982"/>
                  </a:lnTo>
                  <a:lnTo>
                    <a:pt x="1159" y="2008"/>
                  </a:lnTo>
                  <a:lnTo>
                    <a:pt x="1150" y="2033"/>
                  </a:lnTo>
                  <a:lnTo>
                    <a:pt x="1143" y="2060"/>
                  </a:lnTo>
                  <a:lnTo>
                    <a:pt x="1132" y="2113"/>
                  </a:lnTo>
                  <a:lnTo>
                    <a:pt x="1120" y="2167"/>
                  </a:lnTo>
                  <a:lnTo>
                    <a:pt x="1115" y="2194"/>
                  </a:lnTo>
                  <a:lnTo>
                    <a:pt x="1108" y="2221"/>
                  </a:lnTo>
                  <a:lnTo>
                    <a:pt x="1094" y="2276"/>
                  </a:lnTo>
                  <a:lnTo>
                    <a:pt x="1076" y="2330"/>
                  </a:lnTo>
                  <a:lnTo>
                    <a:pt x="1065" y="2357"/>
                  </a:lnTo>
                  <a:lnTo>
                    <a:pt x="1052" y="2382"/>
                  </a:lnTo>
                  <a:lnTo>
                    <a:pt x="1037" y="2409"/>
                  </a:lnTo>
                  <a:lnTo>
                    <a:pt x="1021" y="2434"/>
                  </a:lnTo>
                  <a:lnTo>
                    <a:pt x="1002" y="2458"/>
                  </a:lnTo>
                  <a:lnTo>
                    <a:pt x="981" y="2484"/>
                  </a:lnTo>
                  <a:lnTo>
                    <a:pt x="957" y="2507"/>
                  </a:lnTo>
                  <a:lnTo>
                    <a:pt x="930" y="2530"/>
                  </a:lnTo>
                  <a:lnTo>
                    <a:pt x="903" y="2552"/>
                  </a:lnTo>
                  <a:lnTo>
                    <a:pt x="877" y="2569"/>
                  </a:lnTo>
                  <a:lnTo>
                    <a:pt x="854" y="2582"/>
                  </a:lnTo>
                  <a:lnTo>
                    <a:pt x="833" y="2591"/>
                  </a:lnTo>
                  <a:lnTo>
                    <a:pt x="814" y="2597"/>
                  </a:lnTo>
                  <a:lnTo>
                    <a:pt x="804" y="2598"/>
                  </a:lnTo>
                  <a:lnTo>
                    <a:pt x="795" y="2599"/>
                  </a:lnTo>
                  <a:lnTo>
                    <a:pt x="786" y="2598"/>
                  </a:lnTo>
                  <a:lnTo>
                    <a:pt x="778" y="2598"/>
                  </a:lnTo>
                  <a:lnTo>
                    <a:pt x="770" y="2597"/>
                  </a:lnTo>
                  <a:lnTo>
                    <a:pt x="760" y="2594"/>
                  </a:lnTo>
                  <a:lnTo>
                    <a:pt x="743" y="2589"/>
                  </a:lnTo>
                  <a:lnTo>
                    <a:pt x="724" y="2579"/>
                  </a:lnTo>
                  <a:lnTo>
                    <a:pt x="706" y="2570"/>
                  </a:lnTo>
                  <a:lnTo>
                    <a:pt x="686" y="2558"/>
                  </a:lnTo>
                  <a:lnTo>
                    <a:pt x="640" y="2531"/>
                  </a:lnTo>
                  <a:lnTo>
                    <a:pt x="613" y="2516"/>
                  </a:lnTo>
                  <a:lnTo>
                    <a:pt x="584" y="2500"/>
                  </a:lnTo>
                  <a:lnTo>
                    <a:pt x="602" y="2492"/>
                  </a:lnTo>
                  <a:lnTo>
                    <a:pt x="621" y="2485"/>
                  </a:lnTo>
                  <a:lnTo>
                    <a:pt x="642" y="2480"/>
                  </a:lnTo>
                  <a:lnTo>
                    <a:pt x="665" y="2477"/>
                  </a:lnTo>
                  <a:lnTo>
                    <a:pt x="689" y="2475"/>
                  </a:lnTo>
                  <a:lnTo>
                    <a:pt x="713" y="2475"/>
                  </a:lnTo>
                  <a:lnTo>
                    <a:pt x="738" y="2476"/>
                  </a:lnTo>
                  <a:lnTo>
                    <a:pt x="765" y="2478"/>
                  </a:lnTo>
                  <a:lnTo>
                    <a:pt x="790" y="2482"/>
                  </a:lnTo>
                  <a:lnTo>
                    <a:pt x="817" y="2487"/>
                  </a:lnTo>
                  <a:lnTo>
                    <a:pt x="844" y="2493"/>
                  </a:lnTo>
                  <a:lnTo>
                    <a:pt x="870" y="2501"/>
                  </a:lnTo>
                  <a:lnTo>
                    <a:pt x="884" y="2506"/>
                  </a:lnTo>
                  <a:lnTo>
                    <a:pt x="897" y="2510"/>
                  </a:lnTo>
                  <a:lnTo>
                    <a:pt x="922" y="2520"/>
                  </a:lnTo>
                  <a:lnTo>
                    <a:pt x="947" y="2531"/>
                  </a:lnTo>
                  <a:lnTo>
                    <a:pt x="971" y="2544"/>
                  </a:lnTo>
                  <a:lnTo>
                    <a:pt x="994" y="2556"/>
                  </a:lnTo>
                  <a:lnTo>
                    <a:pt x="1016" y="2571"/>
                  </a:lnTo>
                  <a:lnTo>
                    <a:pt x="1036" y="2586"/>
                  </a:lnTo>
                  <a:lnTo>
                    <a:pt x="1054" y="2603"/>
                  </a:lnTo>
                  <a:lnTo>
                    <a:pt x="1071" y="2620"/>
                  </a:lnTo>
                  <a:lnTo>
                    <a:pt x="1086" y="2638"/>
                  </a:lnTo>
                  <a:lnTo>
                    <a:pt x="1097" y="2657"/>
                  </a:lnTo>
                  <a:lnTo>
                    <a:pt x="1108" y="2676"/>
                  </a:lnTo>
                  <a:lnTo>
                    <a:pt x="1115" y="2696"/>
                  </a:lnTo>
                  <a:lnTo>
                    <a:pt x="1119" y="2718"/>
                  </a:lnTo>
                  <a:lnTo>
                    <a:pt x="1120" y="2740"/>
                  </a:lnTo>
                  <a:lnTo>
                    <a:pt x="1120" y="2750"/>
                  </a:lnTo>
                  <a:lnTo>
                    <a:pt x="1119" y="2762"/>
                  </a:lnTo>
                  <a:lnTo>
                    <a:pt x="1116" y="2773"/>
                  </a:lnTo>
                  <a:lnTo>
                    <a:pt x="1113" y="2785"/>
                  </a:lnTo>
                  <a:lnTo>
                    <a:pt x="1105" y="2808"/>
                  </a:lnTo>
                  <a:lnTo>
                    <a:pt x="1098" y="2820"/>
                  </a:lnTo>
                  <a:lnTo>
                    <a:pt x="1093" y="2832"/>
                  </a:lnTo>
                  <a:lnTo>
                    <a:pt x="1076" y="2856"/>
                  </a:lnTo>
                  <a:lnTo>
                    <a:pt x="1062" y="2872"/>
                  </a:lnTo>
                  <a:lnTo>
                    <a:pt x="1047" y="2888"/>
                  </a:lnTo>
                  <a:lnTo>
                    <a:pt x="1032" y="2905"/>
                  </a:lnTo>
                  <a:lnTo>
                    <a:pt x="1014" y="2920"/>
                  </a:lnTo>
                  <a:lnTo>
                    <a:pt x="995" y="2933"/>
                  </a:lnTo>
                  <a:lnTo>
                    <a:pt x="976" y="2947"/>
                  </a:lnTo>
                  <a:lnTo>
                    <a:pt x="954" y="2961"/>
                  </a:lnTo>
                  <a:lnTo>
                    <a:pt x="933" y="2974"/>
                  </a:lnTo>
                  <a:lnTo>
                    <a:pt x="910" y="2985"/>
                  </a:lnTo>
                  <a:lnTo>
                    <a:pt x="886" y="2997"/>
                  </a:lnTo>
                  <a:lnTo>
                    <a:pt x="838" y="3015"/>
                  </a:lnTo>
                  <a:lnTo>
                    <a:pt x="812" y="3023"/>
                  </a:lnTo>
                  <a:lnTo>
                    <a:pt x="787" y="3030"/>
                  </a:lnTo>
                  <a:lnTo>
                    <a:pt x="774" y="3034"/>
                  </a:lnTo>
                  <a:lnTo>
                    <a:pt x="761" y="3037"/>
                  </a:lnTo>
                  <a:lnTo>
                    <a:pt x="736" y="3042"/>
                  </a:lnTo>
                  <a:lnTo>
                    <a:pt x="711" y="3045"/>
                  </a:lnTo>
                  <a:lnTo>
                    <a:pt x="686" y="3048"/>
                  </a:lnTo>
                  <a:lnTo>
                    <a:pt x="661" y="3049"/>
                  </a:lnTo>
                  <a:lnTo>
                    <a:pt x="636" y="3049"/>
                  </a:lnTo>
                  <a:lnTo>
                    <a:pt x="612" y="3046"/>
                  </a:lnTo>
                  <a:lnTo>
                    <a:pt x="601" y="3045"/>
                  </a:lnTo>
                  <a:lnTo>
                    <a:pt x="589" y="3044"/>
                  </a:lnTo>
                  <a:lnTo>
                    <a:pt x="566" y="3038"/>
                  </a:lnTo>
                  <a:lnTo>
                    <a:pt x="544" y="3033"/>
                  </a:lnTo>
                  <a:lnTo>
                    <a:pt x="523" y="3025"/>
                  </a:lnTo>
                  <a:lnTo>
                    <a:pt x="503" y="3015"/>
                  </a:lnTo>
                  <a:lnTo>
                    <a:pt x="484" y="3003"/>
                  </a:lnTo>
                  <a:lnTo>
                    <a:pt x="467" y="2989"/>
                  </a:lnTo>
                  <a:lnTo>
                    <a:pt x="450" y="2974"/>
                  </a:lnTo>
                  <a:lnTo>
                    <a:pt x="436" y="2957"/>
                  </a:lnTo>
                  <a:lnTo>
                    <a:pt x="423" y="2937"/>
                  </a:lnTo>
                  <a:lnTo>
                    <a:pt x="416" y="2927"/>
                  </a:lnTo>
                  <a:lnTo>
                    <a:pt x="411" y="2916"/>
                  </a:lnTo>
                  <a:lnTo>
                    <a:pt x="407" y="2906"/>
                  </a:lnTo>
                  <a:lnTo>
                    <a:pt x="404" y="2897"/>
                  </a:lnTo>
                  <a:lnTo>
                    <a:pt x="403" y="2887"/>
                  </a:lnTo>
                  <a:lnTo>
                    <a:pt x="400" y="2879"/>
                  </a:lnTo>
                  <a:lnTo>
                    <a:pt x="400" y="2871"/>
                  </a:lnTo>
                  <a:lnTo>
                    <a:pt x="401" y="2864"/>
                  </a:lnTo>
                  <a:lnTo>
                    <a:pt x="404" y="2857"/>
                  </a:lnTo>
                  <a:lnTo>
                    <a:pt x="406" y="2850"/>
                  </a:lnTo>
                  <a:lnTo>
                    <a:pt x="410" y="2846"/>
                  </a:lnTo>
                  <a:lnTo>
                    <a:pt x="414" y="2840"/>
                  </a:lnTo>
                  <a:lnTo>
                    <a:pt x="426" y="2830"/>
                  </a:lnTo>
                  <a:lnTo>
                    <a:pt x="440" y="2823"/>
                  </a:lnTo>
                  <a:lnTo>
                    <a:pt x="456" y="2817"/>
                  </a:lnTo>
                  <a:lnTo>
                    <a:pt x="476" y="2811"/>
                  </a:lnTo>
                  <a:lnTo>
                    <a:pt x="498" y="2809"/>
                  </a:lnTo>
                  <a:lnTo>
                    <a:pt x="522" y="2808"/>
                  </a:lnTo>
                  <a:lnTo>
                    <a:pt x="547" y="2808"/>
                  </a:lnTo>
                  <a:lnTo>
                    <a:pt x="576" y="2809"/>
                  </a:lnTo>
                  <a:lnTo>
                    <a:pt x="604" y="2812"/>
                  </a:lnTo>
                  <a:lnTo>
                    <a:pt x="635" y="2817"/>
                  </a:lnTo>
                  <a:lnTo>
                    <a:pt x="665" y="2823"/>
                  </a:lnTo>
                  <a:lnTo>
                    <a:pt x="698" y="2830"/>
                  </a:lnTo>
                  <a:lnTo>
                    <a:pt x="730" y="2838"/>
                  </a:lnTo>
                  <a:lnTo>
                    <a:pt x="763" y="2847"/>
                  </a:lnTo>
                  <a:lnTo>
                    <a:pt x="795" y="2856"/>
                  </a:lnTo>
                  <a:lnTo>
                    <a:pt x="827" y="2868"/>
                  </a:lnTo>
                  <a:lnTo>
                    <a:pt x="859" y="2879"/>
                  </a:lnTo>
                  <a:lnTo>
                    <a:pt x="890" y="2892"/>
                  </a:lnTo>
                  <a:lnTo>
                    <a:pt x="921" y="2906"/>
                  </a:lnTo>
                  <a:lnTo>
                    <a:pt x="950" y="2920"/>
                  </a:lnTo>
                  <a:lnTo>
                    <a:pt x="978" y="2935"/>
                  </a:lnTo>
                  <a:lnTo>
                    <a:pt x="1005" y="2950"/>
                  </a:lnTo>
                  <a:lnTo>
                    <a:pt x="1029" y="2966"/>
                  </a:lnTo>
                  <a:lnTo>
                    <a:pt x="1051" y="2983"/>
                  </a:lnTo>
                  <a:lnTo>
                    <a:pt x="1072" y="3000"/>
                  </a:lnTo>
                  <a:lnTo>
                    <a:pt x="1089" y="3018"/>
                  </a:lnTo>
                  <a:lnTo>
                    <a:pt x="1104" y="3035"/>
                  </a:lnTo>
                  <a:lnTo>
                    <a:pt x="1112" y="3048"/>
                  </a:lnTo>
                  <a:lnTo>
                    <a:pt x="1118" y="3063"/>
                  </a:lnTo>
                  <a:lnTo>
                    <a:pt x="1123" y="3078"/>
                  </a:lnTo>
                  <a:lnTo>
                    <a:pt x="1126" y="3095"/>
                  </a:lnTo>
                  <a:lnTo>
                    <a:pt x="1128" y="3112"/>
                  </a:lnTo>
                  <a:lnTo>
                    <a:pt x="1128" y="3132"/>
                  </a:lnTo>
                  <a:lnTo>
                    <a:pt x="1127" y="3153"/>
                  </a:lnTo>
                  <a:lnTo>
                    <a:pt x="1126" y="3173"/>
                  </a:lnTo>
                  <a:lnTo>
                    <a:pt x="1123" y="3195"/>
                  </a:lnTo>
                  <a:lnTo>
                    <a:pt x="1119" y="3218"/>
                  </a:lnTo>
                  <a:lnTo>
                    <a:pt x="1109" y="3265"/>
                  </a:lnTo>
                  <a:lnTo>
                    <a:pt x="1096" y="3315"/>
                  </a:lnTo>
                  <a:lnTo>
                    <a:pt x="1082" y="3365"/>
                  </a:lnTo>
                  <a:lnTo>
                    <a:pt x="1054" y="3464"/>
                  </a:lnTo>
                  <a:lnTo>
                    <a:pt x="1040" y="3511"/>
                  </a:lnTo>
                  <a:lnTo>
                    <a:pt x="1029" y="3555"/>
                  </a:lnTo>
                  <a:lnTo>
                    <a:pt x="1024" y="3576"/>
                  </a:lnTo>
                  <a:lnTo>
                    <a:pt x="1021" y="3595"/>
                  </a:lnTo>
                  <a:lnTo>
                    <a:pt x="1017" y="3615"/>
                  </a:lnTo>
                  <a:lnTo>
                    <a:pt x="1015" y="3632"/>
                  </a:lnTo>
                  <a:lnTo>
                    <a:pt x="1014" y="3649"/>
                  </a:lnTo>
                  <a:lnTo>
                    <a:pt x="1014" y="3664"/>
                  </a:lnTo>
                  <a:lnTo>
                    <a:pt x="1015" y="3677"/>
                  </a:lnTo>
                  <a:lnTo>
                    <a:pt x="1018" y="3690"/>
                  </a:lnTo>
                  <a:lnTo>
                    <a:pt x="1022" y="3702"/>
                  </a:lnTo>
                  <a:lnTo>
                    <a:pt x="1028" y="3716"/>
                  </a:lnTo>
                  <a:lnTo>
                    <a:pt x="1035" y="3728"/>
                  </a:lnTo>
                  <a:lnTo>
                    <a:pt x="1042" y="3740"/>
                  </a:lnTo>
                  <a:lnTo>
                    <a:pt x="1050" y="3752"/>
                  </a:lnTo>
                  <a:lnTo>
                    <a:pt x="1058" y="3761"/>
                  </a:lnTo>
                  <a:lnTo>
                    <a:pt x="1079" y="3781"/>
                  </a:lnTo>
                  <a:lnTo>
                    <a:pt x="1101" y="3797"/>
                  </a:lnTo>
                  <a:lnTo>
                    <a:pt x="1126" y="3812"/>
                  </a:lnTo>
                  <a:lnTo>
                    <a:pt x="1153" y="3825"/>
                  </a:lnTo>
                  <a:lnTo>
                    <a:pt x="1182" y="3835"/>
                  </a:lnTo>
                  <a:lnTo>
                    <a:pt x="1213" y="3843"/>
                  </a:lnTo>
                  <a:lnTo>
                    <a:pt x="1245" y="3849"/>
                  </a:lnTo>
                  <a:lnTo>
                    <a:pt x="1280" y="3853"/>
                  </a:lnTo>
                  <a:lnTo>
                    <a:pt x="1315" y="3856"/>
                  </a:lnTo>
                  <a:lnTo>
                    <a:pt x="1332" y="3856"/>
                  </a:lnTo>
                  <a:lnTo>
                    <a:pt x="1351" y="3856"/>
                  </a:lnTo>
                  <a:lnTo>
                    <a:pt x="1368" y="3856"/>
                  </a:lnTo>
                  <a:lnTo>
                    <a:pt x="1387" y="3856"/>
                  </a:lnTo>
                  <a:lnTo>
                    <a:pt x="1424" y="3852"/>
                  </a:lnTo>
                  <a:lnTo>
                    <a:pt x="1462" y="3849"/>
                  </a:lnTo>
                  <a:lnTo>
                    <a:pt x="1499" y="3843"/>
                  </a:lnTo>
                  <a:lnTo>
                    <a:pt x="1536" y="3836"/>
                  </a:lnTo>
                  <a:lnTo>
                    <a:pt x="1573" y="3828"/>
                  </a:lnTo>
                  <a:lnTo>
                    <a:pt x="1609" y="3818"/>
                  </a:lnTo>
                  <a:lnTo>
                    <a:pt x="1645" y="3807"/>
                  </a:lnTo>
                  <a:lnTo>
                    <a:pt x="1680" y="3795"/>
                  </a:lnTo>
                  <a:lnTo>
                    <a:pt x="1712" y="3782"/>
                  </a:lnTo>
                  <a:lnTo>
                    <a:pt x="1743" y="3768"/>
                  </a:lnTo>
                  <a:lnTo>
                    <a:pt x="1773" y="3753"/>
                  </a:lnTo>
                  <a:lnTo>
                    <a:pt x="1801" y="3738"/>
                  </a:lnTo>
                  <a:lnTo>
                    <a:pt x="1827" y="3721"/>
                  </a:lnTo>
                  <a:lnTo>
                    <a:pt x="1850" y="3705"/>
                  </a:lnTo>
                  <a:lnTo>
                    <a:pt x="1869" y="3686"/>
                  </a:lnTo>
                  <a:lnTo>
                    <a:pt x="1887" y="3668"/>
                  </a:lnTo>
                  <a:lnTo>
                    <a:pt x="1902" y="3649"/>
                  </a:lnTo>
                  <a:lnTo>
                    <a:pt x="1913" y="3631"/>
                  </a:lnTo>
                  <a:lnTo>
                    <a:pt x="1889" y="3602"/>
                  </a:lnTo>
                  <a:lnTo>
                    <a:pt x="1864" y="3577"/>
                  </a:lnTo>
                  <a:lnTo>
                    <a:pt x="1839" y="3555"/>
                  </a:lnTo>
                  <a:lnTo>
                    <a:pt x="1815" y="3534"/>
                  </a:lnTo>
                  <a:lnTo>
                    <a:pt x="1791" y="3517"/>
                  </a:lnTo>
                  <a:lnTo>
                    <a:pt x="1766" y="3501"/>
                  </a:lnTo>
                  <a:lnTo>
                    <a:pt x="1742" y="3488"/>
                  </a:lnTo>
                  <a:lnTo>
                    <a:pt x="1718" y="3478"/>
                  </a:lnTo>
                  <a:lnTo>
                    <a:pt x="1693" y="3470"/>
                  </a:lnTo>
                  <a:lnTo>
                    <a:pt x="1669" y="3464"/>
                  </a:lnTo>
                  <a:lnTo>
                    <a:pt x="1645" y="3459"/>
                  </a:lnTo>
                  <a:lnTo>
                    <a:pt x="1632" y="3458"/>
                  </a:lnTo>
                  <a:lnTo>
                    <a:pt x="1620" y="3457"/>
                  </a:lnTo>
                  <a:lnTo>
                    <a:pt x="1596" y="3457"/>
                  </a:lnTo>
                  <a:lnTo>
                    <a:pt x="1572" y="3458"/>
                  </a:lnTo>
                  <a:lnTo>
                    <a:pt x="1559" y="3460"/>
                  </a:lnTo>
                  <a:lnTo>
                    <a:pt x="1548" y="3461"/>
                  </a:lnTo>
                  <a:lnTo>
                    <a:pt x="1536" y="3464"/>
                  </a:lnTo>
                  <a:lnTo>
                    <a:pt x="1523" y="3467"/>
                  </a:lnTo>
                  <a:lnTo>
                    <a:pt x="1499" y="3474"/>
                  </a:lnTo>
                  <a:lnTo>
                    <a:pt x="1476" y="3482"/>
                  </a:lnTo>
                  <a:lnTo>
                    <a:pt x="1450" y="3493"/>
                  </a:lnTo>
                  <a:lnTo>
                    <a:pt x="1426" y="3503"/>
                  </a:lnTo>
                  <a:lnTo>
                    <a:pt x="1402" y="3517"/>
                  </a:lnTo>
                  <a:lnTo>
                    <a:pt x="1379" y="3531"/>
                  </a:lnTo>
                  <a:lnTo>
                    <a:pt x="1354" y="3546"/>
                  </a:lnTo>
                  <a:lnTo>
                    <a:pt x="1330" y="3562"/>
                  </a:lnTo>
                  <a:lnTo>
                    <a:pt x="1281" y="3598"/>
                  </a:lnTo>
                  <a:lnTo>
                    <a:pt x="1233" y="3637"/>
                  </a:lnTo>
                  <a:lnTo>
                    <a:pt x="1184" y="3679"/>
                  </a:lnTo>
                  <a:lnTo>
                    <a:pt x="1135" y="3724"/>
                  </a:lnTo>
                  <a:lnTo>
                    <a:pt x="1087" y="3772"/>
                  </a:lnTo>
                  <a:lnTo>
                    <a:pt x="1039" y="3820"/>
                  </a:lnTo>
                  <a:lnTo>
                    <a:pt x="942" y="3918"/>
                  </a:lnTo>
                  <a:lnTo>
                    <a:pt x="893" y="3968"/>
                  </a:lnTo>
                  <a:lnTo>
                    <a:pt x="845" y="4015"/>
                  </a:lnTo>
                  <a:lnTo>
                    <a:pt x="796" y="4062"/>
                  </a:lnTo>
                  <a:lnTo>
                    <a:pt x="748" y="4106"/>
                  </a:lnTo>
                  <a:lnTo>
                    <a:pt x="699" y="4147"/>
                  </a:lnTo>
                  <a:lnTo>
                    <a:pt x="675" y="4167"/>
                  </a:lnTo>
                  <a:lnTo>
                    <a:pt x="649" y="4186"/>
                  </a:lnTo>
                  <a:lnTo>
                    <a:pt x="625" y="4204"/>
                  </a:lnTo>
                  <a:lnTo>
                    <a:pt x="601" y="4220"/>
                  </a:lnTo>
                  <a:lnTo>
                    <a:pt x="576" y="4235"/>
                  </a:lnTo>
                  <a:lnTo>
                    <a:pt x="551" y="4250"/>
                  </a:lnTo>
                  <a:lnTo>
                    <a:pt x="526" y="4264"/>
                  </a:lnTo>
                  <a:lnTo>
                    <a:pt x="502" y="4275"/>
                  </a:lnTo>
                  <a:lnTo>
                    <a:pt x="478" y="4286"/>
                  </a:lnTo>
                  <a:lnTo>
                    <a:pt x="452" y="4295"/>
                  </a:lnTo>
                  <a:lnTo>
                    <a:pt x="428" y="4302"/>
                  </a:lnTo>
                  <a:lnTo>
                    <a:pt x="403" y="4308"/>
                  </a:lnTo>
                  <a:lnTo>
                    <a:pt x="378" y="4312"/>
                  </a:lnTo>
                  <a:lnTo>
                    <a:pt x="366" y="4313"/>
                  </a:lnTo>
                  <a:lnTo>
                    <a:pt x="354" y="4315"/>
                  </a:lnTo>
                  <a:lnTo>
                    <a:pt x="339" y="4315"/>
                  </a:lnTo>
                  <a:lnTo>
                    <a:pt x="325" y="4315"/>
                  </a:lnTo>
                  <a:lnTo>
                    <a:pt x="297" y="4312"/>
                  </a:lnTo>
                  <a:lnTo>
                    <a:pt x="271" y="4307"/>
                  </a:lnTo>
                  <a:lnTo>
                    <a:pt x="245" y="4299"/>
                  </a:lnTo>
                  <a:lnTo>
                    <a:pt x="220" y="4288"/>
                  </a:lnTo>
                  <a:lnTo>
                    <a:pt x="195" y="4277"/>
                  </a:lnTo>
                  <a:lnTo>
                    <a:pt x="183" y="4270"/>
                  </a:lnTo>
                  <a:lnTo>
                    <a:pt x="171" y="4263"/>
                  </a:lnTo>
                  <a:lnTo>
                    <a:pt x="148" y="4245"/>
                  </a:lnTo>
                  <a:lnTo>
                    <a:pt x="127" y="4228"/>
                  </a:lnTo>
                  <a:lnTo>
                    <a:pt x="106" y="4210"/>
                  </a:lnTo>
                  <a:lnTo>
                    <a:pt x="87" y="4189"/>
                  </a:lnTo>
                  <a:lnTo>
                    <a:pt x="68" y="4168"/>
                  </a:lnTo>
                  <a:lnTo>
                    <a:pt x="51" y="4146"/>
                  </a:lnTo>
                  <a:lnTo>
                    <a:pt x="34" y="4123"/>
                  </a:lnTo>
                  <a:lnTo>
                    <a:pt x="19" y="4100"/>
                  </a:lnTo>
                  <a:lnTo>
                    <a:pt x="7" y="4076"/>
                  </a:lnTo>
                  <a:lnTo>
                    <a:pt x="2" y="4067"/>
                  </a:lnTo>
                  <a:lnTo>
                    <a:pt x="1" y="4062"/>
                  </a:lnTo>
                  <a:lnTo>
                    <a:pt x="0" y="4059"/>
                  </a:lnTo>
                  <a:lnTo>
                    <a:pt x="0" y="4055"/>
                  </a:lnTo>
                  <a:lnTo>
                    <a:pt x="0" y="4051"/>
                  </a:lnTo>
                  <a:lnTo>
                    <a:pt x="1" y="4044"/>
                  </a:lnTo>
                  <a:lnTo>
                    <a:pt x="4" y="4038"/>
                  </a:lnTo>
                  <a:lnTo>
                    <a:pt x="9" y="4033"/>
                  </a:lnTo>
                  <a:lnTo>
                    <a:pt x="15" y="4029"/>
                  </a:lnTo>
                  <a:lnTo>
                    <a:pt x="23" y="4025"/>
                  </a:lnTo>
                  <a:lnTo>
                    <a:pt x="31" y="4022"/>
                  </a:lnTo>
                  <a:lnTo>
                    <a:pt x="41" y="4019"/>
                  </a:lnTo>
                  <a:lnTo>
                    <a:pt x="65" y="4016"/>
                  </a:lnTo>
                  <a:lnTo>
                    <a:pt x="91" y="4015"/>
                  </a:lnTo>
                  <a:lnTo>
                    <a:pt x="121" y="4016"/>
                  </a:lnTo>
                  <a:lnTo>
                    <a:pt x="153" y="4019"/>
                  </a:lnTo>
                  <a:lnTo>
                    <a:pt x="184" y="4024"/>
                  </a:lnTo>
                  <a:lnTo>
                    <a:pt x="216" y="4030"/>
                  </a:lnTo>
                  <a:lnTo>
                    <a:pt x="249" y="4038"/>
                  </a:lnTo>
                  <a:lnTo>
                    <a:pt x="279" y="4047"/>
                  </a:lnTo>
                  <a:lnTo>
                    <a:pt x="308" y="4055"/>
                  </a:lnTo>
                  <a:lnTo>
                    <a:pt x="320" y="4061"/>
                  </a:lnTo>
                  <a:lnTo>
                    <a:pt x="332" y="4066"/>
                  </a:lnTo>
                  <a:lnTo>
                    <a:pt x="354" y="4076"/>
                  </a:lnTo>
                  <a:lnTo>
                    <a:pt x="516" y="4167"/>
                  </a:lnTo>
                  <a:lnTo>
                    <a:pt x="606" y="4220"/>
                  </a:lnTo>
                  <a:lnTo>
                    <a:pt x="701" y="4277"/>
                  </a:lnTo>
                  <a:lnTo>
                    <a:pt x="800" y="4337"/>
                  </a:lnTo>
                  <a:lnTo>
                    <a:pt x="900" y="4399"/>
                  </a:lnTo>
                  <a:lnTo>
                    <a:pt x="1001" y="4465"/>
                  </a:lnTo>
                  <a:lnTo>
                    <a:pt x="1101" y="4534"/>
                  </a:lnTo>
                  <a:lnTo>
                    <a:pt x="1150" y="4569"/>
                  </a:lnTo>
                  <a:lnTo>
                    <a:pt x="1198" y="4605"/>
                  </a:lnTo>
                  <a:lnTo>
                    <a:pt x="1247" y="4641"/>
                  </a:lnTo>
                  <a:lnTo>
                    <a:pt x="1292" y="4678"/>
                  </a:lnTo>
                  <a:lnTo>
                    <a:pt x="1338" y="4716"/>
                  </a:lnTo>
                  <a:lnTo>
                    <a:pt x="1382" y="4754"/>
                  </a:lnTo>
                  <a:lnTo>
                    <a:pt x="1425" y="4792"/>
                  </a:lnTo>
                  <a:lnTo>
                    <a:pt x="1465" y="4830"/>
                  </a:lnTo>
                  <a:lnTo>
                    <a:pt x="1505" y="4869"/>
                  </a:lnTo>
                  <a:lnTo>
                    <a:pt x="1541" y="4908"/>
                  </a:lnTo>
                  <a:lnTo>
                    <a:pt x="1575" y="4948"/>
                  </a:lnTo>
                  <a:lnTo>
                    <a:pt x="1609" y="4988"/>
                  </a:lnTo>
                  <a:lnTo>
                    <a:pt x="1638" y="5027"/>
                  </a:lnTo>
                  <a:lnTo>
                    <a:pt x="1666" y="5068"/>
                  </a:lnTo>
                  <a:lnTo>
                    <a:pt x="1690" y="5108"/>
                  </a:lnTo>
                  <a:lnTo>
                    <a:pt x="1711" y="5147"/>
                  </a:lnTo>
                  <a:lnTo>
                    <a:pt x="1722" y="5172"/>
                  </a:lnTo>
                  <a:lnTo>
                    <a:pt x="1732" y="5198"/>
                  </a:lnTo>
                  <a:lnTo>
                    <a:pt x="1739" y="5222"/>
                  </a:lnTo>
                  <a:lnTo>
                    <a:pt x="1743" y="5247"/>
                  </a:lnTo>
                  <a:lnTo>
                    <a:pt x="1745" y="5272"/>
                  </a:lnTo>
                  <a:lnTo>
                    <a:pt x="1747" y="5296"/>
                  </a:lnTo>
                  <a:lnTo>
                    <a:pt x="1745" y="5319"/>
                  </a:lnTo>
                  <a:lnTo>
                    <a:pt x="1743" y="5342"/>
                  </a:lnTo>
                  <a:lnTo>
                    <a:pt x="1737" y="5364"/>
                  </a:lnTo>
                  <a:lnTo>
                    <a:pt x="1732" y="5385"/>
                  </a:lnTo>
                  <a:lnTo>
                    <a:pt x="1725" y="5405"/>
                  </a:lnTo>
                  <a:lnTo>
                    <a:pt x="1714" y="5425"/>
                  </a:lnTo>
                  <a:lnTo>
                    <a:pt x="1704" y="5443"/>
                  </a:lnTo>
                  <a:lnTo>
                    <a:pt x="1692" y="5461"/>
                  </a:lnTo>
                  <a:lnTo>
                    <a:pt x="1678" y="5477"/>
                  </a:lnTo>
                  <a:lnTo>
                    <a:pt x="1664" y="5492"/>
                  </a:lnTo>
                  <a:lnTo>
                    <a:pt x="1648" y="5504"/>
                  </a:lnTo>
                  <a:lnTo>
                    <a:pt x="1632" y="5517"/>
                  </a:lnTo>
                  <a:lnTo>
                    <a:pt x="1615" y="5528"/>
                  </a:lnTo>
                  <a:lnTo>
                    <a:pt x="1596" y="5536"/>
                  </a:lnTo>
                  <a:lnTo>
                    <a:pt x="1578" y="5543"/>
                  </a:lnTo>
                  <a:lnTo>
                    <a:pt x="1567" y="5545"/>
                  </a:lnTo>
                  <a:lnTo>
                    <a:pt x="1557" y="5547"/>
                  </a:lnTo>
                  <a:lnTo>
                    <a:pt x="1536" y="5551"/>
                  </a:lnTo>
                  <a:lnTo>
                    <a:pt x="1527" y="5552"/>
                  </a:lnTo>
                  <a:lnTo>
                    <a:pt x="1515" y="5552"/>
                  </a:lnTo>
                  <a:lnTo>
                    <a:pt x="1505" y="5551"/>
                  </a:lnTo>
                  <a:lnTo>
                    <a:pt x="1494" y="5549"/>
                  </a:lnTo>
                  <a:lnTo>
                    <a:pt x="1483" y="5548"/>
                  </a:lnTo>
                  <a:lnTo>
                    <a:pt x="1472" y="5546"/>
                  </a:lnTo>
                  <a:lnTo>
                    <a:pt x="1449" y="5541"/>
                  </a:lnTo>
                  <a:lnTo>
                    <a:pt x="1427" y="5533"/>
                  </a:lnTo>
                  <a:lnTo>
                    <a:pt x="1404" y="5523"/>
                  </a:lnTo>
                  <a:lnTo>
                    <a:pt x="1381" y="5509"/>
                  </a:lnTo>
                  <a:lnTo>
                    <a:pt x="1359" y="5493"/>
                  </a:lnTo>
                  <a:lnTo>
                    <a:pt x="1336" y="5474"/>
                  </a:lnTo>
                  <a:lnTo>
                    <a:pt x="1323" y="5463"/>
                  </a:lnTo>
                  <a:lnTo>
                    <a:pt x="1310" y="5448"/>
                  </a:lnTo>
                  <a:lnTo>
                    <a:pt x="1300" y="5434"/>
                  </a:lnTo>
                  <a:lnTo>
                    <a:pt x="1289" y="5418"/>
                  </a:lnTo>
                  <a:lnTo>
                    <a:pt x="1269" y="5387"/>
                  </a:lnTo>
                  <a:lnTo>
                    <a:pt x="1249" y="5356"/>
                  </a:lnTo>
                  <a:lnTo>
                    <a:pt x="1285" y="5356"/>
                  </a:lnTo>
                  <a:lnTo>
                    <a:pt x="1318" y="5358"/>
                  </a:lnTo>
                  <a:lnTo>
                    <a:pt x="1352" y="5361"/>
                  </a:lnTo>
                  <a:lnTo>
                    <a:pt x="1384" y="5365"/>
                  </a:lnTo>
                  <a:lnTo>
                    <a:pt x="1417" y="5371"/>
                  </a:lnTo>
                  <a:lnTo>
                    <a:pt x="1447" y="5379"/>
                  </a:lnTo>
                  <a:lnTo>
                    <a:pt x="1477" y="5387"/>
                  </a:lnTo>
                  <a:lnTo>
                    <a:pt x="1505" y="5397"/>
                  </a:lnTo>
                  <a:lnTo>
                    <a:pt x="1532" y="5408"/>
                  </a:lnTo>
                  <a:lnTo>
                    <a:pt x="1559" y="5420"/>
                  </a:lnTo>
                  <a:lnTo>
                    <a:pt x="1583" y="5434"/>
                  </a:lnTo>
                  <a:lnTo>
                    <a:pt x="1608" y="5449"/>
                  </a:lnTo>
                  <a:lnTo>
                    <a:pt x="1631" y="5464"/>
                  </a:lnTo>
                  <a:lnTo>
                    <a:pt x="1653" y="5483"/>
                  </a:lnTo>
                  <a:lnTo>
                    <a:pt x="1674" y="5501"/>
                  </a:lnTo>
                  <a:lnTo>
                    <a:pt x="1693" y="5521"/>
                  </a:lnTo>
                  <a:lnTo>
                    <a:pt x="1711" y="5541"/>
                  </a:lnTo>
                  <a:lnTo>
                    <a:pt x="1728" y="5562"/>
                  </a:lnTo>
                  <a:lnTo>
                    <a:pt x="1744" y="5585"/>
                  </a:lnTo>
                  <a:lnTo>
                    <a:pt x="1758" y="5609"/>
                  </a:lnTo>
                  <a:lnTo>
                    <a:pt x="1772" y="5635"/>
                  </a:lnTo>
                  <a:lnTo>
                    <a:pt x="1783" y="5661"/>
                  </a:lnTo>
                  <a:lnTo>
                    <a:pt x="1794" y="5689"/>
                  </a:lnTo>
                  <a:lnTo>
                    <a:pt x="1803" y="5718"/>
                  </a:lnTo>
                  <a:lnTo>
                    <a:pt x="1807" y="5732"/>
                  </a:lnTo>
                  <a:lnTo>
                    <a:pt x="1811" y="5747"/>
                  </a:lnTo>
                  <a:lnTo>
                    <a:pt x="1814" y="5762"/>
                  </a:lnTo>
                  <a:lnTo>
                    <a:pt x="1817" y="5778"/>
                  </a:lnTo>
                  <a:lnTo>
                    <a:pt x="1820" y="5793"/>
                  </a:lnTo>
                  <a:lnTo>
                    <a:pt x="1822" y="5809"/>
                  </a:lnTo>
                  <a:lnTo>
                    <a:pt x="1824" y="5825"/>
                  </a:lnTo>
                  <a:lnTo>
                    <a:pt x="1827" y="5841"/>
                  </a:lnTo>
                  <a:lnTo>
                    <a:pt x="1829" y="5875"/>
                  </a:lnTo>
                  <a:lnTo>
                    <a:pt x="1829" y="5901"/>
                  </a:lnTo>
                </a:path>
              </a:pathLst>
            </a:custGeom>
            <a:noFill/>
            <a:ln w="13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eitfaden für die Entscheidung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Analyse der Berichte der Vorperiod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urteilung des Szenar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Strategiefind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Umsatzplanung und Preisfindung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absatzpolitischen Maßna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Entscheidungen über F&amp;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Personalentscheidu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Bezugsmen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 algn="just">
              <a:spcBef>
                <a:spcPts val="601"/>
              </a:spcBef>
              <a:buClr>
                <a:srgbClr val="3333cc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  <a:ea typeface="Times New Roman"/>
              </a:rPr>
              <a:t>Bestimmung der Planwerte / Finanzplanu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366840" y="110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  <a:ea typeface="Times New Roman"/>
              </a:rPr>
              <a:t>Ablauf des Planspielseminars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97" name=""/>
          <p:cNvSpPr/>
          <p:nvPr/>
        </p:nvSpPr>
        <p:spPr>
          <a:xfrm>
            <a:off x="771480" y="2481120"/>
            <a:ext cx="777240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89080" indent="-289080" algn="just">
              <a:lnSpc>
                <a:spcPct val="100000"/>
              </a:lnSpc>
              <a:spcBef>
                <a:spcPts val="349"/>
              </a:spcBef>
              <a:buClr>
                <a:srgbClr val="3333cc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8" name=""/>
          <p:cNvGraphicFramePr/>
          <p:nvPr/>
        </p:nvGraphicFramePr>
        <p:xfrm>
          <a:off x="169920" y="2481120"/>
          <a:ext cx="8778960" cy="317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2481120"/>
                    <a:ext cx="8778960" cy="317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Aufgabe für den ersten Mona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Übernehmen Sie die Verantwortung für die </a:t>
            </a: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prozesse 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in Ihrem Unternehm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Vertriebsprozess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rketing-Mix festlegen, Leistungsmengen pla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Leistungserstel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itarbeiter in der Produktion ggf. anpass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Einkauf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Materialbedarf planen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d Bestellmengen prüf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Verdana"/>
              </a:rPr>
              <a:t>Design / Forschung und Entwicklung</a:t>
            </a: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: 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nicht vernachlässig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Strategiemeeting der Grupp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Vision haben Sie für Ihr Unternehm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elche Ziele wollen Sie sich konkret setz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Mit welchen Maßnahmen wollen Sie sicherstellen, die Ziele zu erreichen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Wie organisieren Sie den Prozes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43920" cy="6856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05" name=""/>
          <p:cNvGraphicFramePr/>
          <p:nvPr/>
        </p:nvGraphicFramePr>
        <p:xfrm>
          <a:off x="291960" y="549360"/>
          <a:ext cx="8471160" cy="5691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1960" y="549360"/>
                    <a:ext cx="8471160" cy="56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60200" y="355680"/>
          <a:ext cx="8676000" cy="608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200" y="355680"/>
                    <a:ext cx="8676000" cy="60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Unternehmensplanspiel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s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eine modellhafte Abbildung von Unternehmensstrukturen und betrieblichen Abläufen (Funktione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Unternehmensplanspiele ermöglich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unternehmerisches Denken und Handeln zu üben und anschließend in die eigene Praxis umzusetz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1040" indent="-285840">
              <a:spcBef>
                <a:spcPts val="499"/>
              </a:spcBef>
              <a:buClr>
                <a:srgbClr val="ff99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Verdana"/>
              </a:rPr>
              <a:t>schnelles, risikoloses und nachhaltiges Sammeln von praxisbezogenen Erfahrunge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1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3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5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7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9" name=""/>
          <p:cNvGraphicFramePr/>
          <p:nvPr/>
        </p:nvGraphicFramePr>
        <p:xfrm>
          <a:off x="158760" y="3571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3571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1" name=""/>
          <p:cNvGraphicFramePr/>
          <p:nvPr/>
        </p:nvGraphicFramePr>
        <p:xfrm>
          <a:off x="158760" y="1111320"/>
          <a:ext cx="8661240" cy="456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" y="1111320"/>
                    <a:ext cx="8661240" cy="456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satzbereiche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91600" y="1983960"/>
            <a:ext cx="8471160" cy="475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großen Unternehmen weltwe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chtigen Hochschul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9080" indent="-289080">
              <a:spcBef>
                <a:spcPts val="601"/>
              </a:spcBef>
              <a:buClr>
                <a:srgbClr val="ff99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Verdana"/>
              </a:rPr>
              <a:t>Alle Wirtschaftsgymnasien in Baden-Württemberg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Linear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343080" y="2457360"/>
            <a:ext cx="8342280" cy="3800520"/>
            <a:chOff x="343080" y="2457360"/>
            <a:chExt cx="8342280" cy="3800520"/>
          </a:xfrm>
        </p:grpSpPr>
        <p:sp>
          <p:nvSpPr>
            <p:cNvPr id="109" name=""/>
            <p:cNvSpPr/>
            <p:nvPr/>
          </p:nvSpPr>
          <p:spPr>
            <a:xfrm>
              <a:off x="343080" y="2457360"/>
              <a:ext cx="157320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1560" y="2532240"/>
              <a:ext cx="823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176640" y="2457360"/>
              <a:ext cx="157464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393000" y="2532240"/>
              <a:ext cx="11116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7520" y="4041720"/>
              <a:ext cx="157608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07640" y="4116240"/>
              <a:ext cx="1258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13600" y="4041720"/>
              <a:ext cx="1571760" cy="63180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14120" y="4116240"/>
              <a:ext cx="115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76640" y="5622840"/>
              <a:ext cx="4094280" cy="635040"/>
            </a:xfrm>
            <a:prstGeom prst="rect">
              <a:avLst/>
            </a:prstGeom>
            <a:solidFill>
              <a:srgbClr val="ffffff"/>
            </a:solidFill>
            <a:ln w="270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1520" y="5700600"/>
              <a:ext cx="29390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11744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7" y="0"/>
                  </a:moveTo>
                  <a:lnTo>
                    <a:pt x="2" y="71"/>
                  </a:lnTo>
                  <a:lnTo>
                    <a:pt x="0" y="144"/>
                  </a:lnTo>
                  <a:lnTo>
                    <a:pt x="4" y="215"/>
                  </a:lnTo>
                  <a:lnTo>
                    <a:pt x="9" y="282"/>
                  </a:lnTo>
                  <a:lnTo>
                    <a:pt x="19" y="348"/>
                  </a:lnTo>
                  <a:lnTo>
                    <a:pt x="31" y="410"/>
                  </a:lnTo>
                  <a:lnTo>
                    <a:pt x="48" y="471"/>
                  </a:lnTo>
                  <a:lnTo>
                    <a:pt x="68" y="527"/>
                  </a:lnTo>
                  <a:lnTo>
                    <a:pt x="89" y="578"/>
                  </a:lnTo>
                  <a:lnTo>
                    <a:pt x="115" y="625"/>
                  </a:lnTo>
                  <a:lnTo>
                    <a:pt x="143" y="667"/>
                  </a:lnTo>
                  <a:lnTo>
                    <a:pt x="175" y="703"/>
                  </a:lnTo>
                  <a:lnTo>
                    <a:pt x="209" y="733"/>
                  </a:lnTo>
                  <a:lnTo>
                    <a:pt x="244" y="758"/>
                  </a:lnTo>
                  <a:lnTo>
                    <a:pt x="281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5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6" y="0"/>
                  </a:moveTo>
                  <a:lnTo>
                    <a:pt x="141" y="66"/>
                  </a:lnTo>
                  <a:lnTo>
                    <a:pt x="0" y="9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3092400"/>
              <a:ext cx="44640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1"/>
                  </a:lnTo>
                  <a:lnTo>
                    <a:pt x="281" y="144"/>
                  </a:lnTo>
                  <a:lnTo>
                    <a:pt x="279" y="215"/>
                  </a:lnTo>
                  <a:lnTo>
                    <a:pt x="272" y="282"/>
                  </a:lnTo>
                  <a:lnTo>
                    <a:pt x="264" y="348"/>
                  </a:lnTo>
                  <a:lnTo>
                    <a:pt x="251" y="410"/>
                  </a:lnTo>
                  <a:lnTo>
                    <a:pt x="234" y="471"/>
                  </a:lnTo>
                  <a:lnTo>
                    <a:pt x="215" y="527"/>
                  </a:lnTo>
                  <a:lnTo>
                    <a:pt x="192" y="578"/>
                  </a:lnTo>
                  <a:lnTo>
                    <a:pt x="167" y="625"/>
                  </a:lnTo>
                  <a:lnTo>
                    <a:pt x="138" y="667"/>
                  </a:lnTo>
                  <a:lnTo>
                    <a:pt x="108" y="703"/>
                  </a:lnTo>
                  <a:lnTo>
                    <a:pt x="74" y="733"/>
                  </a:lnTo>
                  <a:lnTo>
                    <a:pt x="39" y="758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33600" y="4253040"/>
              <a:ext cx="223920" cy="142920"/>
            </a:xfrm>
            <a:custGeom>
              <a:avLst/>
              <a:gdLst/>
              <a:ahLst/>
              <a:rect l="l" t="t" r="r" b="b"/>
              <a:pathLst>
                <a:path w="141" h="90">
                  <a:moveTo>
                    <a:pt x="141" y="90"/>
                  </a:moveTo>
                  <a:lnTo>
                    <a:pt x="0" y="66"/>
                  </a:lnTo>
                  <a:lnTo>
                    <a:pt x="127" y="0"/>
                  </a:lnTo>
                  <a:lnTo>
                    <a:pt x="141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6920" y="4673520"/>
              <a:ext cx="444240" cy="1236600"/>
            </a:xfrm>
            <a:custGeom>
              <a:avLst/>
              <a:gdLst/>
              <a:ahLst/>
              <a:rect l="l" t="t" r="r" b="b"/>
              <a:pathLst>
                <a:path w="280" h="779">
                  <a:moveTo>
                    <a:pt x="6" y="0"/>
                  </a:moveTo>
                  <a:lnTo>
                    <a:pt x="1" y="73"/>
                  </a:lnTo>
                  <a:lnTo>
                    <a:pt x="0" y="146"/>
                  </a:lnTo>
                  <a:lnTo>
                    <a:pt x="1" y="215"/>
                  </a:lnTo>
                  <a:lnTo>
                    <a:pt x="8" y="284"/>
                  </a:lnTo>
                  <a:lnTo>
                    <a:pt x="17" y="350"/>
                  </a:lnTo>
                  <a:lnTo>
                    <a:pt x="30" y="412"/>
                  </a:lnTo>
                  <a:lnTo>
                    <a:pt x="47" y="471"/>
                  </a:lnTo>
                  <a:lnTo>
                    <a:pt x="65" y="527"/>
                  </a:lnTo>
                  <a:lnTo>
                    <a:pt x="89" y="579"/>
                  </a:lnTo>
                  <a:lnTo>
                    <a:pt x="114" y="625"/>
                  </a:lnTo>
                  <a:lnTo>
                    <a:pt x="142" y="667"/>
                  </a:lnTo>
                  <a:lnTo>
                    <a:pt x="173" y="704"/>
                  </a:lnTo>
                  <a:lnTo>
                    <a:pt x="206" y="735"/>
                  </a:lnTo>
                  <a:lnTo>
                    <a:pt x="242" y="760"/>
                  </a:lnTo>
                  <a:lnTo>
                    <a:pt x="28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52720" y="5834160"/>
              <a:ext cx="22392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3" y="0"/>
                  </a:moveTo>
                  <a:lnTo>
                    <a:pt x="141" y="68"/>
                  </a:lnTo>
                  <a:lnTo>
                    <a:pt x="0" y="9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464600" y="4673520"/>
              <a:ext cx="446040" cy="1236600"/>
            </a:xfrm>
            <a:custGeom>
              <a:avLst/>
              <a:gdLst/>
              <a:ahLst/>
              <a:rect l="l" t="t" r="r" b="b"/>
              <a:pathLst>
                <a:path w="281" h="779">
                  <a:moveTo>
                    <a:pt x="274" y="0"/>
                  </a:moveTo>
                  <a:lnTo>
                    <a:pt x="279" y="73"/>
                  </a:lnTo>
                  <a:lnTo>
                    <a:pt x="281" y="146"/>
                  </a:lnTo>
                  <a:lnTo>
                    <a:pt x="277" y="215"/>
                  </a:lnTo>
                  <a:lnTo>
                    <a:pt x="272" y="284"/>
                  </a:lnTo>
                  <a:lnTo>
                    <a:pt x="262" y="350"/>
                  </a:lnTo>
                  <a:lnTo>
                    <a:pt x="250" y="412"/>
                  </a:lnTo>
                  <a:lnTo>
                    <a:pt x="234" y="471"/>
                  </a:lnTo>
                  <a:lnTo>
                    <a:pt x="214" y="527"/>
                  </a:lnTo>
                  <a:lnTo>
                    <a:pt x="192" y="579"/>
                  </a:lnTo>
                  <a:lnTo>
                    <a:pt x="166" y="625"/>
                  </a:lnTo>
                  <a:lnTo>
                    <a:pt x="138" y="667"/>
                  </a:lnTo>
                  <a:lnTo>
                    <a:pt x="106" y="704"/>
                  </a:lnTo>
                  <a:lnTo>
                    <a:pt x="72" y="735"/>
                  </a:lnTo>
                  <a:lnTo>
                    <a:pt x="37" y="760"/>
                  </a:lnTo>
                  <a:lnTo>
                    <a:pt x="0" y="779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70920" y="5834160"/>
              <a:ext cx="223560" cy="145800"/>
            </a:xfrm>
            <a:custGeom>
              <a:avLst/>
              <a:gdLst/>
              <a:ahLst/>
              <a:rect l="l" t="t" r="r" b="b"/>
              <a:pathLst>
                <a:path w="141" h="92">
                  <a:moveTo>
                    <a:pt x="141" y="92"/>
                  </a:moveTo>
                  <a:lnTo>
                    <a:pt x="0" y="68"/>
                  </a:lnTo>
                  <a:lnTo>
                    <a:pt x="126" y="0"/>
                  </a:lnTo>
                  <a:lnTo>
                    <a:pt x="141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6216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18400" y="332568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6080" y="4906800"/>
              <a:ext cx="203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38400" y="4906800"/>
              <a:ext cx="1152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800" spc="-1" strike="noStrike">
                  <a:solidFill>
                    <a:srgbClr val="000000"/>
                  </a:solidFill>
                  <a:latin typeface="Verdana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Vernetztes Denken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73080" y="2489040"/>
            <a:ext cx="7086600" cy="4197600"/>
            <a:chOff x="973080" y="2489040"/>
            <a:chExt cx="7086600" cy="4197600"/>
          </a:xfrm>
        </p:grpSpPr>
        <p:sp>
          <p:nvSpPr>
            <p:cNvPr id="133" name=""/>
            <p:cNvSpPr/>
            <p:nvPr/>
          </p:nvSpPr>
          <p:spPr>
            <a:xfrm>
              <a:off x="973080" y="3457440"/>
              <a:ext cx="13366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226880" y="3521160"/>
              <a:ext cx="7671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Prei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379680" y="3457440"/>
              <a:ext cx="1338480" cy="5382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21520" y="3521160"/>
              <a:ext cx="1033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Ab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174760" y="4803840"/>
              <a:ext cx="13384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59360" y="4867200"/>
              <a:ext cx="1171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Umsatz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724800" y="4803840"/>
              <a:ext cx="1334880" cy="5364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853680" y="4867200"/>
              <a:ext cx="10720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Kosten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379680" y="6146640"/>
              <a:ext cx="3478320" cy="540000"/>
            </a:xfrm>
            <a:prstGeom prst="rect">
              <a:avLst/>
            </a:prstGeom>
            <a:solidFill>
              <a:srgbClr val="ffffff"/>
            </a:solidFill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49040" y="6211800"/>
              <a:ext cx="273492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600" spc="-1" strike="noStrike">
                  <a:solidFill>
                    <a:srgbClr val="000000"/>
                  </a:solidFill>
                  <a:latin typeface="Verdana"/>
                </a:rPr>
                <a:t>Jahresüberschuss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31880" y="3995640"/>
              <a:ext cx="37800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6" y="0"/>
                  </a:moveTo>
                  <a:lnTo>
                    <a:pt x="2" y="61"/>
                  </a:lnTo>
                  <a:lnTo>
                    <a:pt x="0" y="123"/>
                  </a:lnTo>
                  <a:lnTo>
                    <a:pt x="3" y="182"/>
                  </a:lnTo>
                  <a:lnTo>
                    <a:pt x="7" y="241"/>
                  </a:lnTo>
                  <a:lnTo>
                    <a:pt x="16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7" y="449"/>
                  </a:lnTo>
                  <a:lnTo>
                    <a:pt x="76" y="492"/>
                  </a:lnTo>
                  <a:lnTo>
                    <a:pt x="97" y="532"/>
                  </a:lnTo>
                  <a:lnTo>
                    <a:pt x="121" y="568"/>
                  </a:lnTo>
                  <a:lnTo>
                    <a:pt x="148" y="598"/>
                  </a:lnTo>
                  <a:lnTo>
                    <a:pt x="177" y="624"/>
                  </a:lnTo>
                  <a:lnTo>
                    <a:pt x="207" y="645"/>
                  </a:lnTo>
                  <a:lnTo>
                    <a:pt x="238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986120" y="4983120"/>
              <a:ext cx="188640" cy="120600"/>
            </a:xfrm>
            <a:custGeom>
              <a:avLst/>
              <a:gdLst/>
              <a:ahLst/>
              <a:rect l="l" t="t" r="r" b="b"/>
              <a:pathLst>
                <a:path w="119" h="76">
                  <a:moveTo>
                    <a:pt x="12" y="0"/>
                  </a:moveTo>
                  <a:lnTo>
                    <a:pt x="119" y="56"/>
                  </a:lnTo>
                  <a:lnTo>
                    <a:pt x="0" y="76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679920" y="3995640"/>
              <a:ext cx="377640" cy="1049400"/>
            </a:xfrm>
            <a:custGeom>
              <a:avLst/>
              <a:gdLst/>
              <a:ahLst/>
              <a:rect l="l" t="t" r="r" b="b"/>
              <a:pathLst>
                <a:path w="238" h="661">
                  <a:moveTo>
                    <a:pt x="232" y="0"/>
                  </a:moveTo>
                  <a:lnTo>
                    <a:pt x="236" y="61"/>
                  </a:lnTo>
                  <a:lnTo>
                    <a:pt x="238" y="123"/>
                  </a:lnTo>
                  <a:lnTo>
                    <a:pt x="236" y="182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2" y="350"/>
                  </a:lnTo>
                  <a:lnTo>
                    <a:pt x="198" y="401"/>
                  </a:lnTo>
                  <a:lnTo>
                    <a:pt x="182" y="449"/>
                  </a:lnTo>
                  <a:lnTo>
                    <a:pt x="162" y="492"/>
                  </a:lnTo>
                  <a:lnTo>
                    <a:pt x="141" y="532"/>
                  </a:lnTo>
                  <a:lnTo>
                    <a:pt x="116" y="568"/>
                  </a:lnTo>
                  <a:lnTo>
                    <a:pt x="91" y="598"/>
                  </a:lnTo>
                  <a:lnTo>
                    <a:pt x="62" y="624"/>
                  </a:lnTo>
                  <a:lnTo>
                    <a:pt x="32" y="645"/>
                  </a:lnTo>
                  <a:lnTo>
                    <a:pt x="0" y="6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513240" y="4983120"/>
              <a:ext cx="190440" cy="120600"/>
            </a:xfrm>
            <a:custGeom>
              <a:avLst/>
              <a:gdLst/>
              <a:ahLst/>
              <a:rect l="l" t="t" r="r" b="b"/>
              <a:pathLst>
                <a:path w="120" h="76">
                  <a:moveTo>
                    <a:pt x="120" y="76"/>
                  </a:moveTo>
                  <a:lnTo>
                    <a:pt x="0" y="56"/>
                  </a:lnTo>
                  <a:lnTo>
                    <a:pt x="109" y="0"/>
                  </a:lnTo>
                  <a:lnTo>
                    <a:pt x="12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36800" y="5340240"/>
              <a:ext cx="37800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6" y="0"/>
                  </a:moveTo>
                  <a:lnTo>
                    <a:pt x="1" y="62"/>
                  </a:lnTo>
                  <a:lnTo>
                    <a:pt x="0" y="122"/>
                  </a:lnTo>
                  <a:lnTo>
                    <a:pt x="1" y="183"/>
                  </a:lnTo>
                  <a:lnTo>
                    <a:pt x="7" y="241"/>
                  </a:lnTo>
                  <a:lnTo>
                    <a:pt x="14" y="297"/>
                  </a:lnTo>
                  <a:lnTo>
                    <a:pt x="26" y="350"/>
                  </a:lnTo>
                  <a:lnTo>
                    <a:pt x="40" y="401"/>
                  </a:lnTo>
                  <a:lnTo>
                    <a:pt x="56" y="448"/>
                  </a:lnTo>
                  <a:lnTo>
                    <a:pt x="76" y="492"/>
                  </a:lnTo>
                  <a:lnTo>
                    <a:pt x="97" y="531"/>
                  </a:lnTo>
                  <a:lnTo>
                    <a:pt x="121" y="567"/>
                  </a:lnTo>
                  <a:lnTo>
                    <a:pt x="147" y="599"/>
                  </a:lnTo>
                  <a:lnTo>
                    <a:pt x="175" y="624"/>
                  </a:lnTo>
                  <a:lnTo>
                    <a:pt x="205" y="646"/>
                  </a:lnTo>
                  <a:lnTo>
                    <a:pt x="238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8924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" y="0"/>
                  </a:moveTo>
                  <a:lnTo>
                    <a:pt x="120" y="58"/>
                  </a:lnTo>
                  <a:lnTo>
                    <a:pt x="0" y="7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023240" y="5340240"/>
              <a:ext cx="377640" cy="1051200"/>
            </a:xfrm>
            <a:custGeom>
              <a:avLst/>
              <a:gdLst/>
              <a:ahLst/>
              <a:rect l="l" t="t" r="r" b="b"/>
              <a:pathLst>
                <a:path w="238" h="662">
                  <a:moveTo>
                    <a:pt x="233" y="0"/>
                  </a:moveTo>
                  <a:lnTo>
                    <a:pt x="237" y="62"/>
                  </a:lnTo>
                  <a:lnTo>
                    <a:pt x="238" y="122"/>
                  </a:lnTo>
                  <a:lnTo>
                    <a:pt x="235" y="183"/>
                  </a:lnTo>
                  <a:lnTo>
                    <a:pt x="231" y="241"/>
                  </a:lnTo>
                  <a:lnTo>
                    <a:pt x="223" y="297"/>
                  </a:lnTo>
                  <a:lnTo>
                    <a:pt x="213" y="350"/>
                  </a:lnTo>
                  <a:lnTo>
                    <a:pt x="198" y="401"/>
                  </a:lnTo>
                  <a:lnTo>
                    <a:pt x="181" y="448"/>
                  </a:lnTo>
                  <a:lnTo>
                    <a:pt x="163" y="492"/>
                  </a:lnTo>
                  <a:lnTo>
                    <a:pt x="141" y="531"/>
                  </a:lnTo>
                  <a:lnTo>
                    <a:pt x="117" y="567"/>
                  </a:lnTo>
                  <a:lnTo>
                    <a:pt x="90" y="599"/>
                  </a:lnTo>
                  <a:lnTo>
                    <a:pt x="61" y="624"/>
                  </a:lnTo>
                  <a:lnTo>
                    <a:pt x="32" y="646"/>
                  </a:lnTo>
                  <a:lnTo>
                    <a:pt x="0" y="66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0" y="6326280"/>
              <a:ext cx="190440" cy="123840"/>
            </a:xfrm>
            <a:custGeom>
              <a:avLst/>
              <a:gdLst/>
              <a:ahLst/>
              <a:rect l="l" t="t" r="r" b="b"/>
              <a:pathLst>
                <a:path w="120" h="78">
                  <a:moveTo>
                    <a:pt x="120" y="78"/>
                  </a:moveTo>
                  <a:lnTo>
                    <a:pt x="0" y="58"/>
                  </a:lnTo>
                  <a:lnTo>
                    <a:pt x="107" y="0"/>
                  </a:lnTo>
                  <a:lnTo>
                    <a:pt x="120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22400" y="419580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21960" y="4195800"/>
              <a:ext cx="41076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/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54240" y="553896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065720" y="553896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62120" y="2489040"/>
              <a:ext cx="2365200" cy="890640"/>
            </a:xfrm>
            <a:custGeom>
              <a:avLst/>
              <a:gdLst/>
              <a:ahLst/>
              <a:rect l="l" t="t" r="r" b="b"/>
              <a:pathLst>
                <a:path w="1490" h="561">
                  <a:moveTo>
                    <a:pt x="0" y="561"/>
                  </a:moveTo>
                  <a:lnTo>
                    <a:pt x="21" y="498"/>
                  </a:lnTo>
                  <a:lnTo>
                    <a:pt x="48" y="437"/>
                  </a:lnTo>
                  <a:lnTo>
                    <a:pt x="80" y="378"/>
                  </a:lnTo>
                  <a:lnTo>
                    <a:pt x="117" y="322"/>
                  </a:lnTo>
                  <a:lnTo>
                    <a:pt x="158" y="270"/>
                  </a:lnTo>
                  <a:lnTo>
                    <a:pt x="204" y="221"/>
                  </a:lnTo>
                  <a:lnTo>
                    <a:pt x="254" y="177"/>
                  </a:lnTo>
                  <a:lnTo>
                    <a:pt x="306" y="137"/>
                  </a:lnTo>
                  <a:lnTo>
                    <a:pt x="363" y="101"/>
                  </a:lnTo>
                  <a:lnTo>
                    <a:pt x="423" y="71"/>
                  </a:lnTo>
                  <a:lnTo>
                    <a:pt x="485" y="46"/>
                  </a:lnTo>
                  <a:lnTo>
                    <a:pt x="547" y="26"/>
                  </a:lnTo>
                  <a:lnTo>
                    <a:pt x="613" y="12"/>
                  </a:lnTo>
                  <a:lnTo>
                    <a:pt x="679" y="3"/>
                  </a:lnTo>
                  <a:lnTo>
                    <a:pt x="746" y="0"/>
                  </a:lnTo>
                  <a:lnTo>
                    <a:pt x="811" y="3"/>
                  </a:lnTo>
                  <a:lnTo>
                    <a:pt x="878" y="12"/>
                  </a:lnTo>
                  <a:lnTo>
                    <a:pt x="942" y="26"/>
                  </a:lnTo>
                  <a:lnTo>
                    <a:pt x="1007" y="46"/>
                  </a:lnTo>
                  <a:lnTo>
                    <a:pt x="1068" y="71"/>
                  </a:lnTo>
                  <a:lnTo>
                    <a:pt x="1128" y="101"/>
                  </a:lnTo>
                  <a:lnTo>
                    <a:pt x="1184" y="137"/>
                  </a:lnTo>
                  <a:lnTo>
                    <a:pt x="1236" y="177"/>
                  </a:lnTo>
                  <a:lnTo>
                    <a:pt x="1286" y="221"/>
                  </a:lnTo>
                  <a:lnTo>
                    <a:pt x="1332" y="270"/>
                  </a:lnTo>
                  <a:lnTo>
                    <a:pt x="1373" y="322"/>
                  </a:lnTo>
                  <a:lnTo>
                    <a:pt x="1410" y="378"/>
                  </a:lnTo>
                  <a:lnTo>
                    <a:pt x="1443" y="437"/>
                  </a:lnTo>
                  <a:lnTo>
                    <a:pt x="1469" y="498"/>
                  </a:lnTo>
                  <a:lnTo>
                    <a:pt x="1490" y="561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89520" y="3368520"/>
              <a:ext cx="79200" cy="8892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24" y="7"/>
                  </a:moveTo>
                  <a:lnTo>
                    <a:pt x="0" y="13"/>
                  </a:lnTo>
                  <a:lnTo>
                    <a:pt x="37" y="56"/>
                  </a:lnTo>
                  <a:lnTo>
                    <a:pt x="50" y="0"/>
                  </a:lnTo>
                  <a:lnTo>
                    <a:pt x="24" y="7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95360" y="2849400"/>
              <a:ext cx="11520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30440" y="26510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530440" y="33433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46360" y="2730600"/>
              <a:ext cx="189000" cy="180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916360" y="3070080"/>
              <a:ext cx="187200" cy="177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835360" y="2911320"/>
              <a:ext cx="85680" cy="162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80600" y="33307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34680" y="263844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435040" y="3983040"/>
              <a:ext cx="8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530440" y="3914640"/>
              <a:ext cx="1800" cy="692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530440" y="4606920"/>
              <a:ext cx="68904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80600" y="45943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38360" y="4049640"/>
              <a:ext cx="320760" cy="549360"/>
            </a:xfrm>
            <a:custGeom>
              <a:avLst/>
              <a:gdLst/>
              <a:ahLst/>
              <a:rect l="l" t="t" r="r" b="b"/>
              <a:pathLst>
                <a:path w="202" h="346">
                  <a:moveTo>
                    <a:pt x="0" y="346"/>
                  </a:moveTo>
                  <a:lnTo>
                    <a:pt x="4" y="306"/>
                  </a:lnTo>
                  <a:lnTo>
                    <a:pt x="11" y="264"/>
                  </a:lnTo>
                  <a:lnTo>
                    <a:pt x="21" y="224"/>
                  </a:lnTo>
                  <a:lnTo>
                    <a:pt x="34" y="185"/>
                  </a:lnTo>
                  <a:lnTo>
                    <a:pt x="50" y="149"/>
                  </a:lnTo>
                  <a:lnTo>
                    <a:pt x="68" y="116"/>
                  </a:lnTo>
                  <a:lnTo>
                    <a:pt x="87" y="86"/>
                  </a:lnTo>
                  <a:lnTo>
                    <a:pt x="108" y="59"/>
                  </a:lnTo>
                  <a:lnTo>
                    <a:pt x="131" y="37"/>
                  </a:lnTo>
                  <a:lnTo>
                    <a:pt x="155" y="20"/>
                  </a:lnTo>
                  <a:lnTo>
                    <a:pt x="179" y="7"/>
                  </a:lnTo>
                  <a:lnTo>
                    <a:pt x="20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59120" y="4049640"/>
              <a:ext cx="323640" cy="549360"/>
            </a:xfrm>
            <a:custGeom>
              <a:avLst/>
              <a:gdLst/>
              <a:ahLst/>
              <a:rect l="l" t="t" r="r" b="b"/>
              <a:pathLst>
                <a:path w="204" h="346">
                  <a:moveTo>
                    <a:pt x="204" y="346"/>
                  </a:moveTo>
                  <a:lnTo>
                    <a:pt x="200" y="306"/>
                  </a:lnTo>
                  <a:lnTo>
                    <a:pt x="193" y="264"/>
                  </a:lnTo>
                  <a:lnTo>
                    <a:pt x="183" y="224"/>
                  </a:lnTo>
                  <a:lnTo>
                    <a:pt x="168" y="185"/>
                  </a:lnTo>
                  <a:lnTo>
                    <a:pt x="154" y="149"/>
                  </a:lnTo>
                  <a:lnTo>
                    <a:pt x="136" y="116"/>
                  </a:lnTo>
                  <a:lnTo>
                    <a:pt x="116" y="86"/>
                  </a:lnTo>
                  <a:lnTo>
                    <a:pt x="94" y="59"/>
                  </a:lnTo>
                  <a:lnTo>
                    <a:pt x="73" y="37"/>
                  </a:lnTo>
                  <a:lnTo>
                    <a:pt x="49" y="20"/>
                  </a:lnTo>
                  <a:lnTo>
                    <a:pt x="24" y="7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718160" y="3726000"/>
              <a:ext cx="2649600" cy="933480"/>
            </a:xfrm>
            <a:custGeom>
              <a:avLst/>
              <a:gdLst/>
              <a:ahLst/>
              <a:rect l="l" t="t" r="r" b="b"/>
              <a:pathLst>
                <a:path w="1669" h="588">
                  <a:moveTo>
                    <a:pt x="1669" y="588"/>
                  </a:moveTo>
                  <a:lnTo>
                    <a:pt x="1655" y="551"/>
                  </a:lnTo>
                  <a:lnTo>
                    <a:pt x="1633" y="512"/>
                  </a:lnTo>
                  <a:lnTo>
                    <a:pt x="1606" y="475"/>
                  </a:lnTo>
                  <a:lnTo>
                    <a:pt x="1575" y="438"/>
                  </a:lnTo>
                  <a:lnTo>
                    <a:pt x="1538" y="402"/>
                  </a:lnTo>
                  <a:lnTo>
                    <a:pt x="1496" y="368"/>
                  </a:lnTo>
                  <a:lnTo>
                    <a:pt x="1449" y="333"/>
                  </a:lnTo>
                  <a:lnTo>
                    <a:pt x="1396" y="300"/>
                  </a:lnTo>
                  <a:lnTo>
                    <a:pt x="1341" y="269"/>
                  </a:lnTo>
                  <a:lnTo>
                    <a:pt x="1280" y="238"/>
                  </a:lnTo>
                  <a:lnTo>
                    <a:pt x="1214" y="208"/>
                  </a:lnTo>
                  <a:lnTo>
                    <a:pt x="1145" y="181"/>
                  </a:lnTo>
                  <a:lnTo>
                    <a:pt x="1073" y="157"/>
                  </a:lnTo>
                  <a:lnTo>
                    <a:pt x="996" y="132"/>
                  </a:lnTo>
                  <a:lnTo>
                    <a:pt x="916" y="109"/>
                  </a:lnTo>
                  <a:lnTo>
                    <a:pt x="833" y="89"/>
                  </a:lnTo>
                  <a:lnTo>
                    <a:pt x="748" y="71"/>
                  </a:lnTo>
                  <a:lnTo>
                    <a:pt x="661" y="55"/>
                  </a:lnTo>
                  <a:lnTo>
                    <a:pt x="569" y="41"/>
                  </a:lnTo>
                  <a:lnTo>
                    <a:pt x="478" y="29"/>
                  </a:lnTo>
                  <a:lnTo>
                    <a:pt x="384" y="19"/>
                  </a:lnTo>
                  <a:lnTo>
                    <a:pt x="288" y="10"/>
                  </a:lnTo>
                  <a:lnTo>
                    <a:pt x="193" y="5"/>
                  </a:lnTo>
                  <a:lnTo>
                    <a:pt x="9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15200" y="4640400"/>
              <a:ext cx="101520" cy="163440"/>
            </a:xfrm>
            <a:custGeom>
              <a:avLst/>
              <a:gdLst/>
              <a:ahLst/>
              <a:rect l="l" t="t" r="r" b="b"/>
              <a:pathLst>
                <a:path w="64" h="103">
                  <a:moveTo>
                    <a:pt x="64" y="0"/>
                  </a:moveTo>
                  <a:lnTo>
                    <a:pt x="49" y="103"/>
                  </a:lnTo>
                  <a:lnTo>
                    <a:pt x="0" y="1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145280" y="3719520"/>
              <a:ext cx="200520" cy="41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7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27600" y="3970440"/>
              <a:ext cx="1800" cy="69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727240" y="4662360"/>
              <a:ext cx="685800" cy="1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374520" y="464832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630400" y="3959280"/>
              <a:ext cx="7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1480" y="4548240"/>
              <a:ext cx="695160" cy="1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726160" y="4063680"/>
              <a:ext cx="600120" cy="4842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Ein Unternehmen zwischen Wunsch ...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446120" y="1981080"/>
          <a:ext cx="616752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16752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91960" y="1028880"/>
            <a:ext cx="7251840" cy="73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808080"/>
                </a:solidFill>
                <a:latin typeface="Verdana"/>
              </a:rPr>
              <a:t>... und Realität</a:t>
            </a:r>
            <a:endParaRPr b="0" lang="en-US" sz="2800" spc="-1" strike="noStrike">
              <a:solidFill>
                <a:srgbClr val="808080"/>
              </a:solidFill>
              <a:latin typeface="Verdan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446120" y="1981080"/>
          <a:ext cx="6243840" cy="4648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6120" y="1981080"/>
                    <a:ext cx="624384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0T20:54:10Z</dcterms:created>
  <dc:creator>Fehling</dc:creator>
  <dc:description/>
  <cp:keywords/>
  <dc:language>en-US</dc:language>
  <cp:lastModifiedBy>ntuser</cp:lastModifiedBy>
  <cp:lastPrinted>1999-09-16T08:53:43Z</cp:lastPrinted>
  <dcterms:modified xsi:type="dcterms:W3CDTF">2007-01-23T08:18:20Z</dcterms:modified>
  <cp:revision>406</cp:revision>
  <dc:subject>Simulation I</dc:subject>
  <dc:title>TOPSIM Business Development LEU</dc:title>
</cp:coreProperties>
</file>