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8CC-B549-4D95-BCF1-02D0FECD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58D-2165-4296-8172-4E93D4A8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DFB9-30BC-4E25-93D7-C9AAFC81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23B-1EC0-45BD-9C1A-912A4257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843D-1249-4E48-8981-55DA4948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C642-3924-4CD0-86A7-9155D715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4E6-CD98-4AB2-ADC5-779D983A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2D4-BBD9-42F2-BAF5-755179BD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D6D7-422F-4A38-B617-9C1B4002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E53-5158-4EFB-B4FB-AA8EDBB0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9F0-BD4C-45E3-93F9-96C9D2DB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8573-DBD6-4533-B408-F7F64D7E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30AA-C92A-4EE1-A7D8-CCF93B288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685800"/>
            <a:ext cx="2736720" cy="2590920"/>
            <a:chOff x="304920" y="685800"/>
            <a:chExt cx="2736720" cy="2590920"/>
          </a:xfrm>
        </p:grpSpPr>
        <p:sp>
          <p:nvSpPr>
            <p:cNvPr id="42" name=""/>
            <p:cNvSpPr/>
            <p:nvPr/>
          </p:nvSpPr>
          <p:spPr>
            <a:xfrm>
              <a:off x="304920" y="685800"/>
              <a:ext cx="2736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7328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328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328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328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7328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328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844720"/>
              <a:ext cx="27367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685800"/>
              <a:ext cx="2736720" cy="259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995640" y="907920"/>
            <a:ext cx="1657440" cy="1513080"/>
            <a:chOff x="3995640" y="907920"/>
            <a:chExt cx="1657440" cy="1513080"/>
          </a:xfrm>
        </p:grpSpPr>
        <p:sp>
          <p:nvSpPr>
            <p:cNvPr id="58" name=""/>
            <p:cNvSpPr/>
            <p:nvPr/>
          </p:nvSpPr>
          <p:spPr>
            <a:xfrm>
              <a:off x="3995640" y="907920"/>
              <a:ext cx="165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. Geplanter Absat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95640" y="112392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5640" y="1555920"/>
              <a:ext cx="1656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Großabnehme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95640" y="907920"/>
              <a:ext cx="1657440" cy="15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651640" y="105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836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692280"/>
            <a:ext cx="2736720" cy="129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058920" y="1052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836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788000" y="3716280"/>
            <a:ext cx="4033800" cy="1800360"/>
            <a:chOff x="4788000" y="3716280"/>
            <a:chExt cx="4033800" cy="1800360"/>
          </a:xfrm>
        </p:grpSpPr>
        <p:sp>
          <p:nvSpPr>
            <p:cNvPr id="68" name=""/>
            <p:cNvSpPr/>
            <p:nvPr/>
          </p:nvSpPr>
          <p:spPr>
            <a:xfrm>
              <a:off x="4788000" y="3716280"/>
              <a:ext cx="4033800" cy="180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084720" y="4221360"/>
              <a:ext cx="2519640" cy="142920"/>
              <a:chOff x="6084720" y="4221360"/>
              <a:chExt cx="2519640" cy="142920"/>
            </a:xfrm>
          </p:grpSpPr>
          <p:sp>
            <p:nvSpPr>
              <p:cNvPr id="70" name=""/>
              <p:cNvSpPr/>
              <p:nvPr/>
            </p:nvSpPr>
            <p:spPr>
              <a:xfrm>
                <a:off x="6084720" y="42944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96360" y="42944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7236000" y="4221360"/>
                <a:ext cx="144360" cy="142920"/>
                <a:chOff x="7236000" y="4221360"/>
                <a:chExt cx="144360" cy="1429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236000" y="42944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308720" y="4221360"/>
                  <a:ext cx="0" cy="142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" name=""/>
          <p:cNvGrpSpPr/>
          <p:nvPr/>
        </p:nvGrpSpPr>
        <p:grpSpPr>
          <a:xfrm>
            <a:off x="324000" y="3573360"/>
            <a:ext cx="2736720" cy="3095640"/>
            <a:chOff x="324000" y="3573360"/>
            <a:chExt cx="2736720" cy="3095640"/>
          </a:xfrm>
        </p:grpSpPr>
        <p:sp>
          <p:nvSpPr>
            <p:cNvPr id="76" name=""/>
            <p:cNvSpPr/>
            <p:nvPr/>
          </p:nvSpPr>
          <p:spPr>
            <a:xfrm>
              <a:off x="324000" y="357336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4000" y="400500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9236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92360" y="400500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443664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92360" y="443664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494172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92360" y="494172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9236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54450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4000" y="357336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4000" y="566064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4000" y="609408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000" y="638136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26920" y="2541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2492280"/>
            <a:ext cx="165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2565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058920" y="2565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25066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1989000"/>
            <a:ext cx="1656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 (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56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1981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17T12:32:51Z</dcterms:modified>
  <cp:revision>18</cp:revision>
  <dc:subject/>
  <dc:title>Folie 1</dc:title>
</cp:coreProperties>
</file>