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4355-B214-4007-A790-828D6AAF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6AE2-CA6F-42E9-A69E-5B0AC5A0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7FD7-8A1F-4998-993A-8093928E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8A88-48A2-4ADB-AE66-B9EC24CF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059D-0406-4964-9AA5-59946D66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4AAE-B1CA-45FF-952C-DA52B15D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FA15-FDBA-40C0-AC8F-B87DD085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FD24-E0FA-41D2-A64F-550620F6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49ED-DD05-4050-8C54-BF627DF5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B3F7-2230-44A1-B1E2-BDD0304D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56AA-D42F-4EE9-AE6E-31C65E6D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E2D2-A147-4FA8-8806-49D44437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D000-12D1-407B-BED2-8F09CBD5B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2736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rketing-Mix (Laden / Versa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901800"/>
            <a:ext cx="1368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RES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117440"/>
            <a:ext cx="13665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eis(€/Charge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3280" y="901800"/>
            <a:ext cx="1368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4M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3280" y="1117440"/>
            <a:ext cx="13669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eis(€/Stück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981080"/>
            <a:ext cx="13665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3280" y="1981080"/>
            <a:ext cx="13669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413080"/>
            <a:ext cx="13665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3280" y="2413080"/>
            <a:ext cx="13669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901800"/>
            <a:ext cx="1368360" cy="194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3280" y="901800"/>
            <a:ext cx="1368360" cy="194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844720"/>
            <a:ext cx="273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Verkauf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685800"/>
            <a:ext cx="2736720" cy="2590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51640" y="10587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843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6360" y="698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058920" y="10587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8431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788000" y="3722760"/>
            <a:ext cx="4033800" cy="1800000"/>
            <a:chOff x="4788000" y="3722760"/>
            <a:chExt cx="4033800" cy="1800000"/>
          </a:xfrm>
        </p:grpSpPr>
        <p:sp>
          <p:nvSpPr>
            <p:cNvPr id="60" name=""/>
            <p:cNvSpPr/>
            <p:nvPr/>
          </p:nvSpPr>
          <p:spPr>
            <a:xfrm>
              <a:off x="4788000" y="372276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r Absatz:  ____ Ch. DRESS        ____ St.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 _______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6084720" y="4227480"/>
              <a:ext cx="2519640" cy="142560"/>
              <a:chOff x="6084720" y="4227480"/>
              <a:chExt cx="2519640" cy="142560"/>
            </a:xfrm>
          </p:grpSpPr>
          <p:sp>
            <p:nvSpPr>
              <p:cNvPr id="62" name=""/>
              <p:cNvSpPr/>
              <p:nvPr/>
            </p:nvSpPr>
            <p:spPr>
              <a:xfrm>
                <a:off x="6084720" y="430020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596360" y="430020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7236000" y="4227480"/>
                <a:ext cx="144360" cy="142560"/>
                <a:chOff x="7236000" y="4227480"/>
                <a:chExt cx="144360" cy="14256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7236000" y="430020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308720" y="422748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" name=""/>
          <p:cNvGrpSpPr/>
          <p:nvPr/>
        </p:nvGrpSpPr>
        <p:grpSpPr>
          <a:xfrm>
            <a:off x="324000" y="3579840"/>
            <a:ext cx="2736720" cy="3095640"/>
            <a:chOff x="324000" y="3579840"/>
            <a:chExt cx="2736720" cy="3095640"/>
          </a:xfrm>
        </p:grpSpPr>
        <p:sp>
          <p:nvSpPr>
            <p:cNvPr id="68" name=""/>
            <p:cNvSpPr/>
            <p:nvPr/>
          </p:nvSpPr>
          <p:spPr>
            <a:xfrm>
              <a:off x="324000" y="357984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4000" y="379548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000" y="40114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92360" y="379548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92360" y="40114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4000" y="444312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92360" y="444312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4000" y="494820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92360" y="494820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4000" y="379548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92360" y="379548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4000" y="54514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4000" y="357984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4000" y="566712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4M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4000" y="610056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4000" y="638784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826920" y="260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mit Versandmarkt (P3 und 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0000" y="2421000"/>
            <a:ext cx="1440000" cy="13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25718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59280" y="2421000"/>
            <a:ext cx="1008000" cy="11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48000" y="251316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95640" y="692280"/>
            <a:ext cx="1657440" cy="1728720"/>
            <a:chOff x="3995640" y="692280"/>
            <a:chExt cx="1657440" cy="1728720"/>
          </a:xfrm>
        </p:grpSpPr>
        <p:grpSp>
          <p:nvGrpSpPr>
            <p:cNvPr id="90" name=""/>
            <p:cNvGrpSpPr/>
            <p:nvPr/>
          </p:nvGrpSpPr>
          <p:grpSpPr>
            <a:xfrm>
              <a:off x="3995640" y="692280"/>
              <a:ext cx="1657440" cy="1728720"/>
              <a:chOff x="3995640" y="692280"/>
              <a:chExt cx="1657440" cy="1728720"/>
            </a:xfrm>
          </p:grpSpPr>
          <p:sp>
            <p:nvSpPr>
              <p:cNvPr id="91" name=""/>
              <p:cNvSpPr/>
              <p:nvPr/>
            </p:nvSpPr>
            <p:spPr>
              <a:xfrm>
                <a:off x="3995640" y="692280"/>
                <a:ext cx="165600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1. 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 / Versand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995640" y="1130400"/>
                <a:ext cx="165600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995640" y="1562040"/>
                <a:ext cx="165600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995640" y="692280"/>
                <a:ext cx="165744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3995640" y="1989000"/>
              <a:ext cx="1656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Me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960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8120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557360"/>
            <a:ext cx="266364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mic Sans MS"/>
              </a:rPr>
              <a:t>Printwerbung(€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 4 Entscheidungsfind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EGS</cp:lastModifiedBy>
  <dcterms:modified xsi:type="dcterms:W3CDTF">2008-07-24T21:43:30Z</dcterms:modified>
  <cp:revision>24</cp:revision>
  <dc:subject/>
  <dc:title>Folie 1</dc:title>
</cp:coreProperties>
</file>