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FE67-33BD-43EE-8544-3AAB58411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868D-2D4A-4C33-9BE9-3A39BB795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3F98-2163-447D-9929-187A6060F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EBFC-9F83-477A-B992-D3F776586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8734-8EF6-45E0-965B-BC005AADC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DFF6-F6D9-4D95-AD33-5653CD092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3D5E-4F02-4E39-AA13-AB657669B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1942-239A-424E-9C34-54A09012A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017A-75B8-4B45-82BB-CCA5CDFC0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2F9B-238E-410B-9077-723B28C0D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0ECC-ABD8-4562-BF0C-009A95C57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B1A8-7E74-41EC-8F43-6684D5FF6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044FC-45E4-475F-A8C3-AFCEE36695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04920" y="685800"/>
            <a:ext cx="2736720" cy="2590920"/>
            <a:chOff x="304920" y="685800"/>
            <a:chExt cx="2736720" cy="2590920"/>
          </a:xfrm>
        </p:grpSpPr>
        <p:sp>
          <p:nvSpPr>
            <p:cNvPr id="42" name=""/>
            <p:cNvSpPr/>
            <p:nvPr/>
          </p:nvSpPr>
          <p:spPr>
            <a:xfrm>
              <a:off x="304920" y="685800"/>
              <a:ext cx="273672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Marketing-Mi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4920" y="901800"/>
              <a:ext cx="136836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DRESS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04920" y="1117440"/>
              <a:ext cx="1366920" cy="43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Preis(€/Charge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673280" y="901800"/>
              <a:ext cx="136836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4Me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3280" y="1117440"/>
              <a:ext cx="1366920" cy="43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Preis(€/Stück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04920" y="1549440"/>
              <a:ext cx="136692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Comic Sans MS"/>
                </a:rPr>
                <a:t>Printwerbung(€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673280" y="1549440"/>
              <a:ext cx="136692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Comic Sans MS"/>
                </a:rPr>
                <a:t>Printwerbung(€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4920" y="1981080"/>
              <a:ext cx="1366920" cy="43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673280" y="1981080"/>
              <a:ext cx="1366920" cy="43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4920" y="2413080"/>
              <a:ext cx="136692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673280" y="2413080"/>
              <a:ext cx="136692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920" y="901800"/>
              <a:ext cx="1368360" cy="19429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673280" y="901800"/>
              <a:ext cx="1368360" cy="19429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04920" y="2844720"/>
              <a:ext cx="2736720" cy="43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Anzahl MA Verkauf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04920" y="685800"/>
              <a:ext cx="2736720" cy="25909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3995640" y="907920"/>
            <a:ext cx="1657440" cy="1513080"/>
            <a:chOff x="3995640" y="907920"/>
            <a:chExt cx="1657440" cy="1513080"/>
          </a:xfrm>
        </p:grpSpPr>
        <p:sp>
          <p:nvSpPr>
            <p:cNvPr id="58" name=""/>
            <p:cNvSpPr/>
            <p:nvPr/>
          </p:nvSpPr>
          <p:spPr>
            <a:xfrm>
              <a:off x="3995640" y="907920"/>
              <a:ext cx="165600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3200" rIns="432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1. Geplanter Absat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995640" y="1123920"/>
              <a:ext cx="1656000" cy="43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DRESS (Chargen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995640" y="1555920"/>
              <a:ext cx="165600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Großabnehmer: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995640" y="907920"/>
              <a:ext cx="1657440" cy="15130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5651640" y="1052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80000" y="836640"/>
            <a:ext cx="4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56360" y="692280"/>
            <a:ext cx="2736720" cy="1296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Kapazität Maschin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Benötigte Kapazität: 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Verfügbare Kapazität: 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Kapazitätsauslastung: __________ 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3058920" y="105264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19640" y="83664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788000" y="3716280"/>
            <a:ext cx="4033800" cy="1800360"/>
            <a:chOff x="4788000" y="3716280"/>
            <a:chExt cx="4033800" cy="1800360"/>
          </a:xfrm>
        </p:grpSpPr>
        <p:sp>
          <p:nvSpPr>
            <p:cNvPr id="68" name=""/>
            <p:cNvSpPr/>
            <p:nvPr/>
          </p:nvSpPr>
          <p:spPr>
            <a:xfrm>
              <a:off x="4788000" y="3716280"/>
              <a:ext cx="4033800" cy="18003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Kapazität Mitarbeiter in Produk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geplanter Absatz:  ____ Ch. DRESS        ____ St. 4M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Einheiten pro MA:   _____ DRESS           _______ 4M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= Personalbedarf:            _______ Pers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aktueller Personalbestand:   _______ Pers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Einstellungen/Entlassungen:  _______ Pers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" name=""/>
            <p:cNvGrpSpPr/>
            <p:nvPr/>
          </p:nvGrpSpPr>
          <p:grpSpPr>
            <a:xfrm>
              <a:off x="6084720" y="4221360"/>
              <a:ext cx="2519640" cy="142920"/>
              <a:chOff x="6084720" y="4221360"/>
              <a:chExt cx="2519640" cy="142920"/>
            </a:xfrm>
          </p:grpSpPr>
          <p:sp>
            <p:nvSpPr>
              <p:cNvPr id="70" name=""/>
              <p:cNvSpPr/>
              <p:nvPr/>
            </p:nvSpPr>
            <p:spPr>
              <a:xfrm>
                <a:off x="6084720" y="4294440"/>
                <a:ext cx="1008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7596360" y="4294440"/>
                <a:ext cx="1008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2" name=""/>
              <p:cNvGrpSpPr/>
              <p:nvPr/>
            </p:nvGrpSpPr>
            <p:grpSpPr>
              <a:xfrm>
                <a:off x="7236000" y="4221360"/>
                <a:ext cx="144360" cy="142920"/>
                <a:chOff x="7236000" y="4221360"/>
                <a:chExt cx="144360" cy="142920"/>
              </a:xfrm>
            </p:grpSpPr>
            <p:sp>
              <p:nvSpPr>
                <p:cNvPr id="73" name=""/>
                <p:cNvSpPr/>
                <p:nvPr/>
              </p:nvSpPr>
              <p:spPr>
                <a:xfrm>
                  <a:off x="7236000" y="4294440"/>
                  <a:ext cx="144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7308720" y="4221360"/>
                  <a:ext cx="0" cy="142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5" name=""/>
          <p:cNvGrpSpPr/>
          <p:nvPr/>
        </p:nvGrpSpPr>
        <p:grpSpPr>
          <a:xfrm>
            <a:off x="324000" y="3573360"/>
            <a:ext cx="2736720" cy="3095640"/>
            <a:chOff x="324000" y="3573360"/>
            <a:chExt cx="2736720" cy="3095640"/>
          </a:xfrm>
        </p:grpSpPr>
        <p:sp>
          <p:nvSpPr>
            <p:cNvPr id="76" name=""/>
            <p:cNvSpPr/>
            <p:nvPr/>
          </p:nvSpPr>
          <p:spPr>
            <a:xfrm>
              <a:off x="324000" y="3573360"/>
              <a:ext cx="273672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Beschaffu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24000" y="3789000"/>
              <a:ext cx="136836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T-SHIRT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24000" y="4005000"/>
              <a:ext cx="136656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darf (Chargen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692360" y="3789000"/>
              <a:ext cx="136836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POLO-SHIRT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692360" y="4005000"/>
              <a:ext cx="136692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darf (Stück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24000" y="4436640"/>
              <a:ext cx="1366560" cy="505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and (Chargen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692360" y="4436640"/>
              <a:ext cx="1366920" cy="505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and (Stück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24000" y="4941720"/>
              <a:ext cx="1366560" cy="503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ellung (Chargen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692360" y="4941720"/>
              <a:ext cx="1366920" cy="503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ellung (Stück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24000" y="3789000"/>
              <a:ext cx="1368360" cy="16560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692360" y="3789000"/>
              <a:ext cx="1368360" cy="16560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24000" y="5445000"/>
              <a:ext cx="273672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HILFSSTOFF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24000" y="3573360"/>
              <a:ext cx="2736720" cy="30956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24000" y="5660640"/>
              <a:ext cx="2736720" cy="433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darf (Chargen: DRESS + 4Me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24000" y="6094080"/>
              <a:ext cx="27367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and (Chargen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24000" y="6381360"/>
              <a:ext cx="2736720" cy="287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ellung (Chargen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826920" y="254160"/>
            <a:ext cx="70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Entscheidungsfindung ohne Versandmarkt (P1 und P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364000" y="2492280"/>
            <a:ext cx="165600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12000" y="256536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3058920" y="2565360"/>
            <a:ext cx="136836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348000" y="2506680"/>
            <a:ext cx="4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995640" y="1989000"/>
            <a:ext cx="1656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4Me (Stück)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5560" y="1981080"/>
            <a:ext cx="128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Anzahl MA Desig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676520" y="1981080"/>
            <a:ext cx="14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Anzahl MA Desig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 4 Entscheidungsfindung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1T13:58:15Z</dcterms:created>
  <dc:creator>WHS</dc:creator>
  <dc:description/>
  <dc:language>en-US</dc:language>
  <cp:lastModifiedBy>EGS</cp:lastModifiedBy>
  <dcterms:modified xsi:type="dcterms:W3CDTF">2008-07-17T12:32:51Z</dcterms:modified>
  <cp:revision>18</cp:revision>
  <dc:subject/>
  <dc:title>Folie 1</dc:title>
</cp:coreProperties>
</file>