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D04-1F55-42C9-A0ED-3533C593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7297-772A-4119-93B9-B25BF0B0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E75E-8EF5-4544-933E-24ACA8E1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F1AC-AB57-409D-B17A-4578B425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142-AF2A-4407-A287-93C87073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A349-4982-4673-9965-8A145E69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9F11-0A4F-451D-B5EA-EE32711C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410-AB5E-4765-A4E1-07F34F5B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F6C-4139-431E-92FD-E5F33663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200-6DC8-4AEC-BB11-50FC1961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4810-30E2-4287-A8AB-FA967722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296-D6CE-4425-8301-EBD47401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145A-C5E2-440D-A5A0-EFD2FD2BA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 / Versan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7:32Z</dcterms:modified>
  <cp:revision>27</cp:revision>
  <dc:subject/>
  <dc:title>Folie 1</dc:title>
</cp:coreProperties>
</file>