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0B7-5CDF-42FB-9B93-37424AE5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475-ED60-4A83-A6A6-8E254675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1E6-8F56-4183-9DE9-F615EB14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B4A-031E-45DD-8F32-D6931538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3EB-6613-43AC-A5CD-472160E6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541-3A4E-45E2-A11B-DC30A0DC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1C2-A3AF-431B-9894-4D4004E3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6B4-911D-4734-B848-F849DE46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F4B-1BD3-45FC-9E58-460ACA13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DDA-BC9F-4BDA-95FA-5D7F6C7E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FA7-919A-42DB-BDF0-BE409832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562-4A36-4BC2-8172-FEBDFB3B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7542-7565-411A-A1FE-7939FCAA9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8:52Z</dcterms:modified>
  <cp:revision>28</cp:revision>
  <dc:subject/>
  <dc:title>Folie 1</dc:title>
</cp:coreProperties>
</file>